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58.png" ContentType="image/png"/>
  <Override PartName="/ppt/media/image56.png" ContentType="image/png"/>
  <Override PartName="/ppt/media/image55.png" ContentType="image/png"/>
  <Override PartName="/ppt/media/image20.jpeg" ContentType="image/jpe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4.jpeg" ContentType="image/jpe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2.jpeg" ContentType="image/jpeg"/>
  <Override PartName="/ppt/media/image57.png" ContentType="image/png"/>
  <Override PartName="/ppt/media/image47.png" ContentType="image/png"/>
  <Override PartName="/ppt/media/image1.jpeg" ContentType="image/jpeg"/>
  <Override PartName="/ppt/media/image14.png" ContentType="image/png"/>
  <Override PartName="/ppt/media/image10.jpeg" ContentType="image/jpeg"/>
  <Override PartName="/ppt/media/image19.png" ContentType="image/png"/>
  <Override PartName="/ppt/media/image61.png" ContentType="image/png"/>
  <Override PartName="/ppt/media/image71.png" ContentType="image/png"/>
  <Override PartName="/ppt/media/image63.jpeg" ContentType="image/jpeg"/>
  <Override PartName="/ppt/media/image29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11.jpeg" ContentType="image/jpeg"/>
  <Override PartName="/ppt/media/image72.png" ContentType="image/png"/>
  <Override PartName="/ppt/media/image67.png" ContentType="image/png"/>
  <Override PartName="/ppt/media/image30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66.png" ContentType="image/png"/>
  <Override PartName="/ppt/media/image62.png" ContentType="image/png"/>
  <Override PartName="/ppt/media/image27.png" ContentType="image/png"/>
  <Override PartName="/ppt/media/image60.jpeg" ContentType="image/jpeg"/>
  <Override PartName="/ppt/media/image64.png" ContentType="image/png"/>
  <Override PartName="/ppt/media/image21.jpeg" ContentType="image/jpeg"/>
  <Override PartName="/ppt/media/image65.png" ContentType="image/png"/>
  <Override PartName="/ppt/media/image24.png" ContentType="image/png"/>
  <Override PartName="/ppt/media/image73.jpeg" ContentType="image/jpeg"/>
  <Override PartName="/ppt/media/image15.png" ContentType="image/png"/>
  <Override PartName="/ppt/media/image25.png" ContentType="image/png"/>
  <Override PartName="/ppt/media/image40.png" ContentType="image/png"/>
  <Override PartName="/ppt/media/image18.png" ContentType="image/png"/>
  <Override PartName="/ppt/media/image6.png" ContentType="image/png"/>
  <Override PartName="/ppt/media/image7.jpeg" ContentType="image/jpeg"/>
  <Override PartName="/ppt/media/image16.png" ContentType="image/png"/>
  <Override PartName="/ppt/media/image31.wmf" ContentType="image/x-wmf"/>
  <Override PartName="/ppt/media/image7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26.png" ContentType="image/png"/>
  <Override PartName="/ppt/media/image8.jpeg" ContentType="image/jpeg"/>
  <Override PartName="/ppt/media/image38.png" ContentType="image/png"/>
  <Override PartName="/ppt/media/image36.png" ContentType="image/png"/>
  <Override PartName="/ppt/media/image9.jpeg" ContentType="image/jpeg"/>
  <Override PartName="/ppt/media/image48.png" ContentType="image/png"/>
  <Override PartName="/ppt/media/image13.png" ContentType="image/png"/>
  <Override PartName="/ppt/media/image12.png" ContentType="image/png"/>
  <Override PartName="/ppt/media/image49.png" ContentType="image/png"/>
  <Override PartName="/ppt/media/image33.png" ContentType="image/png"/>
  <Override PartName="/ppt/media/image34.jpeg" ContentType="image/jpeg"/>
  <Override PartName="/ppt/media/image37.png" ContentType="image/png"/>
  <Override PartName="/ppt/media/image39.png" ContentType="image/png"/>
  <Override PartName="/ppt/media/image3.jpeg" ContentType="image/jpeg"/>
  <Override PartName="/ppt/media/image4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19080" y="744120"/>
            <a:ext cx="4959360" cy="372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C4418-4046-40C6-88BC-7D8B736BAAE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технологии в медицин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вопросы информатизации в сфере здравоохра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кстер А.П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б МИА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нкт-Петербур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ые технологии в медицине. </a:t>
            </a:r>
            <a:br>
              <a:rPr sz="1200"/>
            </a:b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сновные вопросы информатизации в сфере здравоохранения.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Декстер А.П.</a:t>
            </a:r>
            <a:br>
              <a:rPr sz="1200"/>
            </a:b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Пб МИАЦ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анкт-Петербург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 автоматизированной обработки  персональных  данных  в  медицинских учрежд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тивно-правовая баз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"О персональных данных", № 152-ФЗ от 27.07.2006 г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 утверждении Положения об обеспечении безопасности персональных данных при их обработке в информационных системах персональных данных, постановление Правительства РФ от 17.11.07 г. № 78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1 января 2010 г. все ИС персональных данных должны быть приведены в соответствие с требованиями закона "О персональных данных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рганизация  автоматизированной обработки  персональных  данных  в  медицинских учреждениях.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Нормативно-правовая база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Закон "О персональных данных", № 152-ФЗ от 27.07.2006 г.  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б утверждении Положения об обеспечении безопасности персональных данных при их обработке в информационных системах персональных данных, постановление Правительства РФ от 17.11.07 г. № 781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До 1 января 2010 г. все ИС персональных данных должны быть приведены в соответствие с требованиями закона "О персональных данных"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 автоматизированной обработки  персональных  данных  в  медицинских учрежд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разработана в полном объеме нормативная база для реализации законов "О персональных данных", а также "Основ законодательства ... об охране здоровья... ", "О медицинском страховании ... " в части ведения баз данных и использования ИКТ в здравоохранении (после изменений в 2006/7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 единых стандартов идентификации объектов, кодирования и обмена медицинскими данны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ормативно-правовых актах РФ в явном виде отсутствуют нормы и требования по ведению медицинских документов и автоматизированной обработке персональных данных пациента (кроме закона "О персональных данных", ст. 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рганизация  автоматизированной обработки  персональных  данных  в  медицинских учреждениях.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РОБЛЕМЫ: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Не разработана в полном объеме нормативная база для реализации законов "О персональных данных", а также "Основ законодательства ... об охране здоровья... ", "О медицинском страховании ... " в части ведения баз данных и использования ИКТ в здравоохранении (после изменений в 2006/7 гг.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Нет единых стандартов идентификации объектов, кодирования и обмена медицинскими данным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В нормативно-правовых актах РФ в явном виде отсутствуют нормы и требования по ведению медицинских документов и автоматизированной обработке персональных данных пациента (кроме закона "О персональных данных", ст. 10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 автоматизированной обработки  персональных  данных  в  медицинских учрежд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ументальное согласие пациента на обработку и передачу его персональных да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ирование пациента о целях, способах обработки его персональных данных, о лицах имеющих к ним доступ, а также о об их получении от третьих л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регламентированы процедуры и форм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рганизация  автоматизированной обработки  персональных  данных  в  медицинских учреждениях.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Документальное согласие пациента на обработку и передачу его персональных данных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ирование пациента о целях, способах обработки его персональных данных, о лицах имеющих к ним доступ, а также о об их получении от третьих лиц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РОБЛЕМЫ: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Не регламентированы процедуры и формы: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 автоматизированной обработки  персональных  данных  в  медицинских учрежд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дрение Электронной Цифровой Подписи (ЭЦП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 Санкт-Петербург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остоверяющий центр (УЦ) с федеральной кросс сертификаци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 УЦ для ИОГВ и подведомственной сети субъекта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ущено и установлено более 600 электронных цифровых подпис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 учреждения ЛП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меститель руководителя учреждения ЛП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феры применения ЭЦП в 2008 го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и подпись заявки на включение гражданина в регистр региональных льгот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ача заявок на включение/исключение врачей из справочника Л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рганизация  автоматизированной обработки  персональных  данных  в  медицинских учреждениях.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Внедрение Электронной Цифровой Подписи (ЭЦП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ример Санкт-Петербурга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Удостоверяющий центр (УЦ) с федеральной кросс сертификацией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дин УЦ для ИОГВ и подведомственной сети субъекта РФ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Выпущено и установлено более 600 электронных цифровых подписей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уководитель учреждения ЛПУ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Заместитель руководителя учреждения ЛПУ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феры применения ЭЦП в 2008 году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здание и подпись заявки на включение гражданина в регистр региональных льготников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дача заявок на включение/исключение врачей из справочника ЛЛО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пективы информатизации здравоохран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нкт-Петербур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ие шаги по развитию информатизации здравоохранения Санкт-Петербург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телекоммуникационной среды, позволяющей организовать работу врачей в едином информационном простран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и утверждение регионального стандарта коллективных электронных медицинских карт (ЭМК) и создание хранилища ЭМК для ведения и хранения информации о состоянии здоровья граждан и организации оказания им медицинской помо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и развитие информационных систем позволяющих врачам Санкт-Петербурга работать в едином  информационном пространстве и непосредственно с хранилищем электронных медицинских карт при приеме паци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  официального информационного портала системы здравоохранения Санкт-Петербурга и городского центра обработки звонков граждан с целью реализации конституционного права граждан на информац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нормативных документов и регламентов для организации взаимодействия медицинских учреждений Санкт-Петербур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Номер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ерспективы информатизации здравоохранения </a:t>
            </a:r>
            <a:br>
              <a:rPr sz="1200"/>
            </a:b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анкт-Петербур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Важнейшие шаги по развитию информатизации здравоохранения Санкт-Петербурга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азвитие телекоммуникационной среды, позволяющей организовать работу врачей в едином информационном пространстве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здание и утверждение регионального стандарта коллективных электронных медицинских карт (ЭМК) и создание хранилища ЭМК для ведения и хранения информации о состоянии здоровья граждан и организации оказания им медицинской помощ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здание и развитие информационных систем позволяющих врачам Санкт-Петербурга работать в едином  информационном пространстве и непосредственно с хранилищем электронных медицинских карт при приеме пациентов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здание   официального информационного портала системы здравоохранения Санкт-Петербурга и городского центра обработки звонков граждан с целью реализации конституционного права граждан на информацию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азработка нормативных документов и регламентов для организации взаимодействия медицинских учреждений Санкт-Петербурга.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ючевые области информатизации в системе здравоохранения Санкт-Петербур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ЛЕКОММУНИКАЦИОННАЯ СРЕ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ЧЕСКАЯ ИНФРАСТРУКТУРА И БАЗОВЫЕ СЕРВИ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ОНАЛЬНО-ОРИЕНТИРОВА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РЕСУРСЫ И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лючевые области информатизации в системе здравоохранения Санкт-Петербур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ТЕЛЕКОММУНИКАЦИОННАЯ СРЕД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ТЕХНОЛОГИЧЕСКАЯ ИНФРАСТРУКТУРА И БАЗОВЫЕ СЕРВИС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ФУНКЦИОНАЛЬНО-ОРИЕНТИРОВАНЫЕ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ЫЕ РЕСУРСЫ И СИСТЕМ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Необходимость управления стоимостью содержания ИТ-инфраструктуры учреждений здравоохранения и системы управления в це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Решение общих проблем и вопрос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 интеграции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технических и технологических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вопросов распределения ответств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ая технологическая организация выполняющ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ИТ-консалтинга на уровне Правительства СП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ая технологическая организация выполняющ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ИТ-консалтинга на уровне системы здравоохранения СП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б ИА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б МИА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1. Необходимость управления стоимостью содержания ИТ-инфраструктуры учреждений здравоохранения и системы управления в целом.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. Решение общих проблем и вопросов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роблемы интеграции ресурсов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шение технических и технологических проблем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шение вопросов распределения ответственност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Государственная технологическая организация выполняющая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функции ИТ-консалтинга на уровне Правительства СПб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Государственная технологическая организация выполняющая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функции ИТ-консалтинга на уровне системы здравоохранения СПб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Пб ИАЦ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Пб МИАЦ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ные государственные центры  Санкт-Петербур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ТЕЛЬСТВО САНКТ-ПЕТЕРБУР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ит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здравоохран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ит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информатизации и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ит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оциальной защи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раструктурные государственные центры  Санкт-Петербур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РАВИТЕЛЬСТВО САНКТ-ПЕТЕРБУР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митет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 здравоохранению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митет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 информатизации и связ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митет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 социальной защите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льтисервисная сеть органов государственной вл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ая Мультисервисная Телекоммуникационная Сеть ИОГВ СПб (ЕМТ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тр Обработки Данных учреждений здравоохранения (Ц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трализованная техническая поддержка учреждений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средств криптографической защиты информации (ЭЦП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тральный сервер электронной почты учреждений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компоненты инфраструктуры системы управления здравоохранением СПб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ультисервисная сеть органов государственной власт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Единая Мультисервисная Телекоммуникационная Сеть ИОГВ СПб (ЕМТС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Центр Обработки Данных учреждений здравоохранения (ЦОД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Централизованная техническая поддержка учреждений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спользование средств криптографической защиты информации (ЭЦП)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Центральный сервер электронной почты учреждений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сновные компоненты инфраструктуры системы управления здравоохранением СПб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ая Мультисервисная Телекоммуникационная Сеть ИОГВ СПб (ЕМТ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оволоконная связь - 900 точек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ервный модемный пул - 480 ли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а данных – Vip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висы ЕМТС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А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А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н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товый сервер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товые unix-сервера учреж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.обмен между ИС учреж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Единая Мультисервисная Телекоммуникационная Сеть ИОГВ СПб (ЕМТС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птоволоконная связь - 900 точек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зервный модемный пул - 480 линий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Защита данных – VipNet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ервисы ЕМТС 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ИАЦ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АЦ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тернет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чтовый сервер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чтовые unix-сервера учреждений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.обмен между ИС учреждений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информатизации в системе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 системы мониторинга за состоянием здоровья населения и демографическими показател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 для оперативного принятия адекватных лечебно-диагностических решен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 для принятия адекватных управленческих решен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и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/собствен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оль информатизации в системе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снова системы мониторинга за состоянием здоровья населения и демографическими показателям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снова для оперативного принятия адекватных лечебно-диагностических решений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снова для принятия адекватных управленческих решений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Государство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пециалист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уководитель/собственник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яд задач управления системой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эффектив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 открыт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административны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ч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ор и хран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держ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опас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позита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уп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би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ая услу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т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яд задач управления системой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нтроль эффективност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ая открытость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тандартизация административных регламентов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ониторинг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тчет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Анализ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бор и хранение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етодолог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ддержк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Безопасность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позитари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Доступность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обильность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Государственная услу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братная связь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яд задач управления системой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эффектив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ч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ор и хран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овышение доступности и качества мед.помощ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сть работы органов гос.вл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яд задач управления системой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нтроль эффективност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ониторинг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тчет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Анализ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бор и хранение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«Повышение доступности и качества мед.помощи»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Эффективность работы органов гос.власт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нтроль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ое медицинское статистическое наблю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инг оценки эффективности деятельности исполнительных органов власти в СП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инг взаимодействия исполнительных органов власти в СП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инг Национального проекта «Здоровь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инг социально-экономического развития СПб ( в т. ч. районов СПб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инг стандартов проживания в СП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-гигиенический мониторинг в СП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тические системы класса Business Intelligence и сопутствующие методические наработ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ониторинг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Государственное медицинское статистическое наблюдение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ониторинг оценки эффективности деятельности исполнительных органов власти в СПб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ониторинг взаимодействия исполнительных органов власти в СПб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ониторинг Национального проекта «Здоровье»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ониторинг социально-экономического развития СПб ( в т. ч. районов СПб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ониторинг стандартов проживания в СПб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циально-гигиенический мониторинг в СПб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Аналитические системы класса Business Intelligence и сопутствующие методические наработк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тальные техн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информационного взаимодействия учреждений здравоохранения Санкт-Петербур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взаимодействия с учреждениями здравоохранения и ИОГ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и ведение централизованного ресурса мониторин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материалов информационного рес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результатов в виде отче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тал проектов управления здравоохране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управления документооборо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проектами в здравоохранении Санкт-Петербур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городской календарь мероприятий в здравоохран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лефонный справочник системы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иск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ртальные технологи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истема информационного взаимодействия учреждений здравоохранения Санкт-Петербур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Задачи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рганизация взаимодействия с учреждениями здравоохранения и ИОГВ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Формирование и ведение централизованного ресурса мониторин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Анализ материалов информационного ресурс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Формирование результатов в виде отчетов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ртал проектов управления здравоохранением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Задачи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истема управления документооборотом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Управление проектами в здравоохранении Санкт-Петербур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бщегородской календарь мероприятий в здравоохранени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Телефонный справочник системы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иск информаци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информационного взаимодействия учреждений здравоохранения Санкт-Петербур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чий стол организатора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лендарь мероприя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ор данных (анкетирова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блиотека копий распоряжений и приказов ТОУ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ртуальный кабинет Главного специалиста ТОУЗ по направлени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 система по работе с обращениями гражд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 система учета потребности и планирования закупок обору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авочники и классифика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алог/репозитарий веб-сервисов (UDD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й сервис по мониторингу эпидемиологической ситу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зел Льготного Лекарственного Обеспе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й сервис регистрации лета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авочные служ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рмацевтическая справочная служб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цинская справочная служб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позитарий интерактивных схем документооборота в системе здравоохранения Санкт-Петербур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ая поддержка (Service Desk) учреждений здравоохранения Санкт-Петербур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истема информационного взаимодействия учреждений здравоохранения Санкт-Петербур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абочий стол организатора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алендарь мероприятий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бор данных (анкетирование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Библиотека копий распоряжений и приказов ТОУЗ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Виртуальный кабинет Главного специалиста ТОУЗ по направлениям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ая система по работе с обращениями граждан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ая система учета потребности и планирования закупок оборудова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правочники и классификатор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аталог/репозитарий веб-сервисов (UDDI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ый сервис по мониторингу эпидемиологической ситуаци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Узел Льготного Лекарственного Обеспеч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ый сервис регистрации летальност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правочные служб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Фармацевтическая справочная служб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едицинская справочная служб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позитарий интерактивных схем документооборота в системе здравоохранения Санкт-Петербур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Техническая поддержка (Service Desk) учреждений здравоохранения Санкт-Петербур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екты внедрения СЭД в ЛПУ районов го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дрение СЭД обеспечит повышение эффективности работы учреждений здравоохранения и ИОГВ, повышение эффективности межведомственного взаимодействия и работ по приему писем и обращений граждан за сч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я автоматизированной информационной системы обеспечивающ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матизированный учет документов ИОГ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уп к документам в соответствии с компетенцией участников документооборо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я автоматизированного контроля исполнения документов и поручен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матизированная рассылка в электронном виде контрольных документов и поруч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матизированная рассылка в электронном виде уведомлений о нарушении сроков исполнения документов и поруч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роекты внедрения СЭД в ЛПУ районов город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Внедрение СЭД обеспечит повышение эффективности работы учреждений здравоохранения и ИОГВ, повышение эффективности межведомственного взаимодействия и работ по приему писем и обращений граждан за счет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здания автоматизированной информационной системы обеспечивающей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автоматизированный учет документов ИОГВ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доступ к документам в соответствии с компетенцией участников документооборота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беспечения автоматизированного контроля исполнения документов и поручений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автоматизированная рассылка в электронном виде контрольных документов и поручений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автоматизированная рассылка в электронном виде уведомлений о нарушении сроков исполнения документов и поручений.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проек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ие сроков рассмотрения и исполнения служебных документов, поручений руководителей, писем и устных обращений гражда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ие сроков согласования проектов рабочих и распорядительных докумен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роприятия проек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достижения поставленных целей необходимо решить следующие основные задач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ть учет и контроль движения докумен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дрить единую сквозную технологию контроля исполнения докумен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ключить при передаче документов между участниками документооборота необходимость повторного, ручного ввода первичной регистрационной информации о документах, которые включены в СЭД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ть информационную поддержку принятия управляющих решений на основе оперативного доступа сотрудников учреждений здравоохранения и ИОГВ к любому документу, входящему в область их компетен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екты внедрения СЭД в ЛПУ районов го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Цели проекта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кращение сроков рассмотрения и исполнения служебных документов, поручений руководителей, писем и устных обращений граждан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кращение сроков согласования проектов рабочих и распорядительных документов.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ероприятия проекта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Для достижения поставленных целей необходимо решить следующие основные задачи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беспечить учет и контроль движения документов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внедрить единую сквозную технологию контроля исполнения документов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сключить при передаче документов между участниками документооборота необходимость повторного, ручного ввода первичной регистрационной информации о документах, которые включены в СЭД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беспечить информационную поддержку принятия управляющих решений на основе оперативного доступа сотрудников учреждений здравоохранения и ИОГВ к любому документу, входящему в область их компетенции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роекты внедрения СЭД в ЛПУ районов город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яд задач управления системой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административных регла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держ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опас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позитар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A архитектура ре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XML формат обмена данны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проектами (PMI PMBOK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централизованной тех.поддерж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ЭЦ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яд задач управления системой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тандартизация административных регламентов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етодолог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ддержк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Безопасность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позитарий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A архитектура решений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XML формат обмена данным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Управление проектами (PMI PMBOK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здание централизованной тех.поддержк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спользование ЭЦП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A архитектура ре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держка вра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ческий учё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тистический учё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й учё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цинск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(МИ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городск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тивно справочная информ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реждение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ла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ла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ла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A архитектура решений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ддержка врач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Управленческий учёт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татистический учёт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Финансовый учёт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рочее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едицинская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ая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истема (МИС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Государственные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ые систем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бщегородские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ые систем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Нормативно справочная информац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Учреждение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гламент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гламент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гламент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проектами на базе стандарта  ANSI PMI PMBOK Guide 3rd Ed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ы разработки информационных систем и информационных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ы внедрения ИС и ИР и техническая поддержка в соответствии с библиотеками ITI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ЛА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етодолог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Управление проектами на базе стандарта  ANSI PMI PMBOK Guide 3rd Edition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тандарты разработки информационных систем и информационных ресурсов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тандарты внедрения ИС и ИР и техническая поддержка в соответствии с библиотеками ITIL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ЕТОДОЛОГ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ГЛАМЕНТ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пективы информатизации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верждение  стандартов в области «Информатизации здоровь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 «Государственной информационной системы персонифицированного учета оказания медицинской помощи гражданам Российской Федераци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а  персональных данных гражданина Российской Федерации обрабатываемых в МИ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 федеральных и территориальных информационных медицинских сист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ятие новых правовых актов регламентирующих применение информационных систем в здравоохране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ерспективы информатизации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Утверждение  стандартов в области «Информатизации здоровья»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здание  «Государственной информационной системы персонифицированного учета оказания медицинской помощи гражданам Российской Федерации»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Защита  персональных данных гражданина Российской Федерации обрабатываемых в МИС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азвитие  федеральных и территориальных информационных медицинских систем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ринятие новых правовых актов регламентирующих применение информационных систем в здравоохранении.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яд задач управления системой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 открыт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уп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би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т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 открытость – основа нового имиджа российского государственного управления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яд задач управления системой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ая открытость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Доступность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обильность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братная связь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ая открытость – основа нового имиджа российского государственного управления!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единого информационного пространства записи на приём в ЛП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гистратур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П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киос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Call-цент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ись через Интерн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МТ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ИС «Электронная регистратур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рганизация единого информационного пространства записи на приём в ЛПУ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В регистратуре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ЛПУ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киоск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Call-центр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Запись через Интернет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ЕМТС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АИС «Электронная регистратура»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ЕМТ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Информационный киос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kos «Olimpic Garden», 26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ЕМТС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ормационный киоск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1d528d"/>
                </a:solidFill>
                <a:latin typeface="Arial"/>
              </a:rPr>
              <a:t>Text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1d528d"/>
                </a:solidFill>
                <a:latin typeface="Arial"/>
              </a:rPr>
              <a:t>Sokos «Olimpic Garden», 26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32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Call цент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ячая линия по работе с обращениями гражд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рмацевтическая справочная служб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цинская справочная служб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ая поддержка (Suppor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отехнологичная медицинск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*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*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*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*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*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ужба 1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99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VoI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Call центр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Горячая линия по работе с обращениями граждан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Фармацевтическая справочная служб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едицинская справочная служб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Техническая поддержка (Support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Высокотехнологичная медицинская помощь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4*7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4*7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24*7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5*8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5*8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03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лужба 112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099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VoIP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33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е-правительства к мобильному правительств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информации о статусе включения гражданина в регистр региональных льгот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информации о выдаче квоты на получение Высокотехнологичной (дорогостоящей) медицинской помо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Ц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СР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т е-правительства к мобильному правительству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лучение информации о статусе включения гражданина в регистр региональных льготников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лучение информации о выдаче квоты на получение Высокотехнологичной (дорогостоящей) медицинской помощ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ЭЦП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ЭСРН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34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пции информа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пция информатизации системы управления здравоохранением Санкт-Петербурга на 2009-2011 г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пция информатизации системы обязательного медицинского страхования Санкт-Петербур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новление Правительства Санкт-Петербур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нцепции информатизаци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нцепция информатизации системы управления здравоохранением Санкт-Петербурга на 2009-2011 год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нцепция информатизации системы обязательного медицинского страхования Санкт-Петербур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становление Правительства Санкт-Петербург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ПАСИБО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io@miac.zdrav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ПАСИБО!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1d528d"/>
                </a:solidFill>
                <a:latin typeface="Arial"/>
              </a:rPr>
              <a:t>cio@miac.zdrav.spb.ru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ятые национальные стандар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Т 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2636-20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Электронная история болезн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положен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Т 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О/TС 18308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Информатизация здоровья. Требования к архитектуре  электронных записей в здравоохранени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ринятые национальные стандарт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ГОСТ Р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52636-2006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«Электронная история болезни. </a:t>
            </a:r>
            <a:br>
              <a:rPr sz="1200"/>
            </a:b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бщие положения»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ГОСТ Р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СО/TС 18308-2008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«Информатизация здоровья. Требования к архитектуре  электронных записей в здравоохранении»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пция развития системы здравоохран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2020 го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онификация медицинских услуг на основе электронного паспорта здоровья (ЭМ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ИКТ инфраструктуры системы здравоохранения, в т.ч. создание региональных центров обработки да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электронного обмена медицинскими данны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национальных реестров, справочников и классификаторов, национальной электронной медицинской библиоте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грация всех государственных информационных систем в сфере здравоохранения, социального развития и тр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ия работ по информатизации, основные задач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ЗСР ©, О.В.Симак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нцепция развития системы здравоохранения </a:t>
            </a:r>
            <a:br>
              <a:rPr sz="1200"/>
            </a:b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до 2020 года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ерсонификация медицинских услуг на основе электронного паспорта здоровья (ЭМК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азвитие ИКТ инфраструктуры системы здравоохранения, в т.ч. создание региональных центров обработки данных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рганизация электронного обмена медицинскими данным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здание национальных реестров, справочников и классификаторов, национальной электронной медицинской библиотек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теграция всех государственных информационных систем в сфере здравоохранения, социального развития и труд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Направления работ по информатизации, основные задачи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ЗСР ©, О.В.Симаков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Ожидаемые результаты информатизации здравоохранения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в РФ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овышение качества услуг за счет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увеличение времени на прием одного пациента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овышения доступности медицинской информации и образовательных ресурсов для граждан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уменьшения ошибок медицинского персонала, связанных с назначением лекарственных препаратов и выбором курса лечения (до 15%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снижения временной нетрудоспособности граждан за счет снижения количества ошибок при постановке диагноза (до 20%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снижения смертности на 5% и соответствующее увеличение средней продолжительности жизни населения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Снижение финансовых издержек за счет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количества дополнительно проводимых консультаций, обследований и анализов, назначаемых различными специалистами в отсутствие информации о ранее проведенных процедурах (до 14%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ерерасхода медицинских расходных материалов и лекарственных препаратов (до 11%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количества повторных госпитализаций после лечения (до 20%),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количества посещений пациентами медицинских учреждений (до 5%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количества некорректных финансовых операций в  системе медицинского страхования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Сокращение временных издержек за сче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втоматизации поиска необходимой информации (до 60%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втоматизации ведения текущей документации 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(до 20%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овышения оперативности проведения консультаций, собрания анамнеза и постановки диагноза (до 25%),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Сокращение трудозатрат медицинского персонала за счет автоматизации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оиска и обработки справочной и документальной информации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доступа  к персональной медицинской информации о пациенте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одготовке документов (отчетов, заключений, рецептов и т.д.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доступа врачей к информации по новейшим методам лечения и новинкам в области лекарственных препаратов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МЗСР ©, О.В.Симаков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жидаемые результаты информатизации здравоохранения </a:t>
            </a:r>
            <a:br>
              <a:rPr sz="1200"/>
            </a:b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в РФ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вышение качества услуг за счет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увеличение времени на прием одного пациента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вышения доступности медицинской информации и образовательных ресурсов для граждан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уменьшения ошибок медицинского персонала, связанных с назначением лекарственных препаратов и выбором курса лечения (до 15%)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нижения временной нетрудоспособности граждан за счет снижения количества ошибок при постановке диагноза (до 20%)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нижения смертности на 5% и соответствующее увеличение средней продолжительности жизни населения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нижение финансовых издержек за счет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личества дополнительно проводимых консультаций, обследований и анализов, назначаемых различными специалистами в отсутствие информации о ранее проведенных процедурах (до 14%)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ерерасхода медицинских расходных материалов и лекарственных препаратов (до 11%)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личества повторных госпитализаций после лечения (до 20%),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личества посещений пациентами медицинских учреждений (до 5%)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оличества некорректных финансовых операций в  системе медицинского страхова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кращение временных издержек за счет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автоматизации поиска необходимой информации (до 60%)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автоматизации ведения текущей документации </a:t>
            </a:r>
            <a:br>
              <a:rPr sz="1200"/>
            </a:b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(до 20%);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вышения оперативности проведения консультаций, собрания анамнеза и постановки диагноза (до 25%),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окращение трудозатрат медицинского персонала за счет автоматизаци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иска и обработки справочной и документальной информаци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доступа  к персональной медицинской информации о пациенте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одготовке документов (отчетов, заключений, рецептов и т.д.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доступа врачей к информации по новейшим методам лечения и новинкам в области лекарственных препаратов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ЗСР ©, О.В.Симаков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 предлагаемых решени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2009–2011 г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ерв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ая информационная система персонифицированного учета оказания медицинской помощи гражданам РФ (Систем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щенные каналы связи (интране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пто- маршрутиза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тификация ФС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ый центр обработк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анализа данных (РЦ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ый центр обработки и анализа данных (РЦ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ая интегрирован-ная система персонифици-рованного учета оказанной застрахован-ным гражданам медицинской помощ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М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ая информацион-ная система пенсионного фон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ая инте-грированная информацион-ная система ФСС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го 86 РЦ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го ≈ 13,2 тысяч ЛП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3 субъекта РФ + Байконур + по 1 дополнительному в Москве и Московской обл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грация с действующими (разрабатывае-мыми) систем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ЗСР ©, О.В.Симак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фраструктура предлагаемых решений </a:t>
            </a:r>
            <a:br>
              <a:rPr sz="1200"/>
            </a:b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на 2009–2011 гг.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зервный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Государственная информационная система персонифицированного учета оказания медицинской помощи гражданам РФ (Система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Защищенные каналы связи (интранет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Крипто- маршрутизатор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ертификация ФСБ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гиональный центр обработки </a:t>
            </a:r>
            <a:br>
              <a:rPr sz="1200"/>
            </a:b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 анализа данных (РЦОД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Региональный центр обработки и анализа данных (РЦОД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Единая интегрирован-ная система персонифици-рованного учета оказанной застрахован-ным гражданам медицинской помощи </a:t>
            </a:r>
            <a:br>
              <a:rPr sz="1200"/>
            </a:b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ФОМС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Единая информацион-ная система пенсионного фонд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Единая инте-грированная информацион-ная система ФСС Росси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Всего 86 РЦОДов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Всего ≈ 13,2 тысяч ЛПУ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83 субъекта РФ + Байконур + по 1 дополнительному в Москве и Московской област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Интеграция с действующими (разрабатывае-мыми) системам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ЗСР ©, О.В.Симаков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 информатизации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 национальной концепции построения информационных медицинских систем на основе персоно-центрированного подхода (с использованием общепринятых стандартов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  единой системы идентификации пациентов  с рождения на протяжении всей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жности согласования принципов информационного обмена в интегрируемых система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зние темпы развития телекоммуникационной инфраструктуры  системы учреждений здравоох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хватка правового и программно-технического обеспечения конфиденциальности персональных медицинских данных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роблемы информатизации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тсутствие национальной концепции построения информационных медицинских систем на основе персоно-центрированного подхода (с использованием общепринятых стандартов)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тсутствие  единой системы идентификации пациентов  с рождения на протяжении всей жизн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ложности согласования принципов информационного обмена в интегрируемых системах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Низние темпы развития телекоммуникационной инфраструктуры  системы учреждений здравоохра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Нехватка правового и программно-технического обеспечения конфиденциальности персональных медицинских данных 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 автоматизированной обработки  персональных  данных  в  медицинских учрежден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оно-центрированная парадигма – ведение БД МИС с общероссийским идентификаторами гражданина – основа для интеграции медицинских сведений в рамках единого информационного медицинского простран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okos «Olimpic Garden», 26 марта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Місце для номера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Организация  автоматизированной обработки  персональных  данных  в  медицинских учреждениях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Персоно-центрированная парадигма – ведение БД МИС с общероссийским идентификаторами гражданина – основа для интеграции медицинских сведений в рамках единого информационного медицинского пространства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Sokos «Olimpic Garden», 26 марта 2009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F8F3-ACCA-416B-B5D0-ABFFDD0B6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822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26240"/>
            <a:ext cx="822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7D0F-F0DA-42DD-A8CC-F63E9585B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2624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CC9B-C7C3-4E45-8EB1-77EEDD463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280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280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2624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2624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2624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1D91-F093-4517-924C-8DB37E802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342800"/>
            <a:ext cx="8229600" cy="51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82296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09480" y="579240"/>
            <a:ext cx="78487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2800"/>
            <a:ext cx="8229600" cy="51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448B-CB55-4E77-9FAF-45F40FBF9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02624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822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822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026240"/>
            <a:ext cx="822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02624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34280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34280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02624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02624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026240"/>
            <a:ext cx="264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82296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1EC2-CCA1-4DCB-A54D-E356723FB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7EEC-4D13-4750-8CB3-9A7986B80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5CA8-FDE6-41E0-98B6-FD9A32550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480" y="579240"/>
            <a:ext cx="78487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03A2-49CC-4C27-AB15-44CCF7241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F098-740D-4A5F-90E5-94DECB42A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2624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3800-F21A-4234-BD31-A9D62782F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570240"/>
            <a:ext cx="784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2800"/>
            <a:ext cx="40158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26240"/>
            <a:ext cx="8229600" cy="24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8B71-B216-42FF-812F-5FFC133CA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6"/>
          <p:cNvSpPr/>
          <p:nvPr/>
        </p:nvSpPr>
        <p:spPr>
          <a:xfrm>
            <a:off x="0" y="360360"/>
            <a:ext cx="9148680" cy="900000"/>
          </a:xfrm>
          <a:custGeom>
            <a:avLst/>
            <a:gdLst/>
            <a:ahLst/>
            <a:rect l="l" t="t" r="r" b="b"/>
            <a:pathLst>
              <a:path w="5763" h="567">
                <a:moveTo>
                  <a:pt x="0" y="368"/>
                </a:moveTo>
                <a:lnTo>
                  <a:pt x="440" y="368"/>
                </a:lnTo>
                <a:lnTo>
                  <a:pt x="777" y="0"/>
                </a:lnTo>
                <a:lnTo>
                  <a:pt x="2162" y="0"/>
                </a:lnTo>
                <a:lnTo>
                  <a:pt x="2265" y="116"/>
                </a:lnTo>
                <a:lnTo>
                  <a:pt x="5756" y="112"/>
                </a:lnTo>
                <a:lnTo>
                  <a:pt x="5763" y="567"/>
                </a:lnTo>
                <a:lnTo>
                  <a:pt x="6" y="556"/>
                </a:lnTo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-9360" y="336600"/>
            <a:ext cx="9181800" cy="838080"/>
          </a:xfrm>
          <a:custGeom>
            <a:avLst/>
            <a:gdLst>
              <a:gd name="textAreaLeft" fmla="*/ 0 w 9181800"/>
              <a:gd name="textAreaRight" fmla="*/ 9182160 w 91818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84" h="528">
                <a:moveTo>
                  <a:pt x="449" y="370"/>
                </a:moveTo>
                <a:lnTo>
                  <a:pt x="768" y="1"/>
                </a:lnTo>
                <a:lnTo>
                  <a:pt x="2158" y="0"/>
                </a:lnTo>
                <a:lnTo>
                  <a:pt x="2258" y="115"/>
                </a:lnTo>
                <a:lnTo>
                  <a:pt x="5784" y="115"/>
                </a:lnTo>
                <a:lnTo>
                  <a:pt x="5779" y="528"/>
                </a:lnTo>
                <a:lnTo>
                  <a:pt x="0" y="519"/>
                </a:lnTo>
                <a:lnTo>
                  <a:pt x="0" y="371"/>
                </a:lnTo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342800"/>
            <a:ext cx="82296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71f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b1b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7009920" y="2890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5790960" y="6536880"/>
            <a:ext cx="2895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3672000" y="6536880"/>
            <a:ext cx="21333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2DAA1-05E9-42C0-97CF-870EAB7DC1EF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17"/>
          <p:cNvGrpSpPr/>
          <p:nvPr/>
        </p:nvGrpSpPr>
        <p:grpSpPr>
          <a:xfrm>
            <a:off x="-9360" y="2708280"/>
            <a:ext cx="9183600" cy="1501920"/>
            <a:chOff x="-9360" y="2708280"/>
            <a:chExt cx="9183600" cy="1501920"/>
          </a:xfrm>
        </p:grpSpPr>
        <p:sp>
          <p:nvSpPr>
            <p:cNvPr id="44" name="Freeform 18"/>
            <p:cNvSpPr/>
            <p:nvPr/>
          </p:nvSpPr>
          <p:spPr>
            <a:xfrm>
              <a:off x="-4680" y="2708280"/>
              <a:ext cx="9151920" cy="1501920"/>
            </a:xfrm>
            <a:custGeom>
              <a:avLst/>
              <a:gdLst/>
              <a:ahLst/>
              <a:rect l="l" t="t" r="r" b="b"/>
              <a:pathLst>
                <a:path w="5779" h="946">
                  <a:moveTo>
                    <a:pt x="6" y="454"/>
                  </a:moveTo>
                  <a:lnTo>
                    <a:pt x="355" y="454"/>
                  </a:lnTo>
                  <a:lnTo>
                    <a:pt x="757" y="1"/>
                  </a:lnTo>
                  <a:lnTo>
                    <a:pt x="2511" y="0"/>
                  </a:lnTo>
                  <a:lnTo>
                    <a:pt x="2646" y="144"/>
                  </a:lnTo>
                  <a:lnTo>
                    <a:pt x="5779" y="137"/>
                  </a:lnTo>
                  <a:lnTo>
                    <a:pt x="5779" y="772"/>
                  </a:lnTo>
                  <a:lnTo>
                    <a:pt x="2899" y="765"/>
                  </a:lnTo>
                  <a:lnTo>
                    <a:pt x="2757" y="946"/>
                  </a:lnTo>
                  <a:lnTo>
                    <a:pt x="1883" y="946"/>
                  </a:lnTo>
                  <a:lnTo>
                    <a:pt x="1663" y="687"/>
                  </a:lnTo>
                  <a:lnTo>
                    <a:pt x="0" y="687"/>
                  </a:lnTo>
                  <a:lnTo>
                    <a:pt x="35" y="48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77353" dir="4837521" blurRad="0" rotWithShape="0">
                <a:srgbClr val="000066">
                  <a:alpha val="1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" name="Freeform 19"/>
            <p:cNvSpPr/>
            <p:nvPr/>
          </p:nvSpPr>
          <p:spPr>
            <a:xfrm>
              <a:off x="-9360" y="2748240"/>
              <a:ext cx="9183600" cy="1420560"/>
            </a:xfrm>
            <a:custGeom>
              <a:avLst/>
              <a:gdLst>
                <a:gd name="textAreaLeft" fmla="*/ 0 w 9183600"/>
                <a:gd name="textAreaRight" fmla="*/ 9183960 w 9183600"/>
                <a:gd name="textAreaTop" fmla="*/ 0 h 1420560"/>
                <a:gd name="textAreaBottom" fmla="*/ 1420560 h 1420560"/>
              </a:gdLst>
              <a:ahLst/>
              <a:rect l="textAreaLeft" t="textAreaTop" r="textAreaRight" b="textAreaBottom"/>
              <a:pathLst>
                <a:path w="5799" h="895">
                  <a:moveTo>
                    <a:pt x="0" y="455"/>
                  </a:moveTo>
                  <a:lnTo>
                    <a:pt x="369" y="454"/>
                  </a:lnTo>
                  <a:lnTo>
                    <a:pt x="776" y="0"/>
                  </a:lnTo>
                  <a:lnTo>
                    <a:pt x="2496" y="0"/>
                  </a:lnTo>
                  <a:lnTo>
                    <a:pt x="2632" y="136"/>
                  </a:lnTo>
                  <a:lnTo>
                    <a:pt x="5799" y="136"/>
                  </a:lnTo>
                  <a:lnTo>
                    <a:pt x="5788" y="727"/>
                  </a:lnTo>
                  <a:lnTo>
                    <a:pt x="2883" y="708"/>
                  </a:lnTo>
                  <a:lnTo>
                    <a:pt x="2747" y="895"/>
                  </a:lnTo>
                  <a:lnTo>
                    <a:pt x="1899" y="895"/>
                  </a:lnTo>
                  <a:lnTo>
                    <a:pt x="1681" y="635"/>
                  </a:lnTo>
                  <a:lnTo>
                    <a:pt x="7" y="635"/>
                  </a:lnTo>
                  <a:lnTo>
                    <a:pt x="7" y="454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6" name="Text Box 14"/>
          <p:cNvSpPr/>
          <p:nvPr/>
        </p:nvSpPr>
        <p:spPr>
          <a:xfrm>
            <a:off x="304920" y="22860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Verdana"/>
              </a:rPr>
              <a:t>LOGO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342800"/>
            <a:ext cx="82296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71f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b1b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8.jpe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8.jpe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24.png"/><Relationship Id="rId6" Type="http://schemas.openxmlformats.org/officeDocument/2006/relationships/image" Target="../media/image30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4.jpe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4.png"/><Relationship Id="rId10" Type="http://schemas.openxmlformats.org/officeDocument/2006/relationships/image" Target="../media/image47.png"/><Relationship Id="rId11" Type="http://schemas.openxmlformats.org/officeDocument/2006/relationships/image" Target="../media/image44.png"/><Relationship Id="rId12" Type="http://schemas.openxmlformats.org/officeDocument/2006/relationships/image" Target="../media/image48.png"/><Relationship Id="rId13" Type="http://schemas.openxmlformats.org/officeDocument/2006/relationships/image" Target="../media/image49.png"/><Relationship Id="rId14" Type="http://schemas.openxmlformats.org/officeDocument/2006/relationships/image" Target="../media/image50.png"/><Relationship Id="rId15" Type="http://schemas.openxmlformats.org/officeDocument/2006/relationships/image" Target="../media/image51.png"/><Relationship Id="rId16" Type="http://schemas.openxmlformats.org/officeDocument/2006/relationships/image" Target="../media/image52.png"/><Relationship Id="rId17" Type="http://schemas.openxmlformats.org/officeDocument/2006/relationships/image" Target="../media/image53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0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5.png"/><Relationship Id="rId6" Type="http://schemas.openxmlformats.org/officeDocument/2006/relationships/image" Target="../media/image55.png"/><Relationship Id="rId7" Type="http://schemas.openxmlformats.org/officeDocument/2006/relationships/image" Target="../media/image56.png"/><Relationship Id="rId8" Type="http://schemas.openxmlformats.org/officeDocument/2006/relationships/image" Target="../media/image8.jpeg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59.png"/><Relationship Id="rId12" Type="http://schemas.openxmlformats.org/officeDocument/2006/relationships/image" Target="../media/image60.jpeg"/><Relationship Id="rId13" Type="http://schemas.openxmlformats.org/officeDocument/2006/relationships/image" Target="../media/image61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58.png"/><Relationship Id="rId3" Type="http://schemas.openxmlformats.org/officeDocument/2006/relationships/image" Target="../media/image45.png"/><Relationship Id="rId4" Type="http://schemas.openxmlformats.org/officeDocument/2006/relationships/image" Target="../media/image63.jpeg"/><Relationship Id="rId5" Type="http://schemas.openxmlformats.org/officeDocument/2006/relationships/image" Target="../media/image64.png"/><Relationship Id="rId6" Type="http://schemas.openxmlformats.org/officeDocument/2006/relationships/image" Target="../media/image65.png"/><Relationship Id="rId7" Type="http://schemas.openxmlformats.org/officeDocument/2006/relationships/image" Target="../media/image5.png"/><Relationship Id="rId8" Type="http://schemas.openxmlformats.org/officeDocument/2006/relationships/image" Target="../media/image66.png"/><Relationship Id="rId9" Type="http://schemas.openxmlformats.org/officeDocument/2006/relationships/image" Target="../media/image67.png"/><Relationship Id="rId10" Type="http://schemas.openxmlformats.org/officeDocument/2006/relationships/image" Target="../media/image68.png"/><Relationship Id="rId11" Type="http://schemas.openxmlformats.org/officeDocument/2006/relationships/image" Target="../media/image69.png"/><Relationship Id="rId12" Type="http://schemas.openxmlformats.org/officeDocument/2006/relationships/image" Target="../media/image58.png"/><Relationship Id="rId13" Type="http://schemas.openxmlformats.org/officeDocument/2006/relationships/image" Target="../media/image56.png"/><Relationship Id="rId14" Type="http://schemas.openxmlformats.org/officeDocument/2006/relationships/image" Target="../media/image28.png"/><Relationship Id="rId15" Type="http://schemas.openxmlformats.org/officeDocument/2006/relationships/image" Target="../media/image5.png"/><Relationship Id="rId16" Type="http://schemas.openxmlformats.org/officeDocument/2006/relationships/image" Target="../media/image70.png"/><Relationship Id="rId17" Type="http://schemas.openxmlformats.org/officeDocument/2006/relationships/image" Target="../media/image71.png"/><Relationship Id="rId18" Type="http://schemas.openxmlformats.org/officeDocument/2006/relationships/image" Target="../media/image45.png"/><Relationship Id="rId19" Type="http://schemas.openxmlformats.org/officeDocument/2006/relationships/image" Target="../media/image58.png"/><Relationship Id="rId20" Type="http://schemas.openxmlformats.org/officeDocument/2006/relationships/image" Target="../media/image5.png"/><Relationship Id="rId21" Type="http://schemas.openxmlformats.org/officeDocument/2006/relationships/image" Target="../media/image56.png"/><Relationship Id="rId22" Type="http://schemas.openxmlformats.org/officeDocument/2006/relationships/image" Target="../media/image67.png"/><Relationship Id="rId23" Type="http://schemas.openxmlformats.org/officeDocument/2006/relationships/image" Target="../media/image44.png"/><Relationship Id="rId24" Type="http://schemas.openxmlformats.org/officeDocument/2006/relationships/image" Target="../media/image69.png"/><Relationship Id="rId25" Type="http://schemas.openxmlformats.org/officeDocument/2006/relationships/image" Target="../media/image58.png"/><Relationship Id="rId26" Type="http://schemas.openxmlformats.org/officeDocument/2006/relationships/image" Target="../media/image56.png"/><Relationship Id="rId27" Type="http://schemas.openxmlformats.org/officeDocument/2006/relationships/image" Target="../media/image8.jpeg"/><Relationship Id="rId28" Type="http://schemas.openxmlformats.org/officeDocument/2006/relationships/slideLayout" Target="../slideLayouts/slideLayout1.xml"/><Relationship Id="rId29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8.jpeg"/><Relationship Id="rId4" Type="http://schemas.openxmlformats.org/officeDocument/2006/relationships/image" Target="../media/image72.png"/><Relationship Id="rId5" Type="http://schemas.openxmlformats.org/officeDocument/2006/relationships/image" Target="../media/image7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3.jpeg"/><Relationship Id="rId3" Type="http://schemas.openxmlformats.org/officeDocument/2006/relationships/image" Target="../media/image7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6.png"/><Relationship Id="rId14" Type="http://schemas.openxmlformats.org/officeDocument/2006/relationships/image" Target="../media/image16.png"/><Relationship Id="rId15" Type="http://schemas.openxmlformats.org/officeDocument/2006/relationships/image" Target="../media/image16.png"/><Relationship Id="rId16" Type="http://schemas.openxmlformats.org/officeDocument/2006/relationships/image" Target="../media/image16.png"/><Relationship Id="rId17" Type="http://schemas.openxmlformats.org/officeDocument/2006/relationships/image" Target="../media/image16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17.png"/><Relationship Id="rId21" Type="http://schemas.openxmlformats.org/officeDocument/2006/relationships/image" Target="../media/image16.png"/><Relationship Id="rId22" Type="http://schemas.openxmlformats.org/officeDocument/2006/relationships/image" Target="../media/image16.png"/><Relationship Id="rId23" Type="http://schemas.openxmlformats.org/officeDocument/2006/relationships/image" Target="../media/image18.png"/><Relationship Id="rId24" Type="http://schemas.openxmlformats.org/officeDocument/2006/relationships/image" Target="../media/image18.png"/><Relationship Id="rId25" Type="http://schemas.openxmlformats.org/officeDocument/2006/relationships/image" Target="../media/image18.png"/><Relationship Id="rId26" Type="http://schemas.openxmlformats.org/officeDocument/2006/relationships/image" Target="../media/image19.png"/><Relationship Id="rId27" Type="http://schemas.openxmlformats.org/officeDocument/2006/relationships/image" Target="../media/image8.jpeg"/><Relationship Id="rId28" Type="http://schemas.openxmlformats.org/officeDocument/2006/relationships/slideLayout" Target="../slideLayouts/slideLayout1.xml"/><Relationship Id="rId2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4929120"/>
            <a:ext cx="9144000" cy="1013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dddddd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Информационные технологии в медицине. </a:t>
            </a:r>
            <a:br>
              <a:rPr sz="2000"/>
            </a:b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Основные вопросы информатизации в сфере здравоохранения</a:t>
            </a: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071720" y="6286680"/>
            <a:ext cx="73152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d528d"/>
                </a:solidFill>
                <a:latin typeface="Arial"/>
              </a:rPr>
              <a:t>Sokos «Olimpic Garden», 26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марта 2009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" name="Прямоугольник 3"/>
          <p:cNvSpPr/>
          <p:nvPr/>
        </p:nvSpPr>
        <p:spPr>
          <a:xfrm>
            <a:off x="7000920" y="4071960"/>
            <a:ext cx="185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528d"/>
                </a:solidFill>
                <a:latin typeface="Arial"/>
              </a:rPr>
              <a:t>Декстер А.П.</a:t>
            </a:r>
            <a:br>
              <a:rPr sz="1400"/>
            </a:br>
            <a:r>
              <a:rPr b="1" lang="ru-RU" sz="1400" spc="-1" strike="noStrike">
                <a:solidFill>
                  <a:srgbClr val="1d528d"/>
                </a:solidFill>
                <a:latin typeface="Arial"/>
              </a:rPr>
              <a:t>СПб МИАЦ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95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142920" y="142920"/>
            <a:ext cx="1071360" cy="110340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5" descr="untitled.bmp"/>
          <p:cNvPicPr/>
          <p:nvPr/>
        </p:nvPicPr>
        <p:blipFill>
          <a:blip r:embed="rId2"/>
          <a:stretch/>
        </p:blipFill>
        <p:spPr>
          <a:xfrm>
            <a:off x="8286840" y="4143240"/>
            <a:ext cx="538200" cy="42876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6"/>
          <p:cNvSpPr/>
          <p:nvPr/>
        </p:nvSpPr>
        <p:spPr>
          <a:xfrm>
            <a:off x="360" y="1214280"/>
            <a:ext cx="138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</a:rPr>
              <a:t>Санкт-Петербург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98" name="Picture 8" descr="C:\Documents and Settings\Papa\Рабочий стол\3D_Business_Graphics_rep\stockxpertcom_id11485941_size5.jpg"/>
          <p:cNvPicPr/>
          <p:nvPr/>
        </p:nvPicPr>
        <p:blipFill>
          <a:blip r:embed="rId3"/>
          <a:stretch/>
        </p:blipFill>
        <p:spPr>
          <a:xfrm>
            <a:off x="2786040" y="0"/>
            <a:ext cx="3906720" cy="292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Нижний колонтитул 3"/>
          <p:cNvSpPr/>
          <p:nvPr/>
        </p:nvSpPr>
        <p:spPr>
          <a:xfrm>
            <a:off x="579132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8" name="Picture 2" descr="C:\Documents and Settings\Papa\Рабочий стол\3D_Business_Graphics_rep\stockxpertcom_id1995431_size4.jpg"/>
          <p:cNvPicPr/>
          <p:nvPr/>
        </p:nvPicPr>
        <p:blipFill>
          <a:blip r:embed="rId1"/>
          <a:stretch/>
        </p:blipFill>
        <p:spPr>
          <a:xfrm>
            <a:off x="0" y="1643040"/>
            <a:ext cx="9144000" cy="45720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3" descr="C:\DATA\Мои документы\Мои рисунки\293551133787556.jpg"/>
          <p:cNvPicPr/>
          <p:nvPr/>
        </p:nvPicPr>
        <p:blipFill>
          <a:blip r:embed="rId2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14240" y="579240"/>
            <a:ext cx="842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рганизация  автоматизированной обработки  персональных  данных  в  медицинских учреждениях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Прямоугольник 7"/>
          <p:cNvSpPr/>
          <p:nvPr/>
        </p:nvSpPr>
        <p:spPr>
          <a:xfrm>
            <a:off x="0" y="1285920"/>
            <a:ext cx="9144000" cy="45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  <a:ea typeface="Arial"/>
              </a:rPr>
              <a:t>Нормативно-правовая база: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ff3300"/>
              </a:buClr>
              <a:buSzPct val="200000"/>
              <a:buFont typeface="Arial"/>
              <a:buChar char="!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  <a:ea typeface="Arial"/>
              </a:rPr>
              <a:t>Закон "О персональных данных", № 152-ФЗ от 27.07.2006 г.  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ff3300"/>
              </a:buClr>
              <a:buSzPct val="200000"/>
              <a:buFont typeface="Arial"/>
              <a:buChar char="!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  <a:ea typeface="Arial"/>
              </a:rPr>
              <a:t>Об утверждении Положения об обеспечении безопасности персональных данных при их обработке в информационных системах персональных данных, постановление Правительства РФ от 17.11.07 г. № 781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До 1 января 2010 г. все ИС персональных данных должны быть приведены в соответствие с требованиями закона "О персональных данных"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2" name="Footer Placeholder 3"/>
          <p:cNvSpPr/>
          <p:nvPr/>
        </p:nvSpPr>
        <p:spPr>
          <a:xfrm>
            <a:off x="5791320" y="6537240"/>
            <a:ext cx="3352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Sokos «Olimpic Garden», 26 </a:t>
            </a:r>
            <a:r>
              <a:rPr b="0" lang="ru-RU" sz="1000" spc="-1" strike="noStrike">
                <a:solidFill>
                  <a:srgbClr val="1d528d"/>
                </a:solidFill>
                <a:latin typeface="Verdana"/>
              </a:rPr>
              <a:t>марта 2009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indefinite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Нижний колонтитул 3"/>
          <p:cNvSpPr/>
          <p:nvPr/>
        </p:nvSpPr>
        <p:spPr>
          <a:xfrm>
            <a:off x="579132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84" name="Picture 2" descr="C:\Documents and Settings\Papa\Рабочий стол\3D_Business_Graphics_rep\stockxpertcom_id1995431_size4.jpg"/>
          <p:cNvPicPr/>
          <p:nvPr/>
        </p:nvPicPr>
        <p:blipFill>
          <a:blip r:embed="rId1"/>
          <a:stretch/>
        </p:blipFill>
        <p:spPr>
          <a:xfrm>
            <a:off x="0" y="1643040"/>
            <a:ext cx="9144000" cy="45720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3" descr="C:\DATA\Мои документы\Мои рисунки\293551133787556.jpg"/>
          <p:cNvPicPr/>
          <p:nvPr/>
        </p:nvPicPr>
        <p:blipFill>
          <a:blip r:embed="rId2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14240" y="579240"/>
            <a:ext cx="842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рганизация  автоматизированной обработки  персональных  данных  в  медицинских учреждениях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Прямоугольник 7"/>
          <p:cNvSpPr/>
          <p:nvPr/>
        </p:nvSpPr>
        <p:spPr>
          <a:xfrm>
            <a:off x="214200" y="1357200"/>
            <a:ext cx="86439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ПРОБЛЕМЫ: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Не разработана в полном объеме нормативная база для реализации законов "О персональных данных", а также "Основ законодательства ... об охране здоровья... ", "О медицинском страховании ... " в части ведения баз данных и использования ИКТ в здравоохранении (после изменений в 2006/7 гг.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Нет единых стандартов идентификации объектов, кодирования и обмена медицинскими данными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В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нормативно-правовых актах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РФ в явном виде отсутствуют нормы и требования по ведению медицинских документов и автоматизированной обработке персональных данных пациента (кроме закона "О персональных данных"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, ст. 10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8" name="Footer Placeholder 3"/>
          <p:cNvSpPr/>
          <p:nvPr/>
        </p:nvSpPr>
        <p:spPr>
          <a:xfrm>
            <a:off x="5791320" y="6537240"/>
            <a:ext cx="3352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Sokos «Olimpic Garden», 26 </a:t>
            </a:r>
            <a:r>
              <a:rPr b="0" lang="ru-RU" sz="1000" spc="-1" strike="noStrike">
                <a:solidFill>
                  <a:srgbClr val="1d528d"/>
                </a:solidFill>
                <a:latin typeface="Verdana"/>
              </a:rPr>
              <a:t>марта 2009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indefinite"/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Нижний колонтитул 3"/>
          <p:cNvSpPr/>
          <p:nvPr/>
        </p:nvSpPr>
        <p:spPr>
          <a:xfrm>
            <a:off x="579132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0" name="Picture 2" descr="C:\Documents and Settings\Papa\Рабочий стол\3D_Business_Graphics_rep\stockxpertcom_id1995431_size4.jpg"/>
          <p:cNvPicPr/>
          <p:nvPr/>
        </p:nvPicPr>
        <p:blipFill>
          <a:blip r:embed="rId1"/>
          <a:stretch/>
        </p:blipFill>
        <p:spPr>
          <a:xfrm>
            <a:off x="0" y="1643040"/>
            <a:ext cx="9144000" cy="45720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3" descr="C:\DATA\Мои документы\Мои рисунки\293551133787556.jpg"/>
          <p:cNvPicPr/>
          <p:nvPr/>
        </p:nvPicPr>
        <p:blipFill>
          <a:blip r:embed="rId2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14240" y="579240"/>
            <a:ext cx="842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рганизация  автоматизированной обработки  персональных  данных  в  медицинских учреждениях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3" name="Picture 4" descr="F:\Подготовка презентации 2008\ICONS\iconki_www.webz.tu1.ru\500ic\[www.zavis.ru]NetByte Design Studio - 1121.png"/>
          <p:cNvPicPr/>
          <p:nvPr/>
        </p:nvPicPr>
        <p:blipFill>
          <a:blip r:embed="rId3"/>
          <a:stretch/>
        </p:blipFill>
        <p:spPr>
          <a:xfrm>
            <a:off x="0" y="2214720"/>
            <a:ext cx="1625760" cy="162540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F:\Подготовка презентации 2008\ICONS\iconki_www.webz.tu1.ru\500ic\[www.zavis.ru]NetByte Design Studio - 1121.png"/>
          <p:cNvPicPr/>
          <p:nvPr/>
        </p:nvPicPr>
        <p:blipFill>
          <a:blip r:embed="rId4"/>
          <a:stretch/>
        </p:blipFill>
        <p:spPr>
          <a:xfrm>
            <a:off x="0" y="4071960"/>
            <a:ext cx="1625760" cy="1625400"/>
          </a:xfrm>
          <a:prstGeom prst="rect">
            <a:avLst/>
          </a:prstGeom>
          <a:ln w="0">
            <a:noFill/>
          </a:ln>
        </p:spPr>
      </p:pic>
      <p:sp>
        <p:nvSpPr>
          <p:cNvPr id="295" name="Прямоугольник 11"/>
          <p:cNvSpPr/>
          <p:nvPr/>
        </p:nvSpPr>
        <p:spPr>
          <a:xfrm>
            <a:off x="1571760" y="2571840"/>
            <a:ext cx="728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Документальное согласие пациента на обработку и передачу его персональных данных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6" name="Прямоугольник 12"/>
          <p:cNvSpPr/>
          <p:nvPr/>
        </p:nvSpPr>
        <p:spPr>
          <a:xfrm>
            <a:off x="1571760" y="4286160"/>
            <a:ext cx="72151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41280" indent="-3412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Информирование пациента о целях, способах обработки его персональных данных, о лицах имеющих к ним доступ, а также о об их получении от третьих лиц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7" name="Прямоугольник 13"/>
          <p:cNvSpPr/>
          <p:nvPr/>
        </p:nvSpPr>
        <p:spPr>
          <a:xfrm>
            <a:off x="285840" y="1428840"/>
            <a:ext cx="5572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ПРОБЛЕМЫ: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Не регламентированы процедуры и формы: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8" name="Footer Placeholder 3"/>
          <p:cNvSpPr/>
          <p:nvPr/>
        </p:nvSpPr>
        <p:spPr>
          <a:xfrm>
            <a:off x="5791320" y="6537240"/>
            <a:ext cx="3352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Sokos «Olimpic Garden», 26 </a:t>
            </a:r>
            <a:r>
              <a:rPr b="0" lang="ru-RU" sz="1000" spc="-1" strike="noStrike">
                <a:solidFill>
                  <a:srgbClr val="1d528d"/>
                </a:solidFill>
                <a:latin typeface="Verdana"/>
              </a:rPr>
              <a:t>марта 2009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indefinite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Нижний колонтитул 3"/>
          <p:cNvSpPr/>
          <p:nvPr/>
        </p:nvSpPr>
        <p:spPr>
          <a:xfrm>
            <a:off x="579132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00" name="Picture 2" descr="C:\Documents and Settings\Papa\Рабочий стол\3D_Business_Graphics_rep\stockxpertcom_id1995431_size4.jpg"/>
          <p:cNvPicPr/>
          <p:nvPr/>
        </p:nvPicPr>
        <p:blipFill>
          <a:blip r:embed="rId1"/>
          <a:stretch/>
        </p:blipFill>
        <p:spPr>
          <a:xfrm>
            <a:off x="0" y="1643040"/>
            <a:ext cx="9144000" cy="45720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3" descr="C:\DATA\Мои документы\Мои рисунки\293551133787556.jpg"/>
          <p:cNvPicPr/>
          <p:nvPr/>
        </p:nvPicPr>
        <p:blipFill>
          <a:blip r:embed="rId2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14240" y="579240"/>
            <a:ext cx="842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рганизация  автоматизированной обработки  персональных  данных  в  медицинских учреждениях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Прямоугольник 13"/>
          <p:cNvSpPr/>
          <p:nvPr/>
        </p:nvSpPr>
        <p:spPr>
          <a:xfrm>
            <a:off x="357120" y="1428840"/>
            <a:ext cx="84297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Внедрение Электронной Цифровой Подписи (ЭЦП)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Пример Санкт-Петербурга: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6e71f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  <a:ea typeface="Arial"/>
              </a:rPr>
              <a:t>Удостоверяющий центр (УЦ) с федеральной кросс сертификацией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6e71f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  <a:ea typeface="Arial"/>
              </a:rPr>
              <a:t>Один УЦ для ИОГВ и подведомственной сети субъекта РФ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6e71f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  <a:ea typeface="Arial"/>
              </a:rPr>
              <a:t>Выпущено и установлено более 600 электронных цифровых подписей: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1d528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  <a:ea typeface="Arial"/>
              </a:rPr>
              <a:t>Руководитель учреждения ЛПУ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1d528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  <a:ea typeface="Arial"/>
              </a:rPr>
              <a:t>Заместитель руководителя учреждения ЛПУ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6e71f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  <a:ea typeface="Arial"/>
              </a:rPr>
              <a:t>Сферы применения ЭЦП в 2008 году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  <a:ea typeface="Arial"/>
              </a:rPr>
              <a:t>Создание и подпись заявки на включение гражданина в регистр региональных льготников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  <a:ea typeface="Arial"/>
              </a:rPr>
              <a:t>Подача заявок на включение/исключение врачей из справочника ЛЛО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4" name="Footer Placeholder 3"/>
          <p:cNvSpPr/>
          <p:nvPr/>
        </p:nvSpPr>
        <p:spPr>
          <a:xfrm>
            <a:off x="5791320" y="6537240"/>
            <a:ext cx="3352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Sokos «Olimpic Garden», 26 </a:t>
            </a:r>
            <a:r>
              <a:rPr b="0" lang="ru-RU" sz="1000" spc="-1" strike="noStrike">
                <a:solidFill>
                  <a:srgbClr val="1d528d"/>
                </a:solidFill>
                <a:latin typeface="Verdana"/>
              </a:rPr>
              <a:t>марта 2009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" descr="C:\Documents and Settings\Papa\Рабочий стол\urban\Stockxpert_3DBoysConceptual\Stockxpert_3DBoysConceptual\Stockxpert_3DBoysConceptual\stockxpertcom_id1995441_size5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ерспективы информатизации здравоохранения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Санкт-Петербург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TextBox 4"/>
          <p:cNvSpPr/>
          <p:nvPr/>
        </p:nvSpPr>
        <p:spPr>
          <a:xfrm>
            <a:off x="214200" y="1285920"/>
            <a:ext cx="8715600" cy="52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Важнейшие шаги по развитию информатизации здравоохранения Санкт-Петербурга: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Развитие телекоммуникационной среды, позволяющей организовать работу врачей в едином информационном пространстве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Создание и утверждение регионального стандарта коллективных электронных медицинских карт (ЭМК) и создание хранилища ЭМК для ведения и хранения информации о состоянии здоровья граждан и организации оказания им медицинской помощи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Создание и развитие информационных систем позволяющих врачам Санкт-Петербурга работать в едином  информационном пространстве и непосредственно с хранилищем электронных медицинских карт при приеме пациентов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Создание   официального информационного портала системы здравоохранения Санкт-Петербурга и городского центра обработки звонков граждан с целью реализации конституционного права граждан на информацию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Разработка нормативных документов и регламентов для организации взаимодействия медицинских учреждений Санкт-Петербурга.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08" name="Picture 13" descr="C:\DATA\Мои документы\Мои рисунки\293551133787556.jpg"/>
          <p:cNvPicPr/>
          <p:nvPr/>
        </p:nvPicPr>
        <p:blipFill>
          <a:blip r:embed="rId2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309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indefinite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C:\Documents and Settings\Papa\Рабочий стол\urban\Stockxpert_3DBoysConceptual\Stockxpert_3DBoysConceptual\Stockxpert_3DBoysConceptual\stockxpertcom_id1995441_size5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14240" y="579240"/>
            <a:ext cx="842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лючевые области информатизации в системе здравоохранения Санкт-Петербург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Нижний колонтитул 3"/>
          <p:cNvSpPr/>
          <p:nvPr/>
        </p:nvSpPr>
        <p:spPr>
          <a:xfrm>
            <a:off x="579132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13" name="Picture 13" descr="C:\DATA\Мои документы\Мои рисунки\293551133787556.jpg"/>
          <p:cNvPicPr/>
          <p:nvPr/>
        </p:nvPicPr>
        <p:blipFill>
          <a:blip r:embed="rId2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314" name="AutoShape 16"/>
          <p:cNvSpPr/>
          <p:nvPr/>
        </p:nvSpPr>
        <p:spPr>
          <a:xfrm>
            <a:off x="928800" y="4857840"/>
            <a:ext cx="7286400" cy="92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Calibri"/>
              </a:rPr>
              <a:t>ТЕЛЕКОММУНИКАЦИОННАЯ СРЕДА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5" name="AutoShape 14"/>
          <p:cNvSpPr/>
          <p:nvPr/>
        </p:nvSpPr>
        <p:spPr>
          <a:xfrm>
            <a:off x="857160" y="3214800"/>
            <a:ext cx="7286760" cy="923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2cddc"/>
              </a:gs>
              <a:gs pos="50000">
                <a:srgbClr val="daeef3"/>
              </a:gs>
              <a:gs pos="100000">
                <a:srgbClr val="92cddc"/>
              </a:gs>
            </a:gsLst>
            <a:lin ang="18900000"/>
          </a:gradFill>
          <a:ln w="12600">
            <a:solidFill>
              <a:srgbClr val="92cddc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Calibri"/>
              </a:rPr>
              <a:t>ТЕХНОЛОГИЧЕСКАЯ ИНФРАСТРУКТУРА И БАЗОВЫЕ СЕРВИСЫ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6" name="AutoShape 15"/>
          <p:cNvSpPr/>
          <p:nvPr/>
        </p:nvSpPr>
        <p:spPr>
          <a:xfrm>
            <a:off x="857160" y="1500120"/>
            <a:ext cx="7286760" cy="928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99594"/>
              </a:gs>
              <a:gs pos="50000">
                <a:srgbClr val="f2dbdb"/>
              </a:gs>
              <a:gs pos="100000">
                <a:srgbClr val="d99594"/>
              </a:gs>
            </a:gsLst>
            <a:lin ang="18900000"/>
          </a:gradFill>
          <a:ln w="12600">
            <a:solidFill>
              <a:srgbClr val="d99594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Calibri"/>
              </a:rPr>
              <a:t>ФУНКЦИОНАЛЬНО-ОРИЕНТИРОВАНЫЕ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Calibri"/>
              </a:rPr>
              <a:t>ИНФОРМАЦИОННЫЕ РЕСУРСЫ И СИСТЕМЫ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7" name="AutoShape 14"/>
          <p:cNvSpPr/>
          <p:nvPr/>
        </p:nvSpPr>
        <p:spPr>
          <a:xfrm rot="10800000">
            <a:off x="3214800" y="2428560"/>
            <a:ext cx="2286000" cy="785880"/>
          </a:xfrm>
          <a:prstGeom prst="upArrow">
            <a:avLst>
              <a:gd name="adj1" fmla="val 78306"/>
              <a:gd name="adj2" fmla="val 48213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8" name="AutoShape 14"/>
          <p:cNvSpPr/>
          <p:nvPr/>
        </p:nvSpPr>
        <p:spPr>
          <a:xfrm rot="10800000">
            <a:off x="3214800" y="4071600"/>
            <a:ext cx="2286000" cy="785880"/>
          </a:xfrm>
          <a:prstGeom prst="upArrow">
            <a:avLst>
              <a:gd name="adj1" fmla="val 78306"/>
              <a:gd name="adj2" fmla="val 48213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indefinite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10"/>
          <p:cNvSpPr/>
          <p:nvPr/>
        </p:nvSpPr>
        <p:spPr>
          <a:xfrm flipH="1">
            <a:off x="0" y="5286240"/>
            <a:ext cx="9144000" cy="714600"/>
          </a:xfrm>
          <a:prstGeom prst="rect">
            <a:avLst/>
          </a:prstGeom>
          <a:gradFill rotWithShape="0">
            <a:gsLst>
              <a:gs pos="0">
                <a:srgbClr val="ffffff">
                  <a:alpha val="80000"/>
                </a:srgbClr>
              </a:gs>
              <a:gs pos="100000">
                <a:srgbClr val="93b1f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0" name="Rectangle 10"/>
          <p:cNvSpPr/>
          <p:nvPr/>
        </p:nvSpPr>
        <p:spPr>
          <a:xfrm flipH="1">
            <a:off x="0" y="4214880"/>
            <a:ext cx="9144000" cy="714240"/>
          </a:xfrm>
          <a:prstGeom prst="rect">
            <a:avLst/>
          </a:prstGeom>
          <a:gradFill rotWithShape="0">
            <a:gsLst>
              <a:gs pos="0">
                <a:srgbClr val="ffffff">
                  <a:alpha val="80000"/>
                </a:srgbClr>
              </a:gs>
              <a:gs pos="100000">
                <a:srgbClr val="93b1f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1" name="AutoShape 3"/>
          <p:cNvSpPr/>
          <p:nvPr/>
        </p:nvSpPr>
        <p:spPr>
          <a:xfrm flipV="1">
            <a:off x="2500200" y="1714320"/>
            <a:ext cx="3929040" cy="2357280"/>
          </a:xfrm>
          <a:prstGeom prst="upArrow">
            <a:avLst>
              <a:gd name="adj1" fmla="val 73769"/>
              <a:gd name="adj2" fmla="val 32588"/>
            </a:avLst>
          </a:prstGeom>
          <a:gradFill rotWithShape="0">
            <a:gsLst>
              <a:gs pos="0">
                <a:srgbClr val="4090e8">
                  <a:alpha val="3215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фраструктур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TextBox 8"/>
          <p:cNvSpPr/>
          <p:nvPr/>
        </p:nvSpPr>
        <p:spPr>
          <a:xfrm>
            <a:off x="214200" y="1214280"/>
            <a:ext cx="864396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1. Необходимость управления стоимостью содержания ИТ-инфраструктуры учреждений здравоохранения и системы управления в целом.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2. Решение общих проблем и вопросов: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Проблемы интеграции ресурсов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Решение технических и технологических проблем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Решение вопросов распределения ответственности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Государственная технологическая организация выполняющая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функции ИТ-консалтинга на уровне Правительства СПб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Государственная технологическая организация выполняющая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функции ИТ-консалтинга на уровне системы здравоохранения СПб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4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25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" descr="H:\Подготовка презентации 2008\ICONS\VirtualLNK Icons\VirtualLNK Accounting Icons Collection v1.0\BMP\Regular\72x72\Bank 2 Information.bmp"/>
          <p:cNvPicPr/>
          <p:nvPr/>
        </p:nvPicPr>
        <p:blipFill>
          <a:blip r:embed="rId2"/>
          <a:stretch/>
        </p:blipFill>
        <p:spPr>
          <a:xfrm>
            <a:off x="8001000" y="4143240"/>
            <a:ext cx="571680" cy="571680"/>
          </a:xfrm>
          <a:prstGeom prst="rect">
            <a:avLst/>
          </a:prstGeom>
          <a:ln w="0">
            <a:noFill/>
          </a:ln>
        </p:spPr>
      </p:pic>
      <p:sp>
        <p:nvSpPr>
          <p:cNvPr id="327" name="Прямоугольник 8"/>
          <p:cNvSpPr/>
          <p:nvPr/>
        </p:nvSpPr>
        <p:spPr>
          <a:xfrm>
            <a:off x="7215120" y="4643280"/>
            <a:ext cx="221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Пб ИАЦ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28" name="Группа 26"/>
          <p:cNvGrpSpPr/>
          <p:nvPr/>
        </p:nvGrpSpPr>
        <p:grpSpPr>
          <a:xfrm>
            <a:off x="8001000" y="5143680"/>
            <a:ext cx="571680" cy="642600"/>
            <a:chOff x="8001000" y="5143680"/>
            <a:chExt cx="571680" cy="642600"/>
          </a:xfrm>
        </p:grpSpPr>
        <p:pic>
          <p:nvPicPr>
            <p:cNvPr id="329" name="Picture 6" descr="H:\Подготовка презентации 2008\ICONS\VirtualLNK Icons\VirtualLNK Accounting Icons Collection v1.0\BMP\Regular\72x72\Bank 2 Account.bmp"/>
            <p:cNvPicPr/>
            <p:nvPr/>
          </p:nvPicPr>
          <p:blipFill>
            <a:blip r:embed="rId3"/>
            <a:stretch/>
          </p:blipFill>
          <p:spPr>
            <a:xfrm>
              <a:off x="8001000" y="5143680"/>
              <a:ext cx="546120" cy="61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Picture 7" descr="H:\Подготовка презентации 2008\ICONS\VirtualLNK Icons\VirtualLNK Medical Icons Collection v1.0\BMP\Regular\72x72\Medical Bag 2.bmp"/>
            <p:cNvPicPr/>
            <p:nvPr/>
          </p:nvPicPr>
          <p:blipFill>
            <a:blip r:embed="rId4"/>
            <a:stretch/>
          </p:blipFill>
          <p:spPr>
            <a:xfrm>
              <a:off x="8214120" y="5383440"/>
              <a:ext cx="358560" cy="40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1" name="Прямоугольник 12"/>
          <p:cNvSpPr/>
          <p:nvPr/>
        </p:nvSpPr>
        <p:spPr>
          <a:xfrm>
            <a:off x="7215120" y="5715000"/>
            <a:ext cx="221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Пб МИАЦ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32" name="Рисунок 14" descr="untitled.bmp"/>
          <p:cNvPicPr/>
          <p:nvPr/>
        </p:nvPicPr>
        <p:blipFill>
          <a:blip r:embed="rId5"/>
          <a:stretch/>
        </p:blipFill>
        <p:spPr>
          <a:xfrm>
            <a:off x="8605800" y="5286240"/>
            <a:ext cx="538200" cy="4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AutoShape 4"/>
          <p:cNvSpPr/>
          <p:nvPr/>
        </p:nvSpPr>
        <p:spPr>
          <a:xfrm>
            <a:off x="142920" y="1285920"/>
            <a:ext cx="8786880" cy="2071800"/>
          </a:xfrm>
          <a:prstGeom prst="roundRect">
            <a:avLst>
              <a:gd name="adj" fmla="val 13745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57160" y="57132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фраструктурные государственные центры  Санкт-Петербург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5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grpSp>
        <p:nvGrpSpPr>
          <p:cNvPr id="336" name="Группа 61"/>
          <p:cNvGrpSpPr/>
          <p:nvPr/>
        </p:nvGrpSpPr>
        <p:grpSpPr>
          <a:xfrm>
            <a:off x="151560" y="1938960"/>
            <a:ext cx="927720" cy="3069360"/>
            <a:chOff x="151560" y="1938960"/>
            <a:chExt cx="927720" cy="3069360"/>
          </a:xfrm>
        </p:grpSpPr>
        <p:sp>
          <p:nvSpPr>
            <p:cNvPr id="337" name="Полилиния 6"/>
            <p:cNvSpPr/>
            <p:nvPr/>
          </p:nvSpPr>
          <p:spPr>
            <a:xfrm rot="5400000">
              <a:off x="152280" y="2795040"/>
              <a:ext cx="285480" cy="28584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8" name="Полилиния 7"/>
            <p:cNvSpPr/>
            <p:nvPr/>
          </p:nvSpPr>
          <p:spPr>
            <a:xfrm rot="5400000">
              <a:off x="152280" y="3223800"/>
              <a:ext cx="285480" cy="28584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9" name="Полилиния 8"/>
            <p:cNvSpPr/>
            <p:nvPr/>
          </p:nvSpPr>
          <p:spPr>
            <a:xfrm rot="5400000">
              <a:off x="152280" y="3652560"/>
              <a:ext cx="285480" cy="28584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0" name="Полилиния 9"/>
            <p:cNvSpPr/>
            <p:nvPr/>
          </p:nvSpPr>
          <p:spPr>
            <a:xfrm rot="4797000">
              <a:off x="174240" y="4033800"/>
              <a:ext cx="285480" cy="28584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Полилиния 10"/>
            <p:cNvSpPr/>
            <p:nvPr/>
          </p:nvSpPr>
          <p:spPr>
            <a:xfrm rot="3326400">
              <a:off x="279360" y="4351320"/>
              <a:ext cx="285480" cy="28584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Полилиния 11"/>
            <p:cNvSpPr/>
            <p:nvPr/>
          </p:nvSpPr>
          <p:spPr>
            <a:xfrm rot="2116800">
              <a:off x="484200" y="4556160"/>
              <a:ext cx="28584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3" name="Полилиния 12"/>
            <p:cNvSpPr/>
            <p:nvPr/>
          </p:nvSpPr>
          <p:spPr>
            <a:xfrm rot="985200">
              <a:off x="758520" y="4688280"/>
              <a:ext cx="28584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4" name="Полилиния 13"/>
            <p:cNvSpPr/>
            <p:nvPr/>
          </p:nvSpPr>
          <p:spPr>
            <a:xfrm rot="6837600">
              <a:off x="223560" y="2437920"/>
              <a:ext cx="285480" cy="28584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5" name="Полилиния 14"/>
            <p:cNvSpPr/>
            <p:nvPr/>
          </p:nvSpPr>
          <p:spPr>
            <a:xfrm rot="8377200">
              <a:off x="425160" y="2139120"/>
              <a:ext cx="28584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6" name="Полилиния 15"/>
            <p:cNvSpPr/>
            <p:nvPr/>
          </p:nvSpPr>
          <p:spPr>
            <a:xfrm rot="9884400">
              <a:off x="685440" y="1971360"/>
              <a:ext cx="28584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pic>
        <p:nvPicPr>
          <p:cNvPr id="347" name="Picture 10" descr="H:\Подготовка презентации 2008\ICONS\VirtualLNK Icons\VirtualLNK Medical Icons Collection v1.0\BMP\Regular\72x72\Hospital 2 Information.bmp"/>
          <p:cNvPicPr/>
          <p:nvPr/>
        </p:nvPicPr>
        <p:blipFill>
          <a:blip r:embed="rId2"/>
          <a:stretch/>
        </p:blipFill>
        <p:spPr>
          <a:xfrm>
            <a:off x="4143240" y="1714680"/>
            <a:ext cx="871560" cy="8712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1" descr="H:\Подготовка презентации 2008\ICONS\VirtualLNK Icons\VirtualLNK Medical Icons Collection v1.0\BMP\Regular\72x72\Hospital.bmp"/>
          <p:cNvPicPr/>
          <p:nvPr/>
        </p:nvPicPr>
        <p:blipFill>
          <a:blip r:embed="rId3"/>
          <a:stretch/>
        </p:blipFill>
        <p:spPr>
          <a:xfrm>
            <a:off x="1071720" y="171468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4" descr="H:\Подготовка презентации 2008\ICONS\VirtualLNK Icons\VirtualLNK Medical Icons Collection v1.0\BMP\Regular\72x72\Hospital 2 Add.bmp"/>
          <p:cNvPicPr/>
          <p:nvPr/>
        </p:nvPicPr>
        <p:blipFill>
          <a:blip r:embed="rId4"/>
          <a:stretch/>
        </p:blipFill>
        <p:spPr>
          <a:xfrm>
            <a:off x="7143840" y="1714680"/>
            <a:ext cx="857160" cy="857160"/>
          </a:xfrm>
          <a:prstGeom prst="rect">
            <a:avLst/>
          </a:prstGeom>
          <a:ln w="0">
            <a:noFill/>
          </a:ln>
        </p:spPr>
      </p:pic>
      <p:grpSp>
        <p:nvGrpSpPr>
          <p:cNvPr id="350" name="Группа 65"/>
          <p:cNvGrpSpPr/>
          <p:nvPr/>
        </p:nvGrpSpPr>
        <p:grpSpPr>
          <a:xfrm>
            <a:off x="3071160" y="1929600"/>
            <a:ext cx="927360" cy="3069000"/>
            <a:chOff x="3071160" y="1929600"/>
            <a:chExt cx="927360" cy="3069000"/>
          </a:xfrm>
        </p:grpSpPr>
        <p:sp>
          <p:nvSpPr>
            <p:cNvPr id="351" name="Полилиния 33"/>
            <p:cNvSpPr/>
            <p:nvPr/>
          </p:nvSpPr>
          <p:spPr>
            <a:xfrm rot="985200">
              <a:off x="3678120" y="4678200"/>
              <a:ext cx="28548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52" name="Группа 62"/>
            <p:cNvGrpSpPr/>
            <p:nvPr/>
          </p:nvGrpSpPr>
          <p:grpSpPr>
            <a:xfrm>
              <a:off x="3071160" y="1929600"/>
              <a:ext cx="851760" cy="2959920"/>
              <a:chOff x="3071160" y="1929600"/>
              <a:chExt cx="851760" cy="2959920"/>
            </a:xfrm>
          </p:grpSpPr>
          <p:sp>
            <p:nvSpPr>
              <p:cNvPr id="353" name="Полилиния 27"/>
              <p:cNvSpPr/>
              <p:nvPr/>
            </p:nvSpPr>
            <p:spPr>
              <a:xfrm rot="5400000">
                <a:off x="3071160" y="2786040"/>
                <a:ext cx="285840" cy="285480"/>
              </a:xfrm>
              <a:custGeom>
                <a:avLst/>
                <a:gdLst/>
                <a:ahLst/>
                <a:rect l="l" t="t" r="r" b="b"/>
                <a:pathLst>
                  <a:path w="500066" h="428628">
                    <a:moveTo>
                      <a:pt x="0" y="0"/>
                    </a:moveTo>
                    <a:lnTo>
                      <a:pt x="285752" y="0"/>
                    </a:lnTo>
                    <a:lnTo>
                      <a:pt x="500066" y="214314"/>
                    </a:lnTo>
                    <a:lnTo>
                      <a:pt x="285752" y="428628"/>
                    </a:lnTo>
                    <a:lnTo>
                      <a:pt x="0" y="428628"/>
                    </a:lnTo>
                    <a:lnTo>
                      <a:pt x="214314" y="2143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00"/>
              </a:solidFill>
              <a:ln w="25560">
                <a:solidFill>
                  <a:srgbClr val="ffffff"/>
                </a:solidFill>
                <a:round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4" name="Полилиния 28"/>
              <p:cNvSpPr/>
              <p:nvPr/>
            </p:nvSpPr>
            <p:spPr>
              <a:xfrm rot="5400000">
                <a:off x="3071160" y="3214800"/>
                <a:ext cx="285840" cy="285480"/>
              </a:xfrm>
              <a:custGeom>
                <a:avLst/>
                <a:gdLst/>
                <a:ahLst/>
                <a:rect l="l" t="t" r="r" b="b"/>
                <a:pathLst>
                  <a:path w="500066" h="428628">
                    <a:moveTo>
                      <a:pt x="0" y="0"/>
                    </a:moveTo>
                    <a:lnTo>
                      <a:pt x="285752" y="0"/>
                    </a:lnTo>
                    <a:lnTo>
                      <a:pt x="500066" y="214314"/>
                    </a:lnTo>
                    <a:lnTo>
                      <a:pt x="285752" y="428628"/>
                    </a:lnTo>
                    <a:lnTo>
                      <a:pt x="0" y="428628"/>
                    </a:lnTo>
                    <a:lnTo>
                      <a:pt x="214314" y="2143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00"/>
              </a:solidFill>
              <a:ln w="25560">
                <a:solidFill>
                  <a:srgbClr val="ffffff"/>
                </a:solidFill>
                <a:round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5" name="Полилиния 29"/>
              <p:cNvSpPr/>
              <p:nvPr/>
            </p:nvSpPr>
            <p:spPr>
              <a:xfrm rot="5400000">
                <a:off x="3071160" y="3643560"/>
                <a:ext cx="285840" cy="285480"/>
              </a:xfrm>
              <a:custGeom>
                <a:avLst/>
                <a:gdLst/>
                <a:ahLst/>
                <a:rect l="l" t="t" r="r" b="b"/>
                <a:pathLst>
                  <a:path w="500066" h="428628">
                    <a:moveTo>
                      <a:pt x="0" y="0"/>
                    </a:moveTo>
                    <a:lnTo>
                      <a:pt x="285752" y="0"/>
                    </a:lnTo>
                    <a:lnTo>
                      <a:pt x="500066" y="214314"/>
                    </a:lnTo>
                    <a:lnTo>
                      <a:pt x="285752" y="428628"/>
                    </a:lnTo>
                    <a:lnTo>
                      <a:pt x="0" y="428628"/>
                    </a:lnTo>
                    <a:lnTo>
                      <a:pt x="214314" y="2143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00"/>
              </a:solidFill>
              <a:ln w="25560">
                <a:solidFill>
                  <a:srgbClr val="ffffff"/>
                </a:solidFill>
                <a:round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6" name="Полилиния 30"/>
              <p:cNvSpPr/>
              <p:nvPr/>
            </p:nvSpPr>
            <p:spPr>
              <a:xfrm rot="4797000">
                <a:off x="3094560" y="4022280"/>
                <a:ext cx="285840" cy="287280"/>
              </a:xfrm>
              <a:custGeom>
                <a:avLst/>
                <a:gdLst/>
                <a:ahLst/>
                <a:rect l="l" t="t" r="r" b="b"/>
                <a:pathLst>
                  <a:path w="500066" h="428628">
                    <a:moveTo>
                      <a:pt x="0" y="0"/>
                    </a:moveTo>
                    <a:lnTo>
                      <a:pt x="285752" y="0"/>
                    </a:lnTo>
                    <a:lnTo>
                      <a:pt x="500066" y="214314"/>
                    </a:lnTo>
                    <a:lnTo>
                      <a:pt x="285752" y="428628"/>
                    </a:lnTo>
                    <a:lnTo>
                      <a:pt x="0" y="428628"/>
                    </a:lnTo>
                    <a:lnTo>
                      <a:pt x="214314" y="2143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00"/>
              </a:solidFill>
              <a:ln w="25560">
                <a:solidFill>
                  <a:srgbClr val="ffffff"/>
                </a:solidFill>
                <a:round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7" name="Полилиния 31"/>
              <p:cNvSpPr/>
              <p:nvPr/>
            </p:nvSpPr>
            <p:spPr>
              <a:xfrm rot="3326400">
                <a:off x="3197880" y="4342320"/>
                <a:ext cx="285840" cy="285480"/>
              </a:xfrm>
              <a:custGeom>
                <a:avLst/>
                <a:gdLst/>
                <a:ahLst/>
                <a:rect l="l" t="t" r="r" b="b"/>
                <a:pathLst>
                  <a:path w="500066" h="428628">
                    <a:moveTo>
                      <a:pt x="0" y="0"/>
                    </a:moveTo>
                    <a:lnTo>
                      <a:pt x="285752" y="0"/>
                    </a:lnTo>
                    <a:lnTo>
                      <a:pt x="500066" y="214314"/>
                    </a:lnTo>
                    <a:lnTo>
                      <a:pt x="285752" y="428628"/>
                    </a:lnTo>
                    <a:lnTo>
                      <a:pt x="0" y="428628"/>
                    </a:lnTo>
                    <a:lnTo>
                      <a:pt x="214314" y="2143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00"/>
              </a:solidFill>
              <a:ln w="25560">
                <a:solidFill>
                  <a:srgbClr val="ffffff"/>
                </a:solidFill>
                <a:round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8" name="Полилиния 32"/>
              <p:cNvSpPr/>
              <p:nvPr/>
            </p:nvSpPr>
            <p:spPr>
              <a:xfrm rot="2116800">
                <a:off x="3403440" y="4546800"/>
                <a:ext cx="287280" cy="285840"/>
              </a:xfrm>
              <a:custGeom>
                <a:avLst/>
                <a:gdLst/>
                <a:ahLst/>
                <a:rect l="l" t="t" r="r" b="b"/>
                <a:pathLst>
                  <a:path w="500066" h="428628">
                    <a:moveTo>
                      <a:pt x="0" y="0"/>
                    </a:moveTo>
                    <a:lnTo>
                      <a:pt x="285752" y="0"/>
                    </a:lnTo>
                    <a:lnTo>
                      <a:pt x="500066" y="214314"/>
                    </a:lnTo>
                    <a:lnTo>
                      <a:pt x="285752" y="428628"/>
                    </a:lnTo>
                    <a:lnTo>
                      <a:pt x="0" y="428628"/>
                    </a:lnTo>
                    <a:lnTo>
                      <a:pt x="214314" y="2143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00"/>
              </a:solidFill>
              <a:ln w="25560">
                <a:solidFill>
                  <a:srgbClr val="ffffff"/>
                </a:solidFill>
                <a:round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9" name="Полилиния 34"/>
              <p:cNvSpPr/>
              <p:nvPr/>
            </p:nvSpPr>
            <p:spPr>
              <a:xfrm rot="6837600">
                <a:off x="3142440" y="2428560"/>
                <a:ext cx="285840" cy="285480"/>
              </a:xfrm>
              <a:custGeom>
                <a:avLst/>
                <a:gdLst/>
                <a:ahLst/>
                <a:rect l="l" t="t" r="r" b="b"/>
                <a:pathLst>
                  <a:path w="500066" h="428628">
                    <a:moveTo>
                      <a:pt x="0" y="0"/>
                    </a:moveTo>
                    <a:lnTo>
                      <a:pt x="285752" y="0"/>
                    </a:lnTo>
                    <a:lnTo>
                      <a:pt x="500066" y="214314"/>
                    </a:lnTo>
                    <a:lnTo>
                      <a:pt x="285752" y="428628"/>
                    </a:lnTo>
                    <a:lnTo>
                      <a:pt x="0" y="428628"/>
                    </a:lnTo>
                    <a:lnTo>
                      <a:pt x="214314" y="2143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00"/>
              </a:solidFill>
              <a:ln w="25560">
                <a:solidFill>
                  <a:srgbClr val="ffffff"/>
                </a:solidFill>
                <a:round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0" name="Полилиния 35"/>
              <p:cNvSpPr/>
              <p:nvPr/>
            </p:nvSpPr>
            <p:spPr>
              <a:xfrm rot="8377200">
                <a:off x="3344400" y="2130120"/>
                <a:ext cx="285480" cy="285840"/>
              </a:xfrm>
              <a:custGeom>
                <a:avLst/>
                <a:gdLst/>
                <a:ahLst/>
                <a:rect l="l" t="t" r="r" b="b"/>
                <a:pathLst>
                  <a:path w="500066" h="428628">
                    <a:moveTo>
                      <a:pt x="0" y="0"/>
                    </a:moveTo>
                    <a:lnTo>
                      <a:pt x="285752" y="0"/>
                    </a:lnTo>
                    <a:lnTo>
                      <a:pt x="500066" y="214314"/>
                    </a:lnTo>
                    <a:lnTo>
                      <a:pt x="285752" y="428628"/>
                    </a:lnTo>
                    <a:lnTo>
                      <a:pt x="0" y="428628"/>
                    </a:lnTo>
                    <a:lnTo>
                      <a:pt x="214314" y="2143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00"/>
              </a:solidFill>
              <a:ln w="25560">
                <a:solidFill>
                  <a:srgbClr val="ffffff"/>
                </a:solidFill>
                <a:round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1" name="Полилиния 36"/>
              <p:cNvSpPr/>
              <p:nvPr/>
            </p:nvSpPr>
            <p:spPr>
              <a:xfrm rot="9884400">
                <a:off x="3604680" y="1962000"/>
                <a:ext cx="285480" cy="285840"/>
              </a:xfrm>
              <a:custGeom>
                <a:avLst/>
                <a:gdLst/>
                <a:ahLst/>
                <a:rect l="l" t="t" r="r" b="b"/>
                <a:pathLst>
                  <a:path w="500066" h="428628">
                    <a:moveTo>
                      <a:pt x="0" y="0"/>
                    </a:moveTo>
                    <a:lnTo>
                      <a:pt x="285752" y="0"/>
                    </a:lnTo>
                    <a:lnTo>
                      <a:pt x="500066" y="214314"/>
                    </a:lnTo>
                    <a:lnTo>
                      <a:pt x="285752" y="428628"/>
                    </a:lnTo>
                    <a:lnTo>
                      <a:pt x="0" y="428628"/>
                    </a:lnTo>
                    <a:lnTo>
                      <a:pt x="214314" y="2143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00"/>
              </a:solidFill>
              <a:ln w="25560">
                <a:solidFill>
                  <a:srgbClr val="ffffff"/>
                </a:solidFill>
                <a:round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362" name="Группа 63"/>
          <p:cNvGrpSpPr/>
          <p:nvPr/>
        </p:nvGrpSpPr>
        <p:grpSpPr>
          <a:xfrm>
            <a:off x="6213960" y="1929240"/>
            <a:ext cx="927720" cy="3069360"/>
            <a:chOff x="6213960" y="1929240"/>
            <a:chExt cx="927720" cy="3069360"/>
          </a:xfrm>
        </p:grpSpPr>
        <p:sp>
          <p:nvSpPr>
            <p:cNvPr id="363" name="Полилиния 37"/>
            <p:cNvSpPr/>
            <p:nvPr/>
          </p:nvSpPr>
          <p:spPr>
            <a:xfrm rot="5400000">
              <a:off x="6214680" y="2785680"/>
              <a:ext cx="28548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4" name="Полилиния 38"/>
            <p:cNvSpPr/>
            <p:nvPr/>
          </p:nvSpPr>
          <p:spPr>
            <a:xfrm rot="5400000">
              <a:off x="6214680" y="3214440"/>
              <a:ext cx="28548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5" name="Полилиния 39"/>
            <p:cNvSpPr/>
            <p:nvPr/>
          </p:nvSpPr>
          <p:spPr>
            <a:xfrm rot="5400000">
              <a:off x="6214680" y="3643200"/>
              <a:ext cx="28548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6" name="Полилиния 40"/>
            <p:cNvSpPr/>
            <p:nvPr/>
          </p:nvSpPr>
          <p:spPr>
            <a:xfrm rot="4797000">
              <a:off x="6236640" y="4024440"/>
              <a:ext cx="28548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7" name="Полилиния 41"/>
            <p:cNvSpPr/>
            <p:nvPr/>
          </p:nvSpPr>
          <p:spPr>
            <a:xfrm rot="3326400">
              <a:off x="6341040" y="4341600"/>
              <a:ext cx="28548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8" name="Полилиния 42"/>
            <p:cNvSpPr/>
            <p:nvPr/>
          </p:nvSpPr>
          <p:spPr>
            <a:xfrm rot="2116800">
              <a:off x="6546240" y="4546800"/>
              <a:ext cx="28548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9" name="Полилиния 43"/>
            <p:cNvSpPr/>
            <p:nvPr/>
          </p:nvSpPr>
          <p:spPr>
            <a:xfrm rot="985200">
              <a:off x="6821280" y="4678200"/>
              <a:ext cx="28548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0" name="Полилиния 44"/>
            <p:cNvSpPr/>
            <p:nvPr/>
          </p:nvSpPr>
          <p:spPr>
            <a:xfrm rot="6837600">
              <a:off x="6285960" y="2428200"/>
              <a:ext cx="28548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1" name="Полилиния 45"/>
            <p:cNvSpPr/>
            <p:nvPr/>
          </p:nvSpPr>
          <p:spPr>
            <a:xfrm rot="8377200">
              <a:off x="6487200" y="2129760"/>
              <a:ext cx="28548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2" name="Полилиния 46"/>
            <p:cNvSpPr/>
            <p:nvPr/>
          </p:nvSpPr>
          <p:spPr>
            <a:xfrm rot="9884400">
              <a:off x="6747840" y="1961640"/>
              <a:ext cx="285480" cy="285480"/>
            </a:xfrm>
            <a:custGeom>
              <a:avLst/>
              <a:gdLst/>
              <a:ahLst/>
              <a:rect l="l" t="t" r="r" b="b"/>
              <a:pathLst>
                <a:path w="500066" h="428628">
                  <a:moveTo>
                    <a:pt x="0" y="0"/>
                  </a:moveTo>
                  <a:lnTo>
                    <a:pt x="285752" y="0"/>
                  </a:lnTo>
                  <a:lnTo>
                    <a:pt x="500066" y="214314"/>
                  </a:lnTo>
                  <a:lnTo>
                    <a:pt x="285752" y="428628"/>
                  </a:lnTo>
                  <a:lnTo>
                    <a:pt x="0" y="428628"/>
                  </a:lnTo>
                  <a:lnTo>
                    <a:pt x="214314" y="2143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73" name="Прямоугольник 49"/>
          <p:cNvSpPr/>
          <p:nvPr/>
        </p:nvSpPr>
        <p:spPr>
          <a:xfrm>
            <a:off x="2071800" y="1285920"/>
            <a:ext cx="50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ИТЕЛЬСТВО САНКТ-ПЕТЕРБУРГА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4" name="Прямоугольник 50"/>
          <p:cNvSpPr/>
          <p:nvPr/>
        </p:nvSpPr>
        <p:spPr>
          <a:xfrm>
            <a:off x="428760" y="257184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Комитет 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по здравоохранению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5" name="Прямоугольник 51"/>
          <p:cNvSpPr/>
          <p:nvPr/>
        </p:nvSpPr>
        <p:spPr>
          <a:xfrm>
            <a:off x="3000240" y="2643120"/>
            <a:ext cx="3357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Комитет 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по информатизации и связи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6" name="Прямоугольник 52"/>
          <p:cNvSpPr/>
          <p:nvPr/>
        </p:nvSpPr>
        <p:spPr>
          <a:xfrm>
            <a:off x="6357960" y="2643120"/>
            <a:ext cx="25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Комитет 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по социальной защите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77" name="Группа 66"/>
          <p:cNvGrpSpPr/>
          <p:nvPr/>
        </p:nvGrpSpPr>
        <p:grpSpPr>
          <a:xfrm>
            <a:off x="3429000" y="4357800"/>
            <a:ext cx="2214720" cy="1806120"/>
            <a:chOff x="3429000" y="4357800"/>
            <a:chExt cx="2214720" cy="1806120"/>
          </a:xfrm>
        </p:grpSpPr>
        <p:pic>
          <p:nvPicPr>
            <p:cNvPr id="378" name="Picture 2" descr="H:\Подготовка презентации 2008\ICONS\VirtualLNK Icons\VirtualLNK Accounting Icons Collection v1.0\BMP\Regular\72x72\Bank 2 Information.bmp"/>
            <p:cNvPicPr/>
            <p:nvPr/>
          </p:nvPicPr>
          <p:blipFill>
            <a:blip r:embed="rId5"/>
            <a:stretch/>
          </p:blipFill>
          <p:spPr>
            <a:xfrm>
              <a:off x="4071960" y="4357800"/>
              <a:ext cx="785880" cy="78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Прямоугольник 54"/>
            <p:cNvSpPr/>
            <p:nvPr/>
          </p:nvSpPr>
          <p:spPr>
            <a:xfrm>
              <a:off x="3429000" y="5214960"/>
              <a:ext cx="221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СПб ИАЦ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0" name="Прямоугольник 57"/>
            <p:cNvSpPr/>
            <p:nvPr/>
          </p:nvSpPr>
          <p:spPr>
            <a:xfrm>
              <a:off x="3429000" y="5643720"/>
              <a:ext cx="2214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Информационно-аналитический центр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81" name="Группа 67"/>
          <p:cNvGrpSpPr/>
          <p:nvPr/>
        </p:nvGrpSpPr>
        <p:grpSpPr>
          <a:xfrm>
            <a:off x="6572160" y="4286160"/>
            <a:ext cx="2214720" cy="2090880"/>
            <a:chOff x="6572160" y="4286160"/>
            <a:chExt cx="2214720" cy="2090880"/>
          </a:xfrm>
        </p:grpSpPr>
        <p:pic>
          <p:nvPicPr>
            <p:cNvPr id="382" name="Picture 5" descr="H:\Подготовка презентации 2008\ICONS\VirtualLNK Icons\VirtualLNK Accounting Icons Collection v1.0\BMP\Regular\72x72\Bank 2 Add.bmp"/>
            <p:cNvPicPr/>
            <p:nvPr/>
          </p:nvPicPr>
          <p:blipFill>
            <a:blip r:embed="rId6"/>
            <a:stretch/>
          </p:blipFill>
          <p:spPr>
            <a:xfrm>
              <a:off x="7215120" y="4286160"/>
              <a:ext cx="85716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Прямоугольник 55"/>
            <p:cNvSpPr/>
            <p:nvPr/>
          </p:nvSpPr>
          <p:spPr>
            <a:xfrm>
              <a:off x="6572160" y="5214960"/>
              <a:ext cx="221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ГЦНВПП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4" name="Прямоугольник 58"/>
            <p:cNvSpPr/>
            <p:nvPr/>
          </p:nvSpPr>
          <p:spPr>
            <a:xfrm>
              <a:off x="6572160" y="5643720"/>
              <a:ext cx="22147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Городской центр по начислению и выплате пенсий и пособий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85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86" name="Группа 64"/>
          <p:cNvGrpSpPr/>
          <p:nvPr/>
        </p:nvGrpSpPr>
        <p:grpSpPr>
          <a:xfrm>
            <a:off x="500040" y="4357800"/>
            <a:ext cx="2214720" cy="1947960"/>
            <a:chOff x="500040" y="4357800"/>
            <a:chExt cx="2214720" cy="1947960"/>
          </a:xfrm>
        </p:grpSpPr>
        <p:grpSp>
          <p:nvGrpSpPr>
            <p:cNvPr id="387" name="Группа 26"/>
            <p:cNvGrpSpPr/>
            <p:nvPr/>
          </p:nvGrpSpPr>
          <p:grpSpPr>
            <a:xfrm>
              <a:off x="1143000" y="4357800"/>
              <a:ext cx="857160" cy="857160"/>
              <a:chOff x="1143000" y="4357800"/>
              <a:chExt cx="857160" cy="857160"/>
            </a:xfrm>
          </p:grpSpPr>
          <p:pic>
            <p:nvPicPr>
              <p:cNvPr id="388" name="Picture 6" descr="H:\Подготовка презентации 2008\ICONS\VirtualLNK Icons\VirtualLNK Accounting Icons Collection v1.0\BMP\Regular\72x72\Bank 2 Account.bmp"/>
              <p:cNvPicPr/>
              <p:nvPr/>
            </p:nvPicPr>
            <p:blipFill>
              <a:blip r:embed="rId7"/>
              <a:stretch/>
            </p:blipFill>
            <p:spPr>
              <a:xfrm>
                <a:off x="1143000" y="4357800"/>
                <a:ext cx="819000" cy="81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9" name="Picture 7" descr="H:\Подготовка презентации 2008\ICONS\VirtualLNK Icons\VirtualLNK Medical Icons Collection v1.0\BMP\Regular\72x72\Medical Bag 2.bmp"/>
              <p:cNvPicPr/>
              <p:nvPr/>
            </p:nvPicPr>
            <p:blipFill>
              <a:blip r:embed="rId8"/>
              <a:stretch/>
            </p:blipFill>
            <p:spPr>
              <a:xfrm>
                <a:off x="1462680" y="4677480"/>
                <a:ext cx="537480" cy="537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90" name="Прямоугольник 53"/>
            <p:cNvSpPr/>
            <p:nvPr/>
          </p:nvSpPr>
          <p:spPr>
            <a:xfrm>
              <a:off x="500040" y="5214960"/>
              <a:ext cx="221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СПб МИАЦ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1" name="Прямоугольник 56"/>
            <p:cNvSpPr/>
            <p:nvPr/>
          </p:nvSpPr>
          <p:spPr>
            <a:xfrm>
              <a:off x="500040" y="5572440"/>
              <a:ext cx="22147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Медицинский информационно-аналитический центр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392" name="Рисунок 60" descr="untitled.bmp"/>
            <p:cNvPicPr/>
            <p:nvPr/>
          </p:nvPicPr>
          <p:blipFill>
            <a:blip r:embed="rId9"/>
            <a:stretch/>
          </p:blipFill>
          <p:spPr>
            <a:xfrm>
              <a:off x="2000520" y="4357800"/>
              <a:ext cx="537480" cy="42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3" name="Двойная стрелка влево/вправо 68"/>
          <p:cNvSpPr/>
          <p:nvPr/>
        </p:nvSpPr>
        <p:spPr>
          <a:xfrm>
            <a:off x="2214720" y="5357880"/>
            <a:ext cx="4857480" cy="500040"/>
          </a:xfrm>
          <a:prstGeom prst="leftRightArrow">
            <a:avLst>
              <a:gd name="adj1" fmla="val 50000"/>
              <a:gd name="adj2" fmla="val 50010"/>
            </a:avLst>
          </a:prstGeom>
          <a:solidFill>
            <a:srgbClr val="5bace9">
              <a:alpha val="38000"/>
            </a:srgbClr>
          </a:solidFill>
          <a:ln w="25560">
            <a:solidFill>
              <a:srgbClr val="417dab">
                <a:alpha val="4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фраструктур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TextBox 8"/>
          <p:cNvSpPr/>
          <p:nvPr/>
        </p:nvSpPr>
        <p:spPr>
          <a:xfrm>
            <a:off x="214200" y="2214720"/>
            <a:ext cx="864396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Мультисервисная сеть органов государственной власти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Единая Мультисервисная Телекоммуникационная Сеть ИОГВ СПб (ЕМТС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Центр Обработки Данных учреждений здравоохранения (ЦОД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Централизованная техническая поддержка учреждений здравоохранения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Использование средств криптографической защиты информации (ЭЦП)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Центральный сервер электронной почты учреждений здравоохранения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6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97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398" name="Прямоугольник 6"/>
          <p:cNvSpPr/>
          <p:nvPr/>
        </p:nvSpPr>
        <p:spPr>
          <a:xfrm>
            <a:off x="0" y="12142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Основные компоненты инфраструктуры системы управления здравоохранением СПб: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28800" y="571320"/>
            <a:ext cx="8215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диная Мультисервисная Телекоммуникационная Сеть ИОГВ СПб (ЕМТС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00" name="Object 5" descr=""/>
          <p:cNvPicPr/>
          <p:nvPr/>
        </p:nvPicPr>
        <p:blipFill>
          <a:blip r:embed="rId1"/>
          <a:stretch/>
        </p:blipFill>
        <p:spPr>
          <a:xfrm>
            <a:off x="3000240" y="1500120"/>
            <a:ext cx="5926320" cy="4951440"/>
          </a:xfrm>
          <a:prstGeom prst="rect">
            <a:avLst/>
          </a:prstGeom>
          <a:ln w="0">
            <a:noFill/>
          </a:ln>
        </p:spPr>
      </p:pic>
      <p:sp>
        <p:nvSpPr>
          <p:cNvPr id="401" name="Прямоугольник 6"/>
          <p:cNvSpPr/>
          <p:nvPr/>
        </p:nvSpPr>
        <p:spPr>
          <a:xfrm>
            <a:off x="142920" y="1428840"/>
            <a:ext cx="492912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Оптоволоконная связь - </a:t>
            </a:r>
            <a:r>
              <a:rPr b="0" lang="en-US" sz="1400" spc="-1" strike="noStrike">
                <a:solidFill>
                  <a:srgbClr val="1d528d"/>
                </a:solidFill>
                <a:latin typeface="Arial"/>
                <a:ea typeface="Arial"/>
              </a:rPr>
              <a:t>900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точек здравоохранения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Резервный модемный пул - 480 линий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Защита данных </a:t>
            </a:r>
            <a:r>
              <a:rPr b="0" lang="en-US" sz="1400" spc="-1" strike="noStrike">
                <a:solidFill>
                  <a:srgbClr val="1d528d"/>
                </a:solidFill>
                <a:latin typeface="Arial"/>
                <a:ea typeface="Arial"/>
              </a:rPr>
              <a:t>– VipNet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Сервисы ЕМТС</a:t>
            </a:r>
            <a:r>
              <a:rPr b="0" lang="en-US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: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МИАЦ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ИАЦ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Интернет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Почтовый сервер здравоохранения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Почтовые </a:t>
            </a:r>
            <a:r>
              <a:rPr b="0" lang="en-US" sz="1400" spc="-1" strike="noStrike">
                <a:solidFill>
                  <a:srgbClr val="1d528d"/>
                </a:solidFill>
                <a:latin typeface="Arial"/>
                <a:ea typeface="Arial"/>
              </a:rPr>
              <a:t>unix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-сервера учреждений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Инф.обмен между ИС учреждений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02" name="Picture 13" descr="C:\DATA\Мои документы\Мои рисунки\293551133787556.jpg"/>
          <p:cNvPicPr/>
          <p:nvPr/>
        </p:nvPicPr>
        <p:blipFill>
          <a:blip r:embed="rId2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403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C:\Documents and Settings\Papa\Рабочий стол\urban\Stockxpert_3DBoysConceptual\Stockxpert_3DBoysConceptual\Stockxpert_3DBoysConceptual\stockxpertcom_id1995441_size5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14240" y="579240"/>
            <a:ext cx="842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Роль информатизации в системе здравоохране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Нижний колонтитул 3"/>
          <p:cNvSpPr/>
          <p:nvPr/>
        </p:nvSpPr>
        <p:spPr>
          <a:xfrm>
            <a:off x="579132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02" name="Picture 13" descr="C:\DATA\Мои документы\Мои рисунки\293551133787556.jpg"/>
          <p:cNvPicPr/>
          <p:nvPr/>
        </p:nvPicPr>
        <p:blipFill>
          <a:blip r:embed="rId2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9"/>
          <p:cNvSpPr/>
          <p:nvPr/>
        </p:nvSpPr>
        <p:spPr>
          <a:xfrm>
            <a:off x="3429000" y="1571760"/>
            <a:ext cx="5715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снова системы мониторинга за состоянием здоровья населения и демографическими показателями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3500280" y="4357800"/>
            <a:ext cx="51436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снова для оперативного принятия адекватных лечебно-диагностических решений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500280" y="3143160"/>
            <a:ext cx="5643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снова для принятия адекватных управленческих решений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6" name="Прямоугольник 12"/>
          <p:cNvSpPr/>
          <p:nvPr/>
        </p:nvSpPr>
        <p:spPr>
          <a:xfrm>
            <a:off x="285840" y="1714680"/>
            <a:ext cx="22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Государств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7" name="Прямоугольник 13"/>
          <p:cNvSpPr/>
          <p:nvPr/>
        </p:nvSpPr>
        <p:spPr>
          <a:xfrm>
            <a:off x="285840" y="4429080"/>
            <a:ext cx="22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Специалис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8" name="Прямоугольник 14"/>
          <p:cNvSpPr/>
          <p:nvPr/>
        </p:nvSpPr>
        <p:spPr>
          <a:xfrm>
            <a:off x="285840" y="3143160"/>
            <a:ext cx="25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Руководитель/собственник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9" name="Штриховая стрелка вправо 15"/>
          <p:cNvSpPr/>
          <p:nvPr/>
        </p:nvSpPr>
        <p:spPr>
          <a:xfrm>
            <a:off x="2786040" y="1714680"/>
            <a:ext cx="571680" cy="428400"/>
          </a:xfrm>
          <a:custGeom>
            <a:avLst/>
            <a:gdLst/>
            <a:ahLst/>
            <a:rect l="l" t="t" r="r" b="b"/>
            <a:pathLst>
              <a:path w="571500" h="428625">
                <a:moveTo>
                  <a:pt x="0" y="107156"/>
                </a:moveTo>
                <a:lnTo>
                  <a:pt x="13395" y="107156"/>
                </a:lnTo>
                <a:lnTo>
                  <a:pt x="13395" y="321469"/>
                </a:lnTo>
                <a:lnTo>
                  <a:pt x="0" y="321469"/>
                </a:lnTo>
                <a:lnTo>
                  <a:pt x="0" y="107156"/>
                </a:lnTo>
                <a:close/>
                <a:moveTo>
                  <a:pt x="26789" y="107156"/>
                </a:moveTo>
                <a:lnTo>
                  <a:pt x="53578" y="107156"/>
                </a:lnTo>
                <a:lnTo>
                  <a:pt x="53578" y="321469"/>
                </a:lnTo>
                <a:lnTo>
                  <a:pt x="26789" y="321469"/>
                </a:lnTo>
                <a:lnTo>
                  <a:pt x="26789" y="107156"/>
                </a:lnTo>
                <a:close/>
                <a:moveTo>
                  <a:pt x="66973" y="107156"/>
                </a:moveTo>
                <a:lnTo>
                  <a:pt x="357188" y="107156"/>
                </a:lnTo>
                <a:lnTo>
                  <a:pt x="357188" y="0"/>
                </a:lnTo>
                <a:lnTo>
                  <a:pt x="571500" y="214313"/>
                </a:lnTo>
                <a:lnTo>
                  <a:pt x="357188" y="428625"/>
                </a:lnTo>
                <a:lnTo>
                  <a:pt x="357188" y="321469"/>
                </a:lnTo>
                <a:lnTo>
                  <a:pt x="66973" y="321469"/>
                </a:lnTo>
                <a:lnTo>
                  <a:pt x="66973" y="10715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17457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0" name="Штриховая стрелка вправо 16"/>
          <p:cNvSpPr/>
          <p:nvPr/>
        </p:nvSpPr>
        <p:spPr>
          <a:xfrm>
            <a:off x="2786040" y="4500720"/>
            <a:ext cx="571680" cy="428400"/>
          </a:xfrm>
          <a:custGeom>
            <a:avLst/>
            <a:gdLst/>
            <a:ahLst/>
            <a:rect l="l" t="t" r="r" b="b"/>
            <a:pathLst>
              <a:path w="571500" h="428625">
                <a:moveTo>
                  <a:pt x="0" y="107156"/>
                </a:moveTo>
                <a:lnTo>
                  <a:pt x="13395" y="107156"/>
                </a:lnTo>
                <a:lnTo>
                  <a:pt x="13395" y="321469"/>
                </a:lnTo>
                <a:lnTo>
                  <a:pt x="0" y="321469"/>
                </a:lnTo>
                <a:lnTo>
                  <a:pt x="0" y="107156"/>
                </a:lnTo>
                <a:close/>
                <a:moveTo>
                  <a:pt x="26789" y="107156"/>
                </a:moveTo>
                <a:lnTo>
                  <a:pt x="53578" y="107156"/>
                </a:lnTo>
                <a:lnTo>
                  <a:pt x="53578" y="321469"/>
                </a:lnTo>
                <a:lnTo>
                  <a:pt x="26789" y="321469"/>
                </a:lnTo>
                <a:lnTo>
                  <a:pt x="26789" y="107156"/>
                </a:lnTo>
                <a:close/>
                <a:moveTo>
                  <a:pt x="66973" y="107156"/>
                </a:moveTo>
                <a:lnTo>
                  <a:pt x="357188" y="107156"/>
                </a:lnTo>
                <a:lnTo>
                  <a:pt x="357188" y="0"/>
                </a:lnTo>
                <a:lnTo>
                  <a:pt x="571500" y="214313"/>
                </a:lnTo>
                <a:lnTo>
                  <a:pt x="357188" y="428625"/>
                </a:lnTo>
                <a:lnTo>
                  <a:pt x="357188" y="321469"/>
                </a:lnTo>
                <a:lnTo>
                  <a:pt x="66973" y="321469"/>
                </a:lnTo>
                <a:lnTo>
                  <a:pt x="66973" y="10715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17457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1" name="Штриховая стрелка вправо 17"/>
          <p:cNvSpPr/>
          <p:nvPr/>
        </p:nvSpPr>
        <p:spPr>
          <a:xfrm>
            <a:off x="2786040" y="3214800"/>
            <a:ext cx="571680" cy="428400"/>
          </a:xfrm>
          <a:custGeom>
            <a:avLst/>
            <a:gdLst/>
            <a:ahLst/>
            <a:rect l="l" t="t" r="r" b="b"/>
            <a:pathLst>
              <a:path w="571500" h="428625">
                <a:moveTo>
                  <a:pt x="0" y="107156"/>
                </a:moveTo>
                <a:lnTo>
                  <a:pt x="13395" y="107156"/>
                </a:lnTo>
                <a:lnTo>
                  <a:pt x="13395" y="321469"/>
                </a:lnTo>
                <a:lnTo>
                  <a:pt x="0" y="321469"/>
                </a:lnTo>
                <a:lnTo>
                  <a:pt x="0" y="107156"/>
                </a:lnTo>
                <a:close/>
                <a:moveTo>
                  <a:pt x="26789" y="107156"/>
                </a:moveTo>
                <a:lnTo>
                  <a:pt x="53578" y="107156"/>
                </a:lnTo>
                <a:lnTo>
                  <a:pt x="53578" y="321469"/>
                </a:lnTo>
                <a:lnTo>
                  <a:pt x="26789" y="321469"/>
                </a:lnTo>
                <a:lnTo>
                  <a:pt x="26789" y="107156"/>
                </a:lnTo>
                <a:close/>
                <a:moveTo>
                  <a:pt x="66973" y="107156"/>
                </a:moveTo>
                <a:lnTo>
                  <a:pt x="357188" y="107156"/>
                </a:lnTo>
                <a:lnTo>
                  <a:pt x="357188" y="0"/>
                </a:lnTo>
                <a:lnTo>
                  <a:pt x="571500" y="214313"/>
                </a:lnTo>
                <a:lnTo>
                  <a:pt x="357188" y="428625"/>
                </a:lnTo>
                <a:lnTo>
                  <a:pt x="357188" y="321469"/>
                </a:lnTo>
                <a:lnTo>
                  <a:pt x="66973" y="321469"/>
                </a:lnTo>
                <a:lnTo>
                  <a:pt x="66973" y="10715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17457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5791320" y="6537240"/>
            <a:ext cx="3352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Sokos «Olimpic Garden», 26 </a:t>
            </a:r>
            <a:r>
              <a:rPr b="0" lang="ru-RU" sz="1000" spc="-1" strike="noStrike">
                <a:solidFill>
                  <a:srgbClr val="1d528d"/>
                </a:solidFill>
                <a:latin typeface="Verdana"/>
              </a:rPr>
              <a:t>марта 2009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indefinite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indefinite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indefinite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indefinite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6"/>
          <p:cNvSpPr/>
          <p:nvPr/>
        </p:nvSpPr>
        <p:spPr>
          <a:xfrm>
            <a:off x="0" y="1428840"/>
            <a:ext cx="9144000" cy="1523880"/>
          </a:xfrm>
          <a:prstGeom prst="rect">
            <a:avLst/>
          </a:prstGeom>
          <a:solidFill>
            <a:srgbClr val="006699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Ряд задач управления системой здравоохране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07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408" name="AutoShape 3"/>
          <p:cNvSpPr/>
          <p:nvPr/>
        </p:nvSpPr>
        <p:spPr>
          <a:xfrm>
            <a:off x="428760" y="2143080"/>
            <a:ext cx="2700360" cy="3500640"/>
          </a:xfrm>
          <a:custGeom>
            <a:avLst/>
            <a:gdLst>
              <a:gd name="textAreaLeft" fmla="*/ 37080 w 2700360"/>
              <a:gd name="textAreaRight" fmla="*/ 2663280 w 2700360"/>
              <a:gd name="textAreaTop" fmla="*/ 37080 h 3500640"/>
              <a:gd name="textAreaBottom" fmla="*/ 3463560 h 3500640"/>
            </a:gdLst>
            <a:ahLst/>
            <a:rect l="textAreaLeft" t="textAreaTop" r="textAreaRight" b="textAreaBottom"/>
            <a:pathLst>
              <a:path w="21600" h="28001">
                <a:moveTo>
                  <a:pt x="1013" y="0"/>
                </a:moveTo>
                <a:arcTo wR="1013" hR="1013" stAng="16200000" swAng="-5400000"/>
                <a:lnTo>
                  <a:pt x="0" y="26988"/>
                </a:lnTo>
                <a:arcTo wR="1013" hR="1013" stAng="10800000" swAng="-5400000"/>
                <a:lnTo>
                  <a:pt x="20587" y="28001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gradFill rotWithShape="0">
            <a:gsLst>
              <a:gs pos="0">
                <a:srgbClr val="3bb6cf"/>
              </a:gs>
              <a:gs pos="100000">
                <a:srgbClr val="41b8d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9" name="AutoShape 5"/>
          <p:cNvSpPr/>
          <p:nvPr/>
        </p:nvSpPr>
        <p:spPr>
          <a:xfrm>
            <a:off x="3357720" y="2143080"/>
            <a:ext cx="2571480" cy="3500640"/>
          </a:xfrm>
          <a:custGeom>
            <a:avLst/>
            <a:gdLst>
              <a:gd name="textAreaLeft" fmla="*/ 35280 w 2571480"/>
              <a:gd name="textAreaRight" fmla="*/ 2536200 w 2571480"/>
              <a:gd name="textAreaTop" fmla="*/ 35280 h 3500640"/>
              <a:gd name="textAreaBottom" fmla="*/ 3465360 h 3500640"/>
            </a:gdLst>
            <a:ahLst/>
            <a:rect l="textAreaLeft" t="textAreaTop" r="textAreaRight" b="textAreaBottom"/>
            <a:pathLst>
              <a:path w="21600" h="29404">
                <a:moveTo>
                  <a:pt x="1013" y="0"/>
                </a:moveTo>
                <a:arcTo wR="1013" hR="1013" stAng="16200000" swAng="-5400000"/>
                <a:lnTo>
                  <a:pt x="0" y="28391"/>
                </a:lnTo>
                <a:arcTo wR="1013" hR="1013" stAng="10800000" swAng="-5400000"/>
                <a:lnTo>
                  <a:pt x="20587" y="29404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gradFill rotWithShape="0">
            <a:gsLst>
              <a:gs pos="0">
                <a:srgbClr val="5da4eb"/>
              </a:gs>
              <a:gs pos="100000">
                <a:srgbClr val="4f8bc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0" name="AutoShape 6"/>
          <p:cNvSpPr/>
          <p:nvPr/>
        </p:nvSpPr>
        <p:spPr>
          <a:xfrm>
            <a:off x="6143760" y="2143080"/>
            <a:ext cx="2500200" cy="3500640"/>
          </a:xfrm>
          <a:custGeom>
            <a:avLst/>
            <a:gdLst>
              <a:gd name="textAreaLeft" fmla="*/ 34200 w 2500200"/>
              <a:gd name="textAreaRight" fmla="*/ 2466000 w 2500200"/>
              <a:gd name="textAreaTop" fmla="*/ 34200 h 3500640"/>
              <a:gd name="textAreaBottom" fmla="*/ 3466440 h 3500640"/>
            </a:gdLst>
            <a:ahLst/>
            <a:rect l="textAreaLeft" t="textAreaTop" r="textAreaRight" b="textAreaBottom"/>
            <a:pathLst>
              <a:path w="21600" h="30242">
                <a:moveTo>
                  <a:pt x="1013" y="0"/>
                </a:moveTo>
                <a:arcTo wR="1013" hR="1013" stAng="16200000" swAng="-5400000"/>
                <a:lnTo>
                  <a:pt x="0" y="29229"/>
                </a:lnTo>
                <a:arcTo wR="1013" hR="1013" stAng="10800000" swAng="-5400000"/>
                <a:lnTo>
                  <a:pt x="20587" y="30242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gradFill rotWithShape="0">
            <a:gsLst>
              <a:gs pos="0">
                <a:srgbClr val="3366cc"/>
              </a:gs>
              <a:gs pos="100000">
                <a:srgbClr val="2c58b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1" name="Text Box 10"/>
          <p:cNvSpPr/>
          <p:nvPr/>
        </p:nvSpPr>
        <p:spPr>
          <a:xfrm>
            <a:off x="714240" y="235728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Контроль эффективности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2" name="Text Box 11"/>
          <p:cNvSpPr/>
          <p:nvPr/>
        </p:nvSpPr>
        <p:spPr>
          <a:xfrm>
            <a:off x="3500280" y="242892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нформационная открытость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3" name="Text Box 12"/>
          <p:cNvSpPr/>
          <p:nvPr/>
        </p:nvSpPr>
        <p:spPr>
          <a:xfrm>
            <a:off x="6215040" y="2286000"/>
            <a:ext cx="221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тандартизация административных регламентов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4" name="Пятиугольник 38"/>
          <p:cNvSpPr/>
          <p:nvPr/>
        </p:nvSpPr>
        <p:spPr>
          <a:xfrm>
            <a:off x="571680" y="4000680"/>
            <a:ext cx="2357280" cy="428400"/>
          </a:xfrm>
          <a:custGeom>
            <a:avLst/>
            <a:gdLst>
              <a:gd name="textAreaLeft" fmla="*/ 0 w 2357280"/>
              <a:gd name="textAreaRight" fmla="*/ 2357640 w 235728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36" y="0"/>
                </a:lnTo>
                <a:lnTo>
                  <a:pt x="21600" y="10800"/>
                </a:lnTo>
                <a:lnTo>
                  <a:pt x="196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Мониторинг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5" name="Пятиугольник 39"/>
          <p:cNvSpPr/>
          <p:nvPr/>
        </p:nvSpPr>
        <p:spPr>
          <a:xfrm>
            <a:off x="571680" y="5000760"/>
            <a:ext cx="2357280" cy="428400"/>
          </a:xfrm>
          <a:custGeom>
            <a:avLst/>
            <a:gdLst>
              <a:gd name="textAreaLeft" fmla="*/ 0 w 2357280"/>
              <a:gd name="textAreaRight" fmla="*/ 2357640 w 235728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36" y="0"/>
                </a:lnTo>
                <a:lnTo>
                  <a:pt x="21600" y="10800"/>
                </a:lnTo>
                <a:lnTo>
                  <a:pt x="196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Отчеты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6" name="Пятиугольник 40"/>
          <p:cNvSpPr/>
          <p:nvPr/>
        </p:nvSpPr>
        <p:spPr>
          <a:xfrm>
            <a:off x="571680" y="4500720"/>
            <a:ext cx="2357280" cy="428400"/>
          </a:xfrm>
          <a:custGeom>
            <a:avLst/>
            <a:gdLst>
              <a:gd name="textAreaLeft" fmla="*/ 0 w 2357280"/>
              <a:gd name="textAreaRight" fmla="*/ 2357640 w 235728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36" y="0"/>
                </a:lnTo>
                <a:lnTo>
                  <a:pt x="21600" y="10800"/>
                </a:lnTo>
                <a:lnTo>
                  <a:pt x="196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Анализ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7" name="Пятиугольник 41"/>
          <p:cNvSpPr/>
          <p:nvPr/>
        </p:nvSpPr>
        <p:spPr>
          <a:xfrm>
            <a:off x="571680" y="3500280"/>
            <a:ext cx="2357280" cy="428760"/>
          </a:xfrm>
          <a:custGeom>
            <a:avLst/>
            <a:gdLst>
              <a:gd name="textAreaLeft" fmla="*/ 0 w 2357280"/>
              <a:gd name="textAreaRight" fmla="*/ 2357640 w 235728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36" y="0"/>
                </a:lnTo>
                <a:lnTo>
                  <a:pt x="21600" y="10800"/>
                </a:lnTo>
                <a:lnTo>
                  <a:pt x="196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Сбор и хранение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8" name="Пятиугольник 42"/>
          <p:cNvSpPr/>
          <p:nvPr/>
        </p:nvSpPr>
        <p:spPr>
          <a:xfrm flipH="1">
            <a:off x="6285960" y="4000680"/>
            <a:ext cx="2214360" cy="428400"/>
          </a:xfrm>
          <a:custGeom>
            <a:avLst/>
            <a:gdLst>
              <a:gd name="textAreaLeft" fmla="*/ -360 w 2214360"/>
              <a:gd name="textAreaRight" fmla="*/ 2214360 w 221436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10" y="0"/>
                </a:lnTo>
                <a:lnTo>
                  <a:pt x="21600" y="10800"/>
                </a:lnTo>
                <a:lnTo>
                  <a:pt x="195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Методология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9" name="Пятиугольник 43"/>
          <p:cNvSpPr/>
          <p:nvPr/>
        </p:nvSpPr>
        <p:spPr>
          <a:xfrm flipH="1">
            <a:off x="6285960" y="4500720"/>
            <a:ext cx="2214360" cy="428400"/>
          </a:xfrm>
          <a:custGeom>
            <a:avLst/>
            <a:gdLst>
              <a:gd name="textAreaLeft" fmla="*/ -360 w 2214360"/>
              <a:gd name="textAreaRight" fmla="*/ 2214360 w 221436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10" y="0"/>
                </a:lnTo>
                <a:lnTo>
                  <a:pt x="21600" y="10800"/>
                </a:lnTo>
                <a:lnTo>
                  <a:pt x="195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Поддержка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0" name="Пятиугольник 44"/>
          <p:cNvSpPr/>
          <p:nvPr/>
        </p:nvSpPr>
        <p:spPr>
          <a:xfrm flipH="1">
            <a:off x="6285960" y="5000760"/>
            <a:ext cx="2214360" cy="428400"/>
          </a:xfrm>
          <a:custGeom>
            <a:avLst/>
            <a:gdLst>
              <a:gd name="textAreaLeft" fmla="*/ -360 w 2214360"/>
              <a:gd name="textAreaRight" fmla="*/ 2214360 w 221436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10" y="0"/>
                </a:lnTo>
                <a:lnTo>
                  <a:pt x="21600" y="10800"/>
                </a:lnTo>
                <a:lnTo>
                  <a:pt x="195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Безопасность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1" name="Пятиугольник 45"/>
          <p:cNvSpPr/>
          <p:nvPr/>
        </p:nvSpPr>
        <p:spPr>
          <a:xfrm flipH="1">
            <a:off x="6285960" y="3500280"/>
            <a:ext cx="2214360" cy="428760"/>
          </a:xfrm>
          <a:custGeom>
            <a:avLst/>
            <a:gdLst>
              <a:gd name="textAreaLeft" fmla="*/ -360 w 2214360"/>
              <a:gd name="textAreaRight" fmla="*/ 2214360 w 221436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10" y="0"/>
                </a:lnTo>
                <a:lnTo>
                  <a:pt x="21600" y="10800"/>
                </a:lnTo>
                <a:lnTo>
                  <a:pt x="195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Репозитарии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2" name="Блок-схема: процесс 46"/>
          <p:cNvSpPr/>
          <p:nvPr/>
        </p:nvSpPr>
        <p:spPr>
          <a:xfrm>
            <a:off x="3571920" y="4071960"/>
            <a:ext cx="2143080" cy="428760"/>
          </a:xfrm>
          <a:prstGeom prst="flowChartProcess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Доступность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3" name="Блок-схема: процесс 47"/>
          <p:cNvSpPr/>
          <p:nvPr/>
        </p:nvSpPr>
        <p:spPr>
          <a:xfrm>
            <a:off x="3571920" y="4572000"/>
            <a:ext cx="2143080" cy="428760"/>
          </a:xfrm>
          <a:prstGeom prst="flowChartProcess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Мобильность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4" name="Text Box 11"/>
          <p:cNvSpPr/>
          <p:nvPr/>
        </p:nvSpPr>
        <p:spPr>
          <a:xfrm>
            <a:off x="2214720" y="1428840"/>
            <a:ext cx="48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Государственная услуга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5" name="Блок-схема: процесс 49"/>
          <p:cNvSpPr/>
          <p:nvPr/>
        </p:nvSpPr>
        <p:spPr>
          <a:xfrm>
            <a:off x="3571920" y="5072040"/>
            <a:ext cx="2143080" cy="428760"/>
          </a:xfrm>
          <a:prstGeom prst="flowChartProcess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Обратная связь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6"/>
          <p:cNvSpPr/>
          <p:nvPr/>
        </p:nvSpPr>
        <p:spPr>
          <a:xfrm>
            <a:off x="0" y="1428840"/>
            <a:ext cx="9144000" cy="1523880"/>
          </a:xfrm>
          <a:prstGeom prst="rect">
            <a:avLst/>
          </a:prstGeom>
          <a:solidFill>
            <a:srgbClr val="006699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Ряд задач управления системой здравоохране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29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430" name="AutoShape 3"/>
          <p:cNvSpPr/>
          <p:nvPr/>
        </p:nvSpPr>
        <p:spPr>
          <a:xfrm>
            <a:off x="428760" y="2143080"/>
            <a:ext cx="2700360" cy="3500640"/>
          </a:xfrm>
          <a:custGeom>
            <a:avLst/>
            <a:gdLst>
              <a:gd name="textAreaLeft" fmla="*/ 37080 w 2700360"/>
              <a:gd name="textAreaRight" fmla="*/ 2663280 w 2700360"/>
              <a:gd name="textAreaTop" fmla="*/ 37080 h 3500640"/>
              <a:gd name="textAreaBottom" fmla="*/ 3463560 h 3500640"/>
            </a:gdLst>
            <a:ahLst/>
            <a:rect l="textAreaLeft" t="textAreaTop" r="textAreaRight" b="textAreaBottom"/>
            <a:pathLst>
              <a:path w="21600" h="28001">
                <a:moveTo>
                  <a:pt x="1013" y="0"/>
                </a:moveTo>
                <a:arcTo wR="1013" hR="1013" stAng="16200000" swAng="-5400000"/>
                <a:lnTo>
                  <a:pt x="0" y="26988"/>
                </a:lnTo>
                <a:arcTo wR="1013" hR="1013" stAng="10800000" swAng="-5400000"/>
                <a:lnTo>
                  <a:pt x="20587" y="28001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gradFill rotWithShape="0">
            <a:gsLst>
              <a:gs pos="0">
                <a:srgbClr val="3bb6cf"/>
              </a:gs>
              <a:gs pos="100000">
                <a:srgbClr val="41b8d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1" name="Text Box 10"/>
          <p:cNvSpPr/>
          <p:nvPr/>
        </p:nvSpPr>
        <p:spPr>
          <a:xfrm>
            <a:off x="714240" y="235728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Контроль эффективности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2" name="Пятиугольник 25"/>
          <p:cNvSpPr/>
          <p:nvPr/>
        </p:nvSpPr>
        <p:spPr>
          <a:xfrm>
            <a:off x="571680" y="4000680"/>
            <a:ext cx="2357280" cy="428400"/>
          </a:xfrm>
          <a:custGeom>
            <a:avLst/>
            <a:gdLst>
              <a:gd name="textAreaLeft" fmla="*/ 0 w 2357280"/>
              <a:gd name="textAreaRight" fmla="*/ 2357640 w 235728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36" y="0"/>
                </a:lnTo>
                <a:lnTo>
                  <a:pt x="21600" y="10800"/>
                </a:lnTo>
                <a:lnTo>
                  <a:pt x="196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Мониторинг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3" name="Пятиугольник 26"/>
          <p:cNvSpPr/>
          <p:nvPr/>
        </p:nvSpPr>
        <p:spPr>
          <a:xfrm>
            <a:off x="571680" y="5000760"/>
            <a:ext cx="2357280" cy="428400"/>
          </a:xfrm>
          <a:custGeom>
            <a:avLst/>
            <a:gdLst>
              <a:gd name="textAreaLeft" fmla="*/ 0 w 2357280"/>
              <a:gd name="textAreaRight" fmla="*/ 2357640 w 235728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36" y="0"/>
                </a:lnTo>
                <a:lnTo>
                  <a:pt x="21600" y="10800"/>
                </a:lnTo>
                <a:lnTo>
                  <a:pt x="196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Отчеты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4" name="Пятиугольник 27"/>
          <p:cNvSpPr/>
          <p:nvPr/>
        </p:nvSpPr>
        <p:spPr>
          <a:xfrm>
            <a:off x="571680" y="4500720"/>
            <a:ext cx="2357280" cy="428400"/>
          </a:xfrm>
          <a:custGeom>
            <a:avLst/>
            <a:gdLst>
              <a:gd name="textAreaLeft" fmla="*/ 0 w 2357280"/>
              <a:gd name="textAreaRight" fmla="*/ 2357640 w 235728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36" y="0"/>
                </a:lnTo>
                <a:lnTo>
                  <a:pt x="21600" y="10800"/>
                </a:lnTo>
                <a:lnTo>
                  <a:pt x="196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Анализ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5" name="Пятиугольник 28"/>
          <p:cNvSpPr/>
          <p:nvPr/>
        </p:nvSpPr>
        <p:spPr>
          <a:xfrm>
            <a:off x="571680" y="3500280"/>
            <a:ext cx="2357280" cy="428760"/>
          </a:xfrm>
          <a:custGeom>
            <a:avLst/>
            <a:gdLst>
              <a:gd name="textAreaLeft" fmla="*/ 0 w 2357280"/>
              <a:gd name="textAreaRight" fmla="*/ 2357640 w 235728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36" y="0"/>
                </a:lnTo>
                <a:lnTo>
                  <a:pt x="21600" y="10800"/>
                </a:lnTo>
                <a:lnTo>
                  <a:pt x="196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Сбор и хранение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6" name="Прямоугольник 12"/>
          <p:cNvSpPr/>
          <p:nvPr/>
        </p:nvSpPr>
        <p:spPr>
          <a:xfrm>
            <a:off x="3433320" y="3143160"/>
            <a:ext cx="567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«Повышение доступности и качества мед.помощи»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7" name="AutoShape 14"/>
          <p:cNvSpPr/>
          <p:nvPr/>
        </p:nvSpPr>
        <p:spPr>
          <a:xfrm>
            <a:off x="5715000" y="3500280"/>
            <a:ext cx="534960" cy="987480"/>
          </a:xfrm>
          <a:prstGeom prst="upArrow">
            <a:avLst>
              <a:gd name="adj1" fmla="val 78306"/>
              <a:gd name="adj2" fmla="val 48173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8" name="Прямоугольник 16"/>
          <p:cNvSpPr/>
          <p:nvPr/>
        </p:nvSpPr>
        <p:spPr>
          <a:xfrm>
            <a:off x="4234680" y="4429080"/>
            <a:ext cx="43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Эффективность работы органов гос.власти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39" name="Группа 36"/>
          <p:cNvGrpSpPr/>
          <p:nvPr/>
        </p:nvGrpSpPr>
        <p:grpSpPr>
          <a:xfrm>
            <a:off x="6858000" y="3429360"/>
            <a:ext cx="1615320" cy="1101960"/>
            <a:chOff x="6858000" y="3429360"/>
            <a:chExt cx="1615320" cy="1101960"/>
          </a:xfrm>
        </p:grpSpPr>
        <p:sp>
          <p:nvSpPr>
            <p:cNvPr id="440" name="AutoShape 14"/>
            <p:cNvSpPr/>
            <p:nvPr/>
          </p:nvSpPr>
          <p:spPr>
            <a:xfrm rot="18749400">
              <a:off x="7135200" y="3465720"/>
              <a:ext cx="534240" cy="987480"/>
            </a:xfrm>
            <a:prstGeom prst="upArrow">
              <a:avLst>
                <a:gd name="adj1" fmla="val 78306"/>
                <a:gd name="adj2" fmla="val 48238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825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1" name="Прямоугольник 17"/>
            <p:cNvSpPr/>
            <p:nvPr/>
          </p:nvSpPr>
          <p:spPr>
            <a:xfrm>
              <a:off x="7434720" y="4072320"/>
              <a:ext cx="1038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1d528d"/>
                  </a:solidFill>
                  <a:latin typeface="Arial"/>
                  <a:ea typeface="Arial"/>
                </a:rPr>
                <a:t>задача </a:t>
              </a:r>
              <a:r>
                <a:rPr b="0" lang="en-US" sz="1600" spc="-1" strike="noStrike">
                  <a:solidFill>
                    <a:srgbClr val="1d528d"/>
                  </a:solidFill>
                  <a:latin typeface="Arial"/>
                  <a:ea typeface="Arial"/>
                </a:rPr>
                <a:t>N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42" name="Группа 35"/>
          <p:cNvGrpSpPr/>
          <p:nvPr/>
        </p:nvGrpSpPr>
        <p:grpSpPr>
          <a:xfrm>
            <a:off x="3862800" y="3429000"/>
            <a:ext cx="1146600" cy="1071000"/>
            <a:chOff x="3862800" y="3429000"/>
            <a:chExt cx="1146600" cy="1071000"/>
          </a:xfrm>
        </p:grpSpPr>
        <p:sp>
          <p:nvSpPr>
            <p:cNvPr id="443" name="AutoShape 14"/>
            <p:cNvSpPr/>
            <p:nvPr/>
          </p:nvSpPr>
          <p:spPr>
            <a:xfrm rot="2750400">
              <a:off x="4201560" y="3470760"/>
              <a:ext cx="534600" cy="986760"/>
            </a:xfrm>
            <a:prstGeom prst="upArrow">
              <a:avLst>
                <a:gd name="adj1" fmla="val 78306"/>
                <a:gd name="adj2" fmla="val 48170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265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4" name="Прямоугольник 18"/>
            <p:cNvSpPr/>
            <p:nvPr/>
          </p:nvSpPr>
          <p:spPr>
            <a:xfrm>
              <a:off x="3862800" y="4000320"/>
              <a:ext cx="1005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1d528d"/>
                  </a:solidFill>
                  <a:latin typeface="Arial"/>
                  <a:ea typeface="Arial"/>
                </a:rPr>
                <a:t>задача 1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45" name="AutoShape 14"/>
          <p:cNvSpPr/>
          <p:nvPr/>
        </p:nvSpPr>
        <p:spPr>
          <a:xfrm>
            <a:off x="5786280" y="4857840"/>
            <a:ext cx="535320" cy="987480"/>
          </a:xfrm>
          <a:prstGeom prst="upArrow">
            <a:avLst>
              <a:gd name="adj1" fmla="val 78306"/>
              <a:gd name="adj2" fmla="val 48140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46" name="Группа 37"/>
          <p:cNvGrpSpPr/>
          <p:nvPr/>
        </p:nvGrpSpPr>
        <p:grpSpPr>
          <a:xfrm>
            <a:off x="3651840" y="4786560"/>
            <a:ext cx="1439640" cy="1071000"/>
            <a:chOff x="3651840" y="4786560"/>
            <a:chExt cx="1439640" cy="1071000"/>
          </a:xfrm>
        </p:grpSpPr>
        <p:sp>
          <p:nvSpPr>
            <p:cNvPr id="447" name="AutoShape 14"/>
            <p:cNvSpPr/>
            <p:nvPr/>
          </p:nvSpPr>
          <p:spPr>
            <a:xfrm rot="2750400">
              <a:off x="4273200" y="4828320"/>
              <a:ext cx="534240" cy="987120"/>
            </a:xfrm>
            <a:prstGeom prst="upArrow">
              <a:avLst>
                <a:gd name="adj1" fmla="val 78306"/>
                <a:gd name="adj2" fmla="val 48220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265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8" name="Прямоугольник 32"/>
            <p:cNvSpPr/>
            <p:nvPr/>
          </p:nvSpPr>
          <p:spPr>
            <a:xfrm>
              <a:off x="3651840" y="5357880"/>
              <a:ext cx="1439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1d528d"/>
                  </a:solidFill>
                  <a:latin typeface="Arial"/>
                  <a:ea typeface="Arial"/>
                </a:rPr>
                <a:t>инструмент 1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49" name="Группа 38"/>
          <p:cNvGrpSpPr/>
          <p:nvPr/>
        </p:nvGrpSpPr>
        <p:grpSpPr>
          <a:xfrm>
            <a:off x="6929280" y="4786920"/>
            <a:ext cx="1481760" cy="1101600"/>
            <a:chOff x="6929280" y="4786920"/>
            <a:chExt cx="1481760" cy="1101600"/>
          </a:xfrm>
        </p:grpSpPr>
        <p:sp>
          <p:nvSpPr>
            <p:cNvPr id="450" name="AutoShape 14"/>
            <p:cNvSpPr/>
            <p:nvPr/>
          </p:nvSpPr>
          <p:spPr>
            <a:xfrm rot="18749400">
              <a:off x="7206120" y="4823640"/>
              <a:ext cx="534240" cy="986760"/>
            </a:xfrm>
            <a:prstGeom prst="upArrow">
              <a:avLst>
                <a:gd name="adj1" fmla="val 78306"/>
                <a:gd name="adj2" fmla="val 48202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825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1" name="Прямоугольник 33"/>
            <p:cNvSpPr/>
            <p:nvPr/>
          </p:nvSpPr>
          <p:spPr>
            <a:xfrm>
              <a:off x="6938280" y="5429520"/>
              <a:ext cx="1472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1d528d"/>
                  </a:solidFill>
                  <a:latin typeface="Arial"/>
                  <a:ea typeface="Arial"/>
                </a:rPr>
                <a:t>инструмент </a:t>
              </a:r>
              <a:r>
                <a:rPr b="0" lang="en-US" sz="1600" spc="-1" strike="noStrike">
                  <a:solidFill>
                    <a:srgbClr val="1d528d"/>
                  </a:solidFill>
                  <a:latin typeface="Arial"/>
                  <a:ea typeface="Arial"/>
                </a:rPr>
                <a:t>N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52" name="Прямоугольник 34"/>
          <p:cNvSpPr/>
          <p:nvPr/>
        </p:nvSpPr>
        <p:spPr>
          <a:xfrm>
            <a:off x="5506560" y="5500800"/>
            <a:ext cx="1148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Контроль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8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ниторинг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214200" y="1342800"/>
            <a:ext cx="8786880" cy="51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buClr>
                <a:srgbClr val="6e71f0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Государственное медицинское статистическое наблюдение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6e71f0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Мониторинг оценки эффективности деятельности исполнительных органов власти в СПб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6e71f0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Мониторинг взаимодействия исполнительных органов власти в СПб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6e71f0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Мониторинг Национального проекта «Здоровье»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6e71f0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Мониторинг социально-экономического развития СПб ( в т. ч. районов СПб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6e71f0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Мониторинг стандартов проживания в СПб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6e71f0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Социально-гигиенический мониторинг в СПб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5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56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457" name="AutoShape 3"/>
          <p:cNvSpPr/>
          <p:nvPr/>
        </p:nvSpPr>
        <p:spPr>
          <a:xfrm flipV="1">
            <a:off x="2643120" y="3142440"/>
            <a:ext cx="3929040" cy="2357640"/>
          </a:xfrm>
          <a:prstGeom prst="upArrow">
            <a:avLst>
              <a:gd name="adj1" fmla="val 73769"/>
              <a:gd name="adj2" fmla="val 32588"/>
            </a:avLst>
          </a:prstGeom>
          <a:gradFill rotWithShape="0">
            <a:gsLst>
              <a:gs pos="0">
                <a:srgbClr val="4090e8">
                  <a:alpha val="3215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8" name="Прямоугольник 6"/>
          <p:cNvSpPr/>
          <p:nvPr/>
        </p:nvSpPr>
        <p:spPr>
          <a:xfrm>
            <a:off x="500040" y="5500800"/>
            <a:ext cx="83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Аналитические системы класса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Arial"/>
              </a:rPr>
              <a:t>Business Intelligence </a:t>
            </a: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и сопутствующие методические наработки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4"/>
          <p:cNvSpPr/>
          <p:nvPr/>
        </p:nvSpPr>
        <p:spPr>
          <a:xfrm flipH="1">
            <a:off x="0" y="3786120"/>
            <a:ext cx="9144000" cy="714600"/>
          </a:xfrm>
          <a:prstGeom prst="rect">
            <a:avLst/>
          </a:prstGeom>
          <a:gradFill rotWithShape="0">
            <a:gsLst>
              <a:gs pos="0">
                <a:srgbClr val="ffffff">
                  <a:alpha val="80000"/>
                </a:srgbClr>
              </a:gs>
              <a:gs pos="100000">
                <a:srgbClr val="ff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0" name="Rectangle 10"/>
          <p:cNvSpPr/>
          <p:nvPr/>
        </p:nvSpPr>
        <p:spPr>
          <a:xfrm flipH="1">
            <a:off x="0" y="1214280"/>
            <a:ext cx="9144000" cy="714600"/>
          </a:xfrm>
          <a:prstGeom prst="rect">
            <a:avLst/>
          </a:prstGeom>
          <a:gradFill rotWithShape="0">
            <a:gsLst>
              <a:gs pos="0">
                <a:srgbClr val="ffffff">
                  <a:alpha val="80000"/>
                </a:srgbClr>
              </a:gs>
              <a:gs pos="100000">
                <a:srgbClr val="93b1f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ртальные технологи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TextBox 8"/>
          <p:cNvSpPr/>
          <p:nvPr/>
        </p:nvSpPr>
        <p:spPr>
          <a:xfrm>
            <a:off x="285840" y="1357200"/>
            <a:ext cx="8643960" cy="55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Система информационного взаимодействия учреждений здравоохранения Санкт-Петербурга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Задачи: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Организация взаимодействия с учреждениями здравоохранения и ИОГВ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Формирование и ведение централизованного ресурса мониторинга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Анализ материалов информационного ресурса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Формирование результатов в виде отчетов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Портал проектов управления здравоохранением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Задачи: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Система управления документооборотом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Управление проектами в здравоохранении Санкт-Петербурга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Общегородской календарь мероприятий в здравоохранении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Телефонный справочник системы здравоохранения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Поиск информации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3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64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071360" y="571320"/>
            <a:ext cx="78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истема информационного взаимодействия учреждений здравоохранения Санкт-Петербург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TextBox 8"/>
          <p:cNvSpPr/>
          <p:nvPr/>
        </p:nvSpPr>
        <p:spPr>
          <a:xfrm>
            <a:off x="214200" y="1214280"/>
            <a:ext cx="8929800" cy="53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Рабочий стол организатора здравоохранения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  <a:ea typeface="Arial"/>
              </a:rPr>
              <a:t>Календарь мероприятий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  <a:ea typeface="Arial"/>
              </a:rPr>
              <a:t>Сбор данных (анкетирование)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200" spc="-1" strike="noStrike">
                <a:solidFill>
                  <a:srgbClr val="1d528d"/>
                </a:solidFill>
                <a:latin typeface="Arial"/>
                <a:ea typeface="Arial"/>
              </a:rPr>
              <a:t>Библиотека копий распоряжений и приказов ТОУЗ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Виртуальный кабинет Главного специалиста ТОУЗ по направлениям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Информационная система по работе с обращениями граждан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Информационная система учета потребности и планирования закупок оборудования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Справочники и классификаторы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Каталог/репозитарий веб-сервисов (</a:t>
            </a:r>
            <a:r>
              <a:rPr b="0" lang="en-US" sz="1400" spc="-1" strike="noStrike">
                <a:solidFill>
                  <a:srgbClr val="1d528d"/>
                </a:solidFill>
                <a:latin typeface="Arial"/>
                <a:ea typeface="Arial"/>
              </a:rPr>
              <a:t>UDDI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)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Информационный сервис по мониторингу эпидемиологической ситуации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Узел Льготного Лекарственного Обеспечения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Информационный сервис регистрации летальности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Справочные службы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  <a:ea typeface="Arial"/>
              </a:rPr>
              <a:t>Фармацевтическая справочная служб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  <a:ea typeface="Arial"/>
              </a:rPr>
              <a:t>Медицинская справочная служб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Репозитарий интерактивных схем документооборота в системе здравоохранения Санкт-Петербурга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d528d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Техническая поддержка (</a:t>
            </a:r>
            <a:r>
              <a:rPr b="0" lang="en-US" sz="1400" spc="-1" strike="noStrike">
                <a:solidFill>
                  <a:srgbClr val="1d528d"/>
                </a:solidFill>
                <a:latin typeface="Arial"/>
                <a:ea typeface="Arial"/>
              </a:rPr>
              <a:t>Service Desk)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 учреждений здравоохранения Санкт-Петербурга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7" name="Нижний колонтитул 4"/>
          <p:cNvSpPr/>
          <p:nvPr/>
        </p:nvSpPr>
        <p:spPr>
          <a:xfrm>
            <a:off x="3743280" y="6500880"/>
            <a:ext cx="54007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68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1071720" y="571680"/>
            <a:ext cx="80722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екты внедрения СЭД в ЛПУ районов города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70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471" name="Нижний колонтитул 13"/>
          <p:cNvSpPr/>
          <p:nvPr/>
        </p:nvSpPr>
        <p:spPr>
          <a:xfrm>
            <a:off x="5791320" y="6537240"/>
            <a:ext cx="3352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2" name="Прямоугольник 14"/>
          <p:cNvSpPr/>
          <p:nvPr/>
        </p:nvSpPr>
        <p:spPr>
          <a:xfrm>
            <a:off x="428760" y="1500120"/>
            <a:ext cx="8429400" cy="45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Внедрение СЭД обеспечит повышение эффективности работы учреждений здравоохранения и ИОГВ, повышение эффективности межведомственного взаимодействия и работ по приему писем и обращений граждан за счет: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Создания автоматизированной информационной системы обеспечивающей: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533520" indent="-76320">
              <a:lnSpc>
                <a:spcPct val="100000"/>
              </a:lnSpc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автоматизированный учет документов ИОГВ;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533520" indent="-76320">
              <a:lnSpc>
                <a:spcPct val="100000"/>
              </a:lnSpc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доступ к документам в соответствии с компетенцией участников документооборота;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Обеспечения автоматизированного контроля исполнения документов и поручений: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533520" indent="-76320">
              <a:lnSpc>
                <a:spcPct val="100000"/>
              </a:lnSpc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автоматизированная рассылка в электронном виде контрольных документов и поручений;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533520" indent="-76320">
              <a:lnSpc>
                <a:spcPct val="100000"/>
              </a:lnSpc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автоматизированная рассылка в электронном виде уведомлений о нарушении сроков исполнения документов и поручений.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474" name="Нижний колонтитул 13"/>
          <p:cNvSpPr/>
          <p:nvPr/>
        </p:nvSpPr>
        <p:spPr>
          <a:xfrm>
            <a:off x="5791320" y="6537240"/>
            <a:ext cx="3352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5" name="Прямоугольник 14"/>
          <p:cNvSpPr/>
          <p:nvPr/>
        </p:nvSpPr>
        <p:spPr>
          <a:xfrm>
            <a:off x="428760" y="1500120"/>
            <a:ext cx="842940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Цели проекта: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</a:rPr>
              <a:t>Сокращение сроков рассмотрения и исполнения служебных документов, поручений руководителей, писем и устных обращений граждан;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</a:rPr>
              <a:t>Сокращение сроков согласования проектов рабочих и распорядительных документов.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Мероприятия</a:t>
            </a:r>
            <a:r>
              <a:rPr b="0" lang="ru-RU" sz="16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проекта: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</a:rPr>
              <a:t>Для достижения поставленных целей необходимо решить следующие основные задачи: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</a:rPr>
              <a:t>обеспечить учет и контроль движения документов;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</a:rPr>
              <a:t>внедрить единую сквозную технологию контроля исполнения документов;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</a:rPr>
              <a:t>исключить при передаче документов между участниками документооборота необходимость повторного, ручного ввода первичной регистрационной информации о документах, которые включены в СЭД;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</a:rPr>
              <a:t>обеспечить информационную поддержку принятия управляющих решений на основе оперативного доступа сотрудников учреждений здравоохранения и ИОГВ к любому документу, входящему в область их компетенции;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6" name="Rectangle 2"/>
          <p:cNvSpPr/>
          <p:nvPr/>
        </p:nvSpPr>
        <p:spPr>
          <a:xfrm>
            <a:off x="1071720" y="571680"/>
            <a:ext cx="80722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екты внедрения СЭД в ЛПУ районов города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6"/>
          <p:cNvSpPr/>
          <p:nvPr/>
        </p:nvSpPr>
        <p:spPr>
          <a:xfrm>
            <a:off x="0" y="1428840"/>
            <a:ext cx="9144000" cy="1523880"/>
          </a:xfrm>
          <a:prstGeom prst="rect">
            <a:avLst/>
          </a:prstGeom>
          <a:solidFill>
            <a:srgbClr val="006699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Ряд задач управления системой здравоохране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80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481" name="AutoShape 6"/>
          <p:cNvSpPr/>
          <p:nvPr/>
        </p:nvSpPr>
        <p:spPr>
          <a:xfrm>
            <a:off x="6143760" y="2143080"/>
            <a:ext cx="2500200" cy="3500640"/>
          </a:xfrm>
          <a:custGeom>
            <a:avLst/>
            <a:gdLst>
              <a:gd name="textAreaLeft" fmla="*/ 34200 w 2500200"/>
              <a:gd name="textAreaRight" fmla="*/ 2466000 w 2500200"/>
              <a:gd name="textAreaTop" fmla="*/ 34200 h 3500640"/>
              <a:gd name="textAreaBottom" fmla="*/ 3466440 h 3500640"/>
            </a:gdLst>
            <a:ahLst/>
            <a:rect l="textAreaLeft" t="textAreaTop" r="textAreaRight" b="textAreaBottom"/>
            <a:pathLst>
              <a:path w="21600" h="30242">
                <a:moveTo>
                  <a:pt x="1013" y="0"/>
                </a:moveTo>
                <a:arcTo wR="1013" hR="1013" stAng="16200000" swAng="-5400000"/>
                <a:lnTo>
                  <a:pt x="0" y="29229"/>
                </a:lnTo>
                <a:arcTo wR="1013" hR="1013" stAng="10800000" swAng="-5400000"/>
                <a:lnTo>
                  <a:pt x="20587" y="30242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gradFill rotWithShape="0">
            <a:gsLst>
              <a:gs pos="0">
                <a:srgbClr val="3366cc"/>
              </a:gs>
              <a:gs pos="100000">
                <a:srgbClr val="2c58b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2" name="Text Box 12"/>
          <p:cNvSpPr/>
          <p:nvPr/>
        </p:nvSpPr>
        <p:spPr>
          <a:xfrm>
            <a:off x="6215040" y="2286000"/>
            <a:ext cx="221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тандартизация административных регламентов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3" name="Пятиугольник 42"/>
          <p:cNvSpPr/>
          <p:nvPr/>
        </p:nvSpPr>
        <p:spPr>
          <a:xfrm flipH="1">
            <a:off x="6285960" y="4000680"/>
            <a:ext cx="2214360" cy="428400"/>
          </a:xfrm>
          <a:custGeom>
            <a:avLst/>
            <a:gdLst>
              <a:gd name="textAreaLeft" fmla="*/ -360 w 2214360"/>
              <a:gd name="textAreaRight" fmla="*/ 2214360 w 221436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10" y="0"/>
                </a:lnTo>
                <a:lnTo>
                  <a:pt x="21600" y="10800"/>
                </a:lnTo>
                <a:lnTo>
                  <a:pt x="195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Методология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4" name="Пятиугольник 43"/>
          <p:cNvSpPr/>
          <p:nvPr/>
        </p:nvSpPr>
        <p:spPr>
          <a:xfrm flipH="1">
            <a:off x="6285960" y="4500720"/>
            <a:ext cx="2214360" cy="428400"/>
          </a:xfrm>
          <a:custGeom>
            <a:avLst/>
            <a:gdLst>
              <a:gd name="textAreaLeft" fmla="*/ -360 w 2214360"/>
              <a:gd name="textAreaRight" fmla="*/ 2214360 w 221436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10" y="0"/>
                </a:lnTo>
                <a:lnTo>
                  <a:pt x="21600" y="10800"/>
                </a:lnTo>
                <a:lnTo>
                  <a:pt x="195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Поддержка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5" name="Пятиугольник 44"/>
          <p:cNvSpPr/>
          <p:nvPr/>
        </p:nvSpPr>
        <p:spPr>
          <a:xfrm flipH="1">
            <a:off x="6285960" y="5000760"/>
            <a:ext cx="2214360" cy="428400"/>
          </a:xfrm>
          <a:custGeom>
            <a:avLst/>
            <a:gdLst>
              <a:gd name="textAreaLeft" fmla="*/ -360 w 2214360"/>
              <a:gd name="textAreaRight" fmla="*/ 2214360 w 221436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10" y="0"/>
                </a:lnTo>
                <a:lnTo>
                  <a:pt x="21600" y="10800"/>
                </a:lnTo>
                <a:lnTo>
                  <a:pt x="195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Безопасность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6" name="Пятиугольник 45"/>
          <p:cNvSpPr/>
          <p:nvPr/>
        </p:nvSpPr>
        <p:spPr>
          <a:xfrm flipH="1">
            <a:off x="6285960" y="3500280"/>
            <a:ext cx="2214360" cy="428760"/>
          </a:xfrm>
          <a:custGeom>
            <a:avLst/>
            <a:gdLst>
              <a:gd name="textAreaLeft" fmla="*/ -360 w 2214360"/>
              <a:gd name="textAreaRight" fmla="*/ 2214360 w 221436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10" y="0"/>
                </a:lnTo>
                <a:lnTo>
                  <a:pt x="21600" y="10800"/>
                </a:lnTo>
                <a:lnTo>
                  <a:pt x="195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Репозитарий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7" name="Прямоугольник 11"/>
          <p:cNvSpPr/>
          <p:nvPr/>
        </p:nvSpPr>
        <p:spPr>
          <a:xfrm>
            <a:off x="285840" y="3143160"/>
            <a:ext cx="4714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1d528d"/>
                </a:solidFill>
                <a:latin typeface="Arial"/>
                <a:ea typeface="Arial"/>
              </a:rPr>
              <a:t>SOA </a:t>
            </a: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архитектура решений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1d528d"/>
                </a:solidFill>
                <a:latin typeface="Arial"/>
                <a:ea typeface="Arial"/>
              </a:rPr>
              <a:t>XML </a:t>
            </a: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формат обмена данными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Управление проектами (</a:t>
            </a:r>
            <a:r>
              <a:rPr b="0" lang="en-US" sz="1600" spc="-1" strike="noStrike">
                <a:solidFill>
                  <a:srgbClr val="1d528d"/>
                </a:solidFill>
                <a:latin typeface="Arial"/>
                <a:ea typeface="Arial"/>
              </a:rPr>
              <a:t>PMI PMBOK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Создание централизованной тех.поддержки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Использование ЭЦП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OA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архитектура решений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89" name="Picture 3" descr="F:\Подготовка презентации 2008\ICONS\Crystal_Clear_Icons\Crystal Clear Icons\kblackbox.png"/>
          <p:cNvPicPr/>
          <p:nvPr/>
        </p:nvPicPr>
        <p:blipFill>
          <a:blip r:embed="rId1"/>
          <a:stretch/>
        </p:blipFill>
        <p:spPr>
          <a:xfrm>
            <a:off x="6715080" y="142884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5" descr="F:\Подготовка презентации 2008\ICONS\Crystal_Clear_Icons\Crystal Clear Icons\display.png"/>
          <p:cNvPicPr/>
          <p:nvPr/>
        </p:nvPicPr>
        <p:blipFill>
          <a:blip r:embed="rId2"/>
          <a:stretch/>
        </p:blipFill>
        <p:spPr>
          <a:xfrm>
            <a:off x="571680" y="2357280"/>
            <a:ext cx="838080" cy="838440"/>
          </a:xfrm>
          <a:prstGeom prst="rect">
            <a:avLst/>
          </a:prstGeom>
          <a:ln w="0">
            <a:noFill/>
          </a:ln>
        </p:spPr>
      </p:pic>
      <p:grpSp>
        <p:nvGrpSpPr>
          <p:cNvPr id="491" name="Group 6"/>
          <p:cNvGrpSpPr/>
          <p:nvPr/>
        </p:nvGrpSpPr>
        <p:grpSpPr>
          <a:xfrm>
            <a:off x="928800" y="3286080"/>
            <a:ext cx="2885760" cy="444240"/>
            <a:chOff x="928800" y="3286080"/>
            <a:chExt cx="2885760" cy="444240"/>
          </a:xfrm>
        </p:grpSpPr>
        <p:sp>
          <p:nvSpPr>
            <p:cNvPr id="492" name="AutoShape 7"/>
            <p:cNvSpPr/>
            <p:nvPr/>
          </p:nvSpPr>
          <p:spPr>
            <a:xfrm>
              <a:off x="928800" y="3286080"/>
              <a:ext cx="2885760" cy="444240"/>
            </a:xfrm>
            <a:prstGeom prst="roundRect">
              <a:avLst>
                <a:gd name="adj" fmla="val 27917"/>
              </a:avLst>
            </a:prstGeom>
            <a:solidFill>
              <a:srgbClr val="7bb11b"/>
            </a:solidFill>
            <a:ln w="0">
              <a:noFill/>
            </a:ln>
            <a:effectLst>
              <a:outerShdw dist="12600" dir="54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3" name="AutoShape 8"/>
            <p:cNvSpPr/>
            <p:nvPr/>
          </p:nvSpPr>
          <p:spPr>
            <a:xfrm>
              <a:off x="948240" y="3289680"/>
              <a:ext cx="2845440" cy="199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7bb11b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94" name="Group 9"/>
          <p:cNvGrpSpPr/>
          <p:nvPr/>
        </p:nvGrpSpPr>
        <p:grpSpPr>
          <a:xfrm>
            <a:off x="927000" y="3875040"/>
            <a:ext cx="2885760" cy="444240"/>
            <a:chOff x="927000" y="3875040"/>
            <a:chExt cx="2885760" cy="444240"/>
          </a:xfrm>
        </p:grpSpPr>
        <p:sp>
          <p:nvSpPr>
            <p:cNvPr id="495" name="AutoShape 10"/>
            <p:cNvSpPr/>
            <p:nvPr/>
          </p:nvSpPr>
          <p:spPr>
            <a:xfrm>
              <a:off x="927000" y="3875040"/>
              <a:ext cx="2885760" cy="444240"/>
            </a:xfrm>
            <a:prstGeom prst="roundRect">
              <a:avLst>
                <a:gd name="adj" fmla="val 27917"/>
              </a:avLst>
            </a:prstGeom>
            <a:solidFill>
              <a:srgbClr val="ff7c80"/>
            </a:solidFill>
            <a:ln w="0">
              <a:noFill/>
            </a:ln>
            <a:effectLst>
              <a:outerShdw dist="12600" dir="54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6" name="AutoShape 11"/>
            <p:cNvSpPr/>
            <p:nvPr/>
          </p:nvSpPr>
          <p:spPr>
            <a:xfrm>
              <a:off x="946440" y="3878640"/>
              <a:ext cx="2845440" cy="199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ff7c8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97" name="Rectangle 29"/>
          <p:cNvSpPr/>
          <p:nvPr/>
        </p:nvSpPr>
        <p:spPr>
          <a:xfrm>
            <a:off x="956880" y="3349800"/>
            <a:ext cx="194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Поддержка врача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8" name="Rectangle 30"/>
          <p:cNvSpPr/>
          <p:nvPr/>
        </p:nvSpPr>
        <p:spPr>
          <a:xfrm>
            <a:off x="956160" y="3921120"/>
            <a:ext cx="23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Управленческий учёт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99" name="Group 6"/>
          <p:cNvGrpSpPr/>
          <p:nvPr/>
        </p:nvGrpSpPr>
        <p:grpSpPr>
          <a:xfrm>
            <a:off x="949320" y="4421160"/>
            <a:ext cx="2885760" cy="444240"/>
            <a:chOff x="949320" y="4421160"/>
            <a:chExt cx="2885760" cy="444240"/>
          </a:xfrm>
        </p:grpSpPr>
        <p:sp>
          <p:nvSpPr>
            <p:cNvPr id="500" name="AutoShape 7"/>
            <p:cNvSpPr/>
            <p:nvPr/>
          </p:nvSpPr>
          <p:spPr>
            <a:xfrm>
              <a:off x="949320" y="4421160"/>
              <a:ext cx="2885760" cy="444240"/>
            </a:xfrm>
            <a:prstGeom prst="roundRect">
              <a:avLst>
                <a:gd name="adj" fmla="val 27917"/>
              </a:avLst>
            </a:prstGeom>
            <a:solidFill>
              <a:srgbClr val="7bb11b"/>
            </a:solidFill>
            <a:ln w="0">
              <a:noFill/>
            </a:ln>
            <a:effectLst>
              <a:outerShdw dist="12600" dir="54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1" name="AutoShape 8"/>
            <p:cNvSpPr/>
            <p:nvPr/>
          </p:nvSpPr>
          <p:spPr>
            <a:xfrm>
              <a:off x="968760" y="4424760"/>
              <a:ext cx="2845440" cy="199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7bb11b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502" name="Group 9"/>
          <p:cNvGrpSpPr/>
          <p:nvPr/>
        </p:nvGrpSpPr>
        <p:grpSpPr>
          <a:xfrm>
            <a:off x="947880" y="5010120"/>
            <a:ext cx="2885400" cy="444240"/>
            <a:chOff x="947880" y="5010120"/>
            <a:chExt cx="2885400" cy="444240"/>
          </a:xfrm>
        </p:grpSpPr>
        <p:sp>
          <p:nvSpPr>
            <p:cNvPr id="503" name="AutoShape 10"/>
            <p:cNvSpPr/>
            <p:nvPr/>
          </p:nvSpPr>
          <p:spPr>
            <a:xfrm>
              <a:off x="947880" y="5010120"/>
              <a:ext cx="2885400" cy="444240"/>
            </a:xfrm>
            <a:prstGeom prst="roundRect">
              <a:avLst>
                <a:gd name="adj" fmla="val 27917"/>
              </a:avLst>
            </a:prstGeom>
            <a:solidFill>
              <a:srgbClr val="ff7c80"/>
            </a:solidFill>
            <a:ln w="0">
              <a:noFill/>
            </a:ln>
            <a:effectLst>
              <a:outerShdw dist="12600" dir="54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4" name="AutoShape 11"/>
            <p:cNvSpPr/>
            <p:nvPr/>
          </p:nvSpPr>
          <p:spPr>
            <a:xfrm>
              <a:off x="967320" y="5013720"/>
              <a:ext cx="2845080" cy="199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ff7c8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05" name="Rectangle 29"/>
          <p:cNvSpPr/>
          <p:nvPr/>
        </p:nvSpPr>
        <p:spPr>
          <a:xfrm>
            <a:off x="983880" y="4484520"/>
            <a:ext cx="229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Статистический учёт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06" name="Rectangle 30"/>
          <p:cNvSpPr/>
          <p:nvPr/>
        </p:nvSpPr>
        <p:spPr>
          <a:xfrm>
            <a:off x="981360" y="5056200"/>
            <a:ext cx="199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Финансовый учёт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07" name="Group 6"/>
          <p:cNvGrpSpPr/>
          <p:nvPr/>
        </p:nvGrpSpPr>
        <p:grpSpPr>
          <a:xfrm>
            <a:off x="969840" y="5556240"/>
            <a:ext cx="2885760" cy="444240"/>
            <a:chOff x="969840" y="5556240"/>
            <a:chExt cx="2885760" cy="444240"/>
          </a:xfrm>
        </p:grpSpPr>
        <p:sp>
          <p:nvSpPr>
            <p:cNvPr id="508" name="AutoShape 7"/>
            <p:cNvSpPr/>
            <p:nvPr/>
          </p:nvSpPr>
          <p:spPr>
            <a:xfrm>
              <a:off x="969840" y="5556240"/>
              <a:ext cx="2885760" cy="444240"/>
            </a:xfrm>
            <a:prstGeom prst="roundRect">
              <a:avLst>
                <a:gd name="adj" fmla="val 27917"/>
              </a:avLst>
            </a:prstGeom>
            <a:solidFill>
              <a:srgbClr val="7bb11b"/>
            </a:solidFill>
            <a:ln w="0">
              <a:noFill/>
            </a:ln>
            <a:effectLst>
              <a:outerShdw dist="12600" dir="54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9" name="AutoShape 8"/>
            <p:cNvSpPr/>
            <p:nvPr/>
          </p:nvSpPr>
          <p:spPr>
            <a:xfrm>
              <a:off x="989280" y="5559840"/>
              <a:ext cx="2845440" cy="199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7bb11b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10" name="Rectangle 29"/>
          <p:cNvSpPr/>
          <p:nvPr/>
        </p:nvSpPr>
        <p:spPr>
          <a:xfrm>
            <a:off x="993960" y="5619600"/>
            <a:ext cx="91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Прочее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1" name="AutoShape 5"/>
          <p:cNvSpPr/>
          <p:nvPr/>
        </p:nvSpPr>
        <p:spPr>
          <a:xfrm>
            <a:off x="357120" y="1357200"/>
            <a:ext cx="4214880" cy="5072040"/>
          </a:xfrm>
          <a:custGeom>
            <a:avLst/>
            <a:gdLst>
              <a:gd name="textAreaLeft" fmla="*/ 42840 w 4214880"/>
              <a:gd name="textAreaRight" fmla="*/ 4172040 w 4214880"/>
              <a:gd name="textAreaTop" fmla="*/ 42840 h 5072040"/>
              <a:gd name="textAreaBottom" fmla="*/ 5029200 h 5072040"/>
            </a:gdLst>
            <a:ahLst/>
            <a:rect l="textAreaLeft" t="textAreaTop" r="textAreaRight" b="textAreaBottom"/>
            <a:pathLst>
              <a:path w="21600" h="25992">
                <a:moveTo>
                  <a:pt x="752" y="0"/>
                </a:moveTo>
                <a:arcTo wR="752" hR="752" stAng="16200000" swAng="-5400000"/>
                <a:lnTo>
                  <a:pt x="0" y="25240"/>
                </a:lnTo>
                <a:arcTo wR="752" hR="752" stAng="10800000" swAng="-5400000"/>
                <a:lnTo>
                  <a:pt x="20848" y="25992"/>
                </a:lnTo>
                <a:arcTo wR="752" hR="752" stAng="5400000" swAng="-5400000"/>
                <a:lnTo>
                  <a:pt x="21600" y="752"/>
                </a:lnTo>
                <a:arcTo wR="752" hR="752" stAng="0" swAng="-5400000"/>
                <a:close/>
              </a:path>
            </a:pathLst>
          </a:custGeom>
          <a:noFill/>
          <a:ln cap="rnd" w="190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2" name="TextBox 45"/>
          <p:cNvSpPr/>
          <p:nvPr/>
        </p:nvSpPr>
        <p:spPr>
          <a:xfrm>
            <a:off x="1441440" y="2357280"/>
            <a:ext cx="21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Медицинская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Информационная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Система (МИС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13" name="Picture 3" descr="F:\Подготовка презентации 2008\ICONS\Crystal_Clear_Icons\Crystal Clear Icons\kblackbox.png"/>
          <p:cNvPicPr/>
          <p:nvPr/>
        </p:nvPicPr>
        <p:blipFill>
          <a:blip r:embed="rId3"/>
          <a:stretch/>
        </p:blipFill>
        <p:spPr>
          <a:xfrm>
            <a:off x="6786720" y="314316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3" descr="F:\Подготовка презентации 2008\ICONS\Crystal_Clear_Icons\Crystal Clear Icons\kblackbox.png"/>
          <p:cNvPicPr/>
          <p:nvPr/>
        </p:nvPicPr>
        <p:blipFill>
          <a:blip r:embed="rId4"/>
          <a:stretch/>
        </p:blipFill>
        <p:spPr>
          <a:xfrm>
            <a:off x="6786720" y="4857840"/>
            <a:ext cx="1218960" cy="12189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48"/>
          <p:cNvSpPr/>
          <p:nvPr/>
        </p:nvSpPr>
        <p:spPr>
          <a:xfrm>
            <a:off x="6222600" y="2643120"/>
            <a:ext cx="210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  <a:ea typeface="Arial"/>
              </a:rPr>
              <a:t>Государственные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  <a:ea typeface="Arial"/>
              </a:rPr>
              <a:t>информационные систем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6" name="TextBox 49"/>
          <p:cNvSpPr/>
          <p:nvPr/>
        </p:nvSpPr>
        <p:spPr>
          <a:xfrm>
            <a:off x="6294240" y="4357800"/>
            <a:ext cx="210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  <a:ea typeface="Arial"/>
              </a:rPr>
              <a:t>Общегородские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  <a:ea typeface="Arial"/>
              </a:rPr>
              <a:t>информационные системы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7" name="TextBox 50"/>
          <p:cNvSpPr/>
          <p:nvPr/>
        </p:nvSpPr>
        <p:spPr>
          <a:xfrm>
            <a:off x="6006240" y="6072120"/>
            <a:ext cx="287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528d"/>
                </a:solidFill>
                <a:latin typeface="Arial"/>
                <a:ea typeface="Arial"/>
              </a:rPr>
              <a:t>Нормативно справочная информац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18" name="Picture 8" descr="F:\Подготовка презентации 2008\ICONS\VirtualLNK Icons\VirtualLNK Medical Icons Collection v1.0\BMP\Regular\72x72\Hospital.bmp"/>
          <p:cNvPicPr/>
          <p:nvPr/>
        </p:nvPicPr>
        <p:blipFill>
          <a:blip r:embed="rId5"/>
          <a:stretch/>
        </p:blipFill>
        <p:spPr>
          <a:xfrm>
            <a:off x="571680" y="1571760"/>
            <a:ext cx="714240" cy="714240"/>
          </a:xfrm>
          <a:prstGeom prst="rect">
            <a:avLst/>
          </a:prstGeom>
          <a:ln w="0">
            <a:noFill/>
          </a:ln>
        </p:spPr>
      </p:pic>
      <p:sp>
        <p:nvSpPr>
          <p:cNvPr id="519" name="TextBox 55"/>
          <p:cNvSpPr/>
          <p:nvPr/>
        </p:nvSpPr>
        <p:spPr>
          <a:xfrm>
            <a:off x="1158480" y="1357200"/>
            <a:ext cx="305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Учреждение здравоохранения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0" name="Стрелка вправо 56"/>
          <p:cNvSpPr/>
          <p:nvPr/>
        </p:nvSpPr>
        <p:spPr>
          <a:xfrm>
            <a:off x="4071960" y="1785960"/>
            <a:ext cx="2479680" cy="142920"/>
          </a:xfrm>
          <a:prstGeom prst="rightArrow">
            <a:avLst>
              <a:gd name="adj1" fmla="val 50000"/>
              <a:gd name="adj2" fmla="val 49962"/>
            </a:avLst>
          </a:prstGeom>
          <a:solidFill>
            <a:srgbClr val="336699"/>
          </a:solidFill>
          <a:ln w="9360">
            <a:solidFill>
              <a:srgbClr val="55a9e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1" name="Стрелка вправо 57"/>
          <p:cNvSpPr/>
          <p:nvPr/>
        </p:nvSpPr>
        <p:spPr>
          <a:xfrm rot="10800000">
            <a:off x="4071960" y="2142720"/>
            <a:ext cx="2479680" cy="142920"/>
          </a:xfrm>
          <a:prstGeom prst="rightArrow">
            <a:avLst>
              <a:gd name="adj1" fmla="val 50000"/>
              <a:gd name="adj2" fmla="val 49962"/>
            </a:avLst>
          </a:prstGeom>
          <a:solidFill>
            <a:srgbClr val="336699"/>
          </a:solidFill>
          <a:ln w="9360">
            <a:solidFill>
              <a:srgbClr val="55a9e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22" name="Picture 6" descr="F:\Подготовка презентации 2008\ICONS\Crystal_Clear_Icons\Crystal Clear Icons\playlist.png"/>
          <p:cNvPicPr/>
          <p:nvPr/>
        </p:nvPicPr>
        <p:blipFill>
          <a:blip r:embed="rId6"/>
          <a:stretch/>
        </p:blipFill>
        <p:spPr>
          <a:xfrm>
            <a:off x="4857840" y="2000160"/>
            <a:ext cx="571320" cy="571680"/>
          </a:xfrm>
          <a:prstGeom prst="rect">
            <a:avLst/>
          </a:prstGeom>
          <a:ln w="0">
            <a:noFill/>
          </a:ln>
        </p:spPr>
      </p:pic>
      <p:sp>
        <p:nvSpPr>
          <p:cNvPr id="523" name="TextBox 58"/>
          <p:cNvSpPr/>
          <p:nvPr/>
        </p:nvSpPr>
        <p:spPr>
          <a:xfrm>
            <a:off x="4570200" y="2500200"/>
            <a:ext cx="106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Регламент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4" name="Стрелка вправо 62"/>
          <p:cNvSpPr/>
          <p:nvPr/>
        </p:nvSpPr>
        <p:spPr>
          <a:xfrm>
            <a:off x="4143240" y="3571920"/>
            <a:ext cx="2387880" cy="142920"/>
          </a:xfrm>
          <a:prstGeom prst="rightArrow">
            <a:avLst>
              <a:gd name="adj1" fmla="val 50000"/>
              <a:gd name="adj2" fmla="val 49969"/>
            </a:avLst>
          </a:prstGeom>
          <a:solidFill>
            <a:srgbClr val="336699"/>
          </a:solidFill>
          <a:ln w="9360">
            <a:solidFill>
              <a:srgbClr val="55a9e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5" name="Стрелка вправо 63"/>
          <p:cNvSpPr/>
          <p:nvPr/>
        </p:nvSpPr>
        <p:spPr>
          <a:xfrm rot="10800000">
            <a:off x="4071960" y="3928680"/>
            <a:ext cx="2479680" cy="142920"/>
          </a:xfrm>
          <a:prstGeom prst="rightArrow">
            <a:avLst>
              <a:gd name="adj1" fmla="val 50000"/>
              <a:gd name="adj2" fmla="val 49962"/>
            </a:avLst>
          </a:prstGeom>
          <a:solidFill>
            <a:srgbClr val="336699"/>
          </a:solidFill>
          <a:ln w="9360">
            <a:solidFill>
              <a:srgbClr val="55a9e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26" name="Picture 6" descr="F:\Подготовка презентации 2008\ICONS\Crystal_Clear_Icons\Crystal Clear Icons\playlist.png"/>
          <p:cNvPicPr/>
          <p:nvPr/>
        </p:nvPicPr>
        <p:blipFill>
          <a:blip r:embed="rId7"/>
          <a:stretch/>
        </p:blipFill>
        <p:spPr>
          <a:xfrm>
            <a:off x="4857840" y="3786120"/>
            <a:ext cx="571320" cy="571680"/>
          </a:xfrm>
          <a:prstGeom prst="rect">
            <a:avLst/>
          </a:prstGeom>
          <a:ln w="0">
            <a:noFill/>
          </a:ln>
        </p:spPr>
      </p:pic>
      <p:sp>
        <p:nvSpPr>
          <p:cNvPr id="527" name="TextBox 65"/>
          <p:cNvSpPr/>
          <p:nvPr/>
        </p:nvSpPr>
        <p:spPr>
          <a:xfrm>
            <a:off x="4570200" y="4286160"/>
            <a:ext cx="106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Регламент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8" name="Стрелка вправо 66"/>
          <p:cNvSpPr/>
          <p:nvPr/>
        </p:nvSpPr>
        <p:spPr>
          <a:xfrm>
            <a:off x="4143240" y="5143680"/>
            <a:ext cx="2571840" cy="142560"/>
          </a:xfrm>
          <a:prstGeom prst="rightArrow">
            <a:avLst>
              <a:gd name="adj1" fmla="val 50000"/>
              <a:gd name="adj2" fmla="val 50112"/>
            </a:avLst>
          </a:prstGeom>
          <a:solidFill>
            <a:srgbClr val="336699"/>
          </a:solidFill>
          <a:ln w="9360">
            <a:solidFill>
              <a:srgbClr val="55a9e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9" name="Стрелка вправо 67"/>
          <p:cNvSpPr/>
          <p:nvPr/>
        </p:nvSpPr>
        <p:spPr>
          <a:xfrm rot="10800000">
            <a:off x="4143240" y="5500440"/>
            <a:ext cx="257184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336699"/>
          </a:solidFill>
          <a:ln w="9360">
            <a:solidFill>
              <a:srgbClr val="55a9e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30" name="Picture 6" descr="F:\Подготовка презентации 2008\ICONS\Crystal_Clear_Icons\Crystal Clear Icons\playlist.png"/>
          <p:cNvPicPr/>
          <p:nvPr/>
        </p:nvPicPr>
        <p:blipFill>
          <a:blip r:embed="rId8"/>
          <a:stretch/>
        </p:blipFill>
        <p:spPr>
          <a:xfrm>
            <a:off x="4857840" y="535788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531" name="TextBox 69"/>
          <p:cNvSpPr/>
          <p:nvPr/>
        </p:nvSpPr>
        <p:spPr>
          <a:xfrm>
            <a:off x="4570200" y="5857920"/>
            <a:ext cx="106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Регламент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32" name="Picture 13" descr="C:\DATA\Мои документы\Мои рисунки\293551133787556.jpg"/>
          <p:cNvPicPr/>
          <p:nvPr/>
        </p:nvPicPr>
        <p:blipFill>
          <a:blip r:embed="rId9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533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535" name="AutoShape 3"/>
          <p:cNvSpPr/>
          <p:nvPr/>
        </p:nvSpPr>
        <p:spPr>
          <a:xfrm flipV="1">
            <a:off x="1509840" y="1413360"/>
            <a:ext cx="6248160" cy="4876920"/>
          </a:xfrm>
          <a:prstGeom prst="upArrow">
            <a:avLst>
              <a:gd name="adj1" fmla="val 73769"/>
              <a:gd name="adj2" fmla="val 32588"/>
            </a:avLst>
          </a:prstGeom>
          <a:gradFill rotWithShape="0">
            <a:gsLst>
              <a:gs pos="0">
                <a:srgbClr val="4090e8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6" name="AutoShape 5"/>
          <p:cNvSpPr/>
          <p:nvPr/>
        </p:nvSpPr>
        <p:spPr>
          <a:xfrm flipV="1">
            <a:off x="2500200" y="1642680"/>
            <a:ext cx="4267440" cy="3657600"/>
          </a:xfrm>
          <a:prstGeom prst="upArrow">
            <a:avLst>
              <a:gd name="adj1" fmla="val 72694"/>
              <a:gd name="adj2" fmla="val 33931"/>
            </a:avLst>
          </a:prstGeom>
          <a:gradFill rotWithShape="0">
            <a:gsLst>
              <a:gs pos="0">
                <a:srgbClr val="0066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7" name="AutoShape 7"/>
          <p:cNvSpPr/>
          <p:nvPr/>
        </p:nvSpPr>
        <p:spPr>
          <a:xfrm flipV="1">
            <a:off x="5929200" y="1571760"/>
            <a:ext cx="2643480" cy="2071440"/>
          </a:xfrm>
          <a:prstGeom prst="upArrow">
            <a:avLst>
              <a:gd name="adj1" fmla="val 78306"/>
              <a:gd name="adj2" fmla="val 48213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8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9" name="AutoShape 7"/>
          <p:cNvSpPr/>
          <p:nvPr/>
        </p:nvSpPr>
        <p:spPr>
          <a:xfrm flipV="1">
            <a:off x="3286080" y="1571760"/>
            <a:ext cx="2643120" cy="2071440"/>
          </a:xfrm>
          <a:prstGeom prst="upArrow">
            <a:avLst>
              <a:gd name="adj1" fmla="val 78306"/>
              <a:gd name="adj2" fmla="val 48213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0" name="AutoShape 7"/>
          <p:cNvSpPr/>
          <p:nvPr/>
        </p:nvSpPr>
        <p:spPr>
          <a:xfrm flipV="1">
            <a:off x="642960" y="1571760"/>
            <a:ext cx="2643120" cy="2071440"/>
          </a:xfrm>
          <a:prstGeom prst="upArrow">
            <a:avLst>
              <a:gd name="adj1" fmla="val 78306"/>
              <a:gd name="adj2" fmla="val 48213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етодолог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2" name="Text Box 15"/>
          <p:cNvSpPr/>
          <p:nvPr/>
        </p:nvSpPr>
        <p:spPr>
          <a:xfrm flipV="1" rot="10800000">
            <a:off x="785880" y="1713600"/>
            <a:ext cx="2357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Управление проектами на базе стандарта  </a:t>
            </a:r>
            <a:r>
              <a:rPr b="1" lang="en-US" sz="1600" spc="-1" strike="noStrike">
                <a:solidFill>
                  <a:srgbClr val="1d528d"/>
                </a:solidFill>
                <a:latin typeface="Arial"/>
                <a:ea typeface="Arial"/>
              </a:rPr>
              <a:t>ANSI PMI PMBOK Guide</a:t>
            </a: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 3</a:t>
            </a:r>
            <a:r>
              <a:rPr b="1" lang="en-US" sz="1600" spc="-1" strike="noStrike" baseline="30000">
                <a:solidFill>
                  <a:srgbClr val="1d528d"/>
                </a:solidFill>
                <a:latin typeface="Arial"/>
                <a:ea typeface="Arial"/>
              </a:rPr>
              <a:t>rd</a:t>
            </a:r>
            <a:r>
              <a:rPr b="1" lang="en-US" sz="1600" spc="-1" strike="noStrike">
                <a:solidFill>
                  <a:srgbClr val="1d528d"/>
                </a:solidFill>
                <a:latin typeface="Arial"/>
                <a:ea typeface="Arial"/>
              </a:rPr>
              <a:t> Edition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3" name="Text Box 15"/>
          <p:cNvSpPr/>
          <p:nvPr/>
        </p:nvSpPr>
        <p:spPr>
          <a:xfrm flipV="1" rot="10800000">
            <a:off x="3357720" y="1641960"/>
            <a:ext cx="2357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Стандарты разработки информационных систем и информационных ресурсов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4" name="Text Box 15"/>
          <p:cNvSpPr/>
          <p:nvPr/>
        </p:nvSpPr>
        <p:spPr>
          <a:xfrm flipV="1" rot="10800000">
            <a:off x="6071760" y="1539360"/>
            <a:ext cx="2357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Стандарты внедрения ИС и ИР и техническая поддержка в соответствии с библиотеками </a:t>
            </a:r>
            <a:r>
              <a:rPr b="1" lang="en-US" sz="1600" spc="-1" strike="noStrike">
                <a:solidFill>
                  <a:srgbClr val="1d528d"/>
                </a:solidFill>
                <a:latin typeface="Arial"/>
                <a:ea typeface="Arial"/>
              </a:rPr>
              <a:t>ITIL</a:t>
            </a: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5" name="Text Box 15"/>
          <p:cNvSpPr/>
          <p:nvPr/>
        </p:nvSpPr>
        <p:spPr>
          <a:xfrm flipV="1" rot="10800000">
            <a:off x="3357720" y="5420160"/>
            <a:ext cx="235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МЕТОДОЛОГИЯ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6" name="Text Box 15"/>
          <p:cNvSpPr/>
          <p:nvPr/>
        </p:nvSpPr>
        <p:spPr>
          <a:xfrm flipV="1" rot="10800000">
            <a:off x="3499920" y="3856680"/>
            <a:ext cx="235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  <a:ea typeface="Arial"/>
              </a:rPr>
              <a:t>РЕГЛАМЕНТЫ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C:\Documents and Settings\Papa\Рабочий стол\3D_Business_Graphics_rep\stockxpertcom_id816491_size4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Нижний колонтитул 3"/>
          <p:cNvSpPr/>
          <p:nvPr/>
        </p:nvSpPr>
        <p:spPr>
          <a:xfrm>
            <a:off x="579132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15" name="Picture 13" descr="C:\DATA\Мои документы\Мои рисунки\293551133787556.jpg"/>
          <p:cNvPicPr/>
          <p:nvPr/>
        </p:nvPicPr>
        <p:blipFill>
          <a:blip r:embed="rId2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14240" y="579240"/>
            <a:ext cx="842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ерспективы информатизации здравоохране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Прямоугольник 9"/>
          <p:cNvSpPr/>
          <p:nvPr/>
        </p:nvSpPr>
        <p:spPr>
          <a:xfrm>
            <a:off x="214200" y="1503360"/>
            <a:ext cx="8643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27612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тверждение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стандартов в области «Информатизации здоровья»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здание 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«Государственной информационной системы персонифицированного учета оказания медицинской помощи гражданам Российской Федерации»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щита 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персональных данных гражданина Российской Федерации обрабатываемых в МИС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витие  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федеральных и территориальных информационных медицинских систем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нятие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новых правовых актов регламентирующих применение информационных систем в здравоохранении.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indefinite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6"/>
          <p:cNvSpPr/>
          <p:nvPr/>
        </p:nvSpPr>
        <p:spPr>
          <a:xfrm>
            <a:off x="0" y="1428840"/>
            <a:ext cx="9144000" cy="1523880"/>
          </a:xfrm>
          <a:prstGeom prst="rect">
            <a:avLst/>
          </a:prstGeom>
          <a:solidFill>
            <a:srgbClr val="006699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Ряд задач управления системой здравоохране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9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50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551" name="AutoShape 5"/>
          <p:cNvSpPr/>
          <p:nvPr/>
        </p:nvSpPr>
        <p:spPr>
          <a:xfrm>
            <a:off x="3357720" y="2143080"/>
            <a:ext cx="2571480" cy="3500640"/>
          </a:xfrm>
          <a:custGeom>
            <a:avLst/>
            <a:gdLst>
              <a:gd name="textAreaLeft" fmla="*/ 35280 w 2571480"/>
              <a:gd name="textAreaRight" fmla="*/ 2536200 w 2571480"/>
              <a:gd name="textAreaTop" fmla="*/ 35280 h 3500640"/>
              <a:gd name="textAreaBottom" fmla="*/ 3465360 h 3500640"/>
            </a:gdLst>
            <a:ahLst/>
            <a:rect l="textAreaLeft" t="textAreaTop" r="textAreaRight" b="textAreaBottom"/>
            <a:pathLst>
              <a:path w="21600" h="29404">
                <a:moveTo>
                  <a:pt x="1013" y="0"/>
                </a:moveTo>
                <a:arcTo wR="1013" hR="1013" stAng="16200000" swAng="-5400000"/>
                <a:lnTo>
                  <a:pt x="0" y="28391"/>
                </a:lnTo>
                <a:arcTo wR="1013" hR="1013" stAng="10800000" swAng="-5400000"/>
                <a:lnTo>
                  <a:pt x="20587" y="29404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gradFill rotWithShape="0">
            <a:gsLst>
              <a:gs pos="0">
                <a:srgbClr val="5da4eb"/>
              </a:gs>
              <a:gs pos="100000">
                <a:srgbClr val="4f8bc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2" name="Text Box 11"/>
          <p:cNvSpPr/>
          <p:nvPr/>
        </p:nvSpPr>
        <p:spPr>
          <a:xfrm>
            <a:off x="3500280" y="242892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нформационная открытость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3" name="Блок-схема: процесс 46"/>
          <p:cNvSpPr/>
          <p:nvPr/>
        </p:nvSpPr>
        <p:spPr>
          <a:xfrm>
            <a:off x="3571920" y="4071960"/>
            <a:ext cx="2143080" cy="428760"/>
          </a:xfrm>
          <a:prstGeom prst="flowChartProcess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Доступность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4" name="Блок-схема: процесс 47"/>
          <p:cNvSpPr/>
          <p:nvPr/>
        </p:nvSpPr>
        <p:spPr>
          <a:xfrm>
            <a:off x="3571920" y="4572000"/>
            <a:ext cx="2143080" cy="428760"/>
          </a:xfrm>
          <a:prstGeom prst="flowChartProcess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Мобильность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5" name="Блок-схема: процесс 49"/>
          <p:cNvSpPr/>
          <p:nvPr/>
        </p:nvSpPr>
        <p:spPr>
          <a:xfrm>
            <a:off x="3571920" y="5072040"/>
            <a:ext cx="2143080" cy="428760"/>
          </a:xfrm>
          <a:prstGeom prst="flowChartProcess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Обратная связь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6" name="Прямоугольник 10"/>
          <p:cNvSpPr/>
          <p:nvPr/>
        </p:nvSpPr>
        <p:spPr>
          <a:xfrm>
            <a:off x="0" y="5786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Информационная открытость – основа нового имиджа российского государственного управления!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295280" y="57132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Организация единого информационного пространства записи на приём в ЛПУ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8" name="Oval 44"/>
          <p:cNvSpPr/>
          <p:nvPr/>
        </p:nvSpPr>
        <p:spPr>
          <a:xfrm rot="5400000">
            <a:off x="406800" y="999000"/>
            <a:ext cx="5543280" cy="5929560"/>
          </a:xfrm>
          <a:prstGeom prst="ellipse">
            <a:avLst/>
          </a:prstGeom>
          <a:solidFill>
            <a:srgbClr val="6e71f0">
              <a:alpha val="27000"/>
            </a:srgbClr>
          </a:solidFill>
          <a:ln w="19080">
            <a:solidFill>
              <a:srgbClr val="f8f8f8"/>
            </a:solidFill>
            <a:miter/>
          </a:ln>
          <a:effectLst>
            <a:outerShdw dist="91658" dir="338234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9" name="Oval 45"/>
          <p:cNvSpPr/>
          <p:nvPr/>
        </p:nvSpPr>
        <p:spPr>
          <a:xfrm>
            <a:off x="214200" y="1785960"/>
            <a:ext cx="5214960" cy="4383000"/>
          </a:xfrm>
          <a:prstGeom prst="ellipse">
            <a:avLst/>
          </a:prstGeom>
          <a:solidFill>
            <a:srgbClr val="969696">
              <a:alpha val="54000"/>
            </a:srgbClr>
          </a:solidFill>
          <a:ln w="19080">
            <a:solidFill>
              <a:srgbClr val="f8f8f8"/>
            </a:solidFill>
            <a:miter/>
          </a:ln>
          <a:effectLst>
            <a:outerShdw dist="91658" dir="338234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0" name="Oval 46"/>
          <p:cNvSpPr/>
          <p:nvPr/>
        </p:nvSpPr>
        <p:spPr>
          <a:xfrm>
            <a:off x="214200" y="2235240"/>
            <a:ext cx="4500720" cy="3786120"/>
          </a:xfrm>
          <a:prstGeom prst="ellipse">
            <a:avLst/>
          </a:prstGeom>
          <a:solidFill>
            <a:srgbClr val="25b1b1">
              <a:alpha val="64000"/>
            </a:srgbClr>
          </a:solidFill>
          <a:ln w="19080">
            <a:solidFill>
              <a:srgbClr val="f8f8f8"/>
            </a:solidFill>
            <a:miter/>
          </a:ln>
          <a:effectLst>
            <a:outerShdw dist="91658" dir="338234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1" name="Oval 47"/>
          <p:cNvSpPr/>
          <p:nvPr/>
        </p:nvSpPr>
        <p:spPr>
          <a:xfrm>
            <a:off x="214200" y="2806560"/>
            <a:ext cx="2786040" cy="2500560"/>
          </a:xfrm>
          <a:prstGeom prst="ellipse">
            <a:avLst/>
          </a:prstGeom>
          <a:solidFill>
            <a:srgbClr val="5bace9">
              <a:alpha val="54000"/>
            </a:srgbClr>
          </a:solidFill>
          <a:ln w="19080">
            <a:solidFill>
              <a:srgbClr val="f8f8f8"/>
            </a:solidFill>
            <a:miter/>
          </a:ln>
          <a:effectLst>
            <a:outerShdw dist="91658" dir="338234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62" name="Picture 5" descr="F:\Подготовка презентации 2008\ICONS\Crystal_Clear_Icons\Crystal Clear Icons\display.png"/>
          <p:cNvPicPr/>
          <p:nvPr/>
        </p:nvPicPr>
        <p:blipFill>
          <a:blip r:embed="rId1"/>
          <a:stretch/>
        </p:blipFill>
        <p:spPr>
          <a:xfrm>
            <a:off x="500040" y="352116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563" name="TextBox 26"/>
          <p:cNvSpPr/>
          <p:nvPr/>
        </p:nvSpPr>
        <p:spPr>
          <a:xfrm>
            <a:off x="858600" y="3021120"/>
            <a:ext cx="150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В регистратуре 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ЛПУ: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64" name="Picture 27" descr="F:\Подготовка презентации 2008\ICONS\VirtualLNK Icons\VirtualLNK Medical Icons Collection v1.0\BMP\Regular\72x72\Nurse 2.png"/>
          <p:cNvPicPr/>
          <p:nvPr/>
        </p:nvPicPr>
        <p:blipFill>
          <a:blip r:embed="rId2"/>
          <a:stretch/>
        </p:blipFill>
        <p:spPr>
          <a:xfrm>
            <a:off x="1143000" y="3592440"/>
            <a:ext cx="515880" cy="51588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28" descr=""/>
          <p:cNvPicPr/>
          <p:nvPr/>
        </p:nvPicPr>
        <p:blipFill>
          <a:blip r:embed="rId3"/>
          <a:stretch/>
        </p:blipFill>
        <p:spPr>
          <a:xfrm>
            <a:off x="4786200" y="3235320"/>
            <a:ext cx="439920" cy="100476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29" descr=""/>
          <p:cNvPicPr/>
          <p:nvPr/>
        </p:nvPicPr>
        <p:blipFill>
          <a:blip r:embed="rId4"/>
          <a:stretch/>
        </p:blipFill>
        <p:spPr>
          <a:xfrm>
            <a:off x="3143160" y="3449520"/>
            <a:ext cx="714600" cy="71460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31" descr="F:\Подготовка презентации 2008\ICONS\Crystal_Clear_Icons\Crystal Clear Icons\Internet Connection Tools.png"/>
          <p:cNvPicPr/>
          <p:nvPr/>
        </p:nvPicPr>
        <p:blipFill>
          <a:blip r:embed="rId5"/>
          <a:stretch/>
        </p:blipFill>
        <p:spPr>
          <a:xfrm>
            <a:off x="5357880" y="352116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568" name="TextBox 35"/>
          <p:cNvSpPr/>
          <p:nvPr/>
        </p:nvSpPr>
        <p:spPr>
          <a:xfrm>
            <a:off x="2437920" y="1878120"/>
            <a:ext cx="122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Инфокиоск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9" name="TextBox 36"/>
          <p:cNvSpPr/>
          <p:nvPr/>
        </p:nvSpPr>
        <p:spPr>
          <a:xfrm>
            <a:off x="1721160" y="2449440"/>
            <a:ext cx="126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all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центр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0" name="TextBox 37"/>
          <p:cNvSpPr/>
          <p:nvPr/>
        </p:nvSpPr>
        <p:spPr>
          <a:xfrm>
            <a:off x="2081880" y="1449360"/>
            <a:ext cx="238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Запись через Интернет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1" name="Двойная стрелка влево/вправо 38"/>
          <p:cNvSpPr/>
          <p:nvPr/>
        </p:nvSpPr>
        <p:spPr>
          <a:xfrm>
            <a:off x="2000160" y="4807080"/>
            <a:ext cx="3643560" cy="428400"/>
          </a:xfrm>
          <a:prstGeom prst="leftRightArrow">
            <a:avLst>
              <a:gd name="adj1" fmla="val 50000"/>
              <a:gd name="adj2" fmla="val 50046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ЕМТС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2" name="Двойная стрелка влево/вправо 20"/>
          <p:cNvSpPr/>
          <p:nvPr/>
        </p:nvSpPr>
        <p:spPr>
          <a:xfrm>
            <a:off x="1357200" y="4378320"/>
            <a:ext cx="4500720" cy="428760"/>
          </a:xfrm>
          <a:prstGeom prst="leftRightArrow">
            <a:avLst>
              <a:gd name="adj1" fmla="val 50000"/>
              <a:gd name="adj2" fmla="val 5000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АИС «Электронная регистратура»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3" name="Нижний колонтитул 4"/>
          <p:cNvSpPr/>
          <p:nvPr/>
        </p:nvSpPr>
        <p:spPr>
          <a:xfrm>
            <a:off x="3743280" y="6429240"/>
            <a:ext cx="540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74" name="Picture 13" descr="C:\DATA\Мои документы\Мои рисунки\293551133787556.jpg"/>
          <p:cNvPicPr/>
          <p:nvPr/>
        </p:nvPicPr>
        <p:blipFill>
          <a:blip r:embed="rId6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Облако 58"/>
          <p:cNvSpPr/>
          <p:nvPr/>
        </p:nvSpPr>
        <p:spPr>
          <a:xfrm>
            <a:off x="3571920" y="5929200"/>
            <a:ext cx="1571760" cy="928800"/>
          </a:xfrm>
          <a:prstGeom prst="pie">
            <a:avLst/>
          </a:prstGeom>
          <a:gradFill rotWithShape="0">
            <a:gsLst>
              <a:gs pos="0">
                <a:srgbClr val="0070c0"/>
              </a:gs>
              <a:gs pos="100000">
                <a:srgbClr val="dff3f3"/>
              </a:gs>
            </a:gsLst>
            <a:lin ang="5400000"/>
          </a:gradFill>
          <a:ln w="9360">
            <a:solidFill>
              <a:srgbClr val="1d52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ЕМТС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формационный киоск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77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grpSp>
        <p:nvGrpSpPr>
          <p:cNvPr id="578" name="Group 11"/>
          <p:cNvGrpSpPr/>
          <p:nvPr/>
        </p:nvGrpSpPr>
        <p:grpSpPr>
          <a:xfrm>
            <a:off x="3816360" y="2986200"/>
            <a:ext cx="1227240" cy="1218960"/>
            <a:chOff x="3816360" y="2986200"/>
            <a:chExt cx="1227240" cy="1218960"/>
          </a:xfrm>
        </p:grpSpPr>
        <p:sp>
          <p:nvSpPr>
            <p:cNvPr id="579" name="Oval 12"/>
            <p:cNvSpPr/>
            <p:nvPr/>
          </p:nvSpPr>
          <p:spPr>
            <a:xfrm>
              <a:off x="3816360" y="2986200"/>
              <a:ext cx="1227240" cy="12189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3e0c00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  <a:effectLst>
              <a:outerShdw dist="91658" dir="338234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0" name="Freeform 13"/>
            <p:cNvSpPr/>
            <p:nvPr/>
          </p:nvSpPr>
          <p:spPr>
            <a:xfrm>
              <a:off x="3956400" y="3006360"/>
              <a:ext cx="946800" cy="460080"/>
            </a:xfrm>
            <a:custGeom>
              <a:avLst/>
              <a:gdLst>
                <a:gd name="textAreaLeft" fmla="*/ 0 w 946800"/>
                <a:gd name="textAreaRight" fmla="*/ 947160 w 946800"/>
                <a:gd name="textAreaTop" fmla="*/ 0 h 460080"/>
                <a:gd name="textAreaBottom" fmla="*/ 460440 h 4600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ff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81" name="Text Box 19"/>
          <p:cNvSpPr/>
          <p:nvPr/>
        </p:nvSpPr>
        <p:spPr>
          <a:xfrm>
            <a:off x="4089960" y="516744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ext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82" name="Группа 55"/>
          <p:cNvGrpSpPr/>
          <p:nvPr/>
        </p:nvGrpSpPr>
        <p:grpSpPr>
          <a:xfrm>
            <a:off x="3785400" y="1213920"/>
            <a:ext cx="1533240" cy="2532960"/>
            <a:chOff x="3785400" y="1213920"/>
            <a:chExt cx="1533240" cy="2532960"/>
          </a:xfrm>
        </p:grpSpPr>
        <p:sp>
          <p:nvSpPr>
            <p:cNvPr id="583" name="Freeform 5"/>
            <p:cNvSpPr/>
            <p:nvPr/>
          </p:nvSpPr>
          <p:spPr>
            <a:xfrm rot="938400">
              <a:off x="4087440" y="1294920"/>
              <a:ext cx="928800" cy="2370240"/>
            </a:xfrm>
            <a:custGeom>
              <a:avLst/>
              <a:gdLst/>
              <a:ahLst/>
              <a:rect l="l" t="t" r="r" b="b"/>
              <a:pathLst>
                <a:path w="1470" h="2346">
                  <a:moveTo>
                    <a:pt x="1470" y="1173"/>
                  </a:moveTo>
                  <a:lnTo>
                    <a:pt x="1467" y="1246"/>
                  </a:lnTo>
                  <a:lnTo>
                    <a:pt x="1458" y="1319"/>
                  </a:lnTo>
                  <a:lnTo>
                    <a:pt x="1444" y="1390"/>
                  </a:lnTo>
                  <a:lnTo>
                    <a:pt x="1423" y="1462"/>
                  </a:lnTo>
                  <a:lnTo>
                    <a:pt x="1400" y="1529"/>
                  </a:lnTo>
                  <a:lnTo>
                    <a:pt x="1371" y="1596"/>
                  </a:lnTo>
                  <a:lnTo>
                    <a:pt x="1339" y="1662"/>
                  </a:lnTo>
                  <a:lnTo>
                    <a:pt x="1305" y="1724"/>
                  </a:lnTo>
                  <a:lnTo>
                    <a:pt x="1267" y="1784"/>
                  </a:lnTo>
                  <a:lnTo>
                    <a:pt x="1228" y="1843"/>
                  </a:lnTo>
                  <a:lnTo>
                    <a:pt x="1187" y="1898"/>
                  </a:lnTo>
                  <a:lnTo>
                    <a:pt x="1145" y="1952"/>
                  </a:lnTo>
                  <a:lnTo>
                    <a:pt x="1102" y="2002"/>
                  </a:lnTo>
                  <a:lnTo>
                    <a:pt x="1060" y="2050"/>
                  </a:lnTo>
                  <a:lnTo>
                    <a:pt x="1019" y="2094"/>
                  </a:lnTo>
                  <a:lnTo>
                    <a:pt x="978" y="2134"/>
                  </a:lnTo>
                  <a:lnTo>
                    <a:pt x="939" y="2174"/>
                  </a:lnTo>
                  <a:lnTo>
                    <a:pt x="901" y="2207"/>
                  </a:lnTo>
                  <a:lnTo>
                    <a:pt x="866" y="2239"/>
                  </a:lnTo>
                  <a:lnTo>
                    <a:pt x="835" y="2266"/>
                  </a:lnTo>
                  <a:lnTo>
                    <a:pt x="806" y="2290"/>
                  </a:lnTo>
                  <a:lnTo>
                    <a:pt x="783" y="2309"/>
                  </a:lnTo>
                  <a:lnTo>
                    <a:pt x="763" y="2325"/>
                  </a:lnTo>
                  <a:lnTo>
                    <a:pt x="748" y="2336"/>
                  </a:lnTo>
                  <a:lnTo>
                    <a:pt x="739" y="2343"/>
                  </a:lnTo>
                  <a:lnTo>
                    <a:pt x="735" y="2346"/>
                  </a:lnTo>
                  <a:lnTo>
                    <a:pt x="732" y="2343"/>
                  </a:lnTo>
                  <a:lnTo>
                    <a:pt x="723" y="2336"/>
                  </a:lnTo>
                  <a:lnTo>
                    <a:pt x="709" y="2325"/>
                  </a:lnTo>
                  <a:lnTo>
                    <a:pt x="688" y="2309"/>
                  </a:lnTo>
                  <a:lnTo>
                    <a:pt x="665" y="2290"/>
                  </a:lnTo>
                  <a:lnTo>
                    <a:pt x="636" y="2266"/>
                  </a:lnTo>
                  <a:lnTo>
                    <a:pt x="604" y="2239"/>
                  </a:lnTo>
                  <a:lnTo>
                    <a:pt x="570" y="2207"/>
                  </a:lnTo>
                  <a:lnTo>
                    <a:pt x="532" y="2174"/>
                  </a:lnTo>
                  <a:lnTo>
                    <a:pt x="493" y="2134"/>
                  </a:lnTo>
                  <a:lnTo>
                    <a:pt x="452" y="2094"/>
                  </a:lnTo>
                  <a:lnTo>
                    <a:pt x="410" y="2050"/>
                  </a:lnTo>
                  <a:lnTo>
                    <a:pt x="367" y="2002"/>
                  </a:lnTo>
                  <a:lnTo>
                    <a:pt x="325" y="1952"/>
                  </a:lnTo>
                  <a:lnTo>
                    <a:pt x="284" y="1898"/>
                  </a:lnTo>
                  <a:lnTo>
                    <a:pt x="243" y="1843"/>
                  </a:lnTo>
                  <a:lnTo>
                    <a:pt x="204" y="1784"/>
                  </a:lnTo>
                  <a:lnTo>
                    <a:pt x="166" y="1724"/>
                  </a:lnTo>
                  <a:lnTo>
                    <a:pt x="131" y="1662"/>
                  </a:lnTo>
                  <a:lnTo>
                    <a:pt x="100" y="1596"/>
                  </a:lnTo>
                  <a:lnTo>
                    <a:pt x="71" y="1529"/>
                  </a:lnTo>
                  <a:lnTo>
                    <a:pt x="48" y="1462"/>
                  </a:lnTo>
                  <a:lnTo>
                    <a:pt x="27" y="1390"/>
                  </a:lnTo>
                  <a:lnTo>
                    <a:pt x="13" y="1319"/>
                  </a:lnTo>
                  <a:lnTo>
                    <a:pt x="4" y="1246"/>
                  </a:lnTo>
                  <a:lnTo>
                    <a:pt x="0" y="1173"/>
                  </a:lnTo>
                  <a:lnTo>
                    <a:pt x="4" y="1098"/>
                  </a:lnTo>
                  <a:lnTo>
                    <a:pt x="13" y="1025"/>
                  </a:lnTo>
                  <a:lnTo>
                    <a:pt x="27" y="954"/>
                  </a:lnTo>
                  <a:lnTo>
                    <a:pt x="48" y="884"/>
                  </a:lnTo>
                  <a:lnTo>
                    <a:pt x="71" y="815"/>
                  </a:lnTo>
                  <a:lnTo>
                    <a:pt x="100" y="748"/>
                  </a:lnTo>
                  <a:lnTo>
                    <a:pt x="131" y="684"/>
                  </a:lnTo>
                  <a:lnTo>
                    <a:pt x="166" y="621"/>
                  </a:lnTo>
                  <a:lnTo>
                    <a:pt x="204" y="560"/>
                  </a:lnTo>
                  <a:lnTo>
                    <a:pt x="243" y="502"/>
                  </a:lnTo>
                  <a:lnTo>
                    <a:pt x="284" y="446"/>
                  </a:lnTo>
                  <a:lnTo>
                    <a:pt x="325" y="394"/>
                  </a:lnTo>
                  <a:lnTo>
                    <a:pt x="367" y="343"/>
                  </a:lnTo>
                  <a:lnTo>
                    <a:pt x="410" y="294"/>
                  </a:lnTo>
                  <a:lnTo>
                    <a:pt x="452" y="251"/>
                  </a:lnTo>
                  <a:lnTo>
                    <a:pt x="493" y="210"/>
                  </a:lnTo>
                  <a:lnTo>
                    <a:pt x="532" y="170"/>
                  </a:lnTo>
                  <a:lnTo>
                    <a:pt x="570" y="137"/>
                  </a:lnTo>
                  <a:lnTo>
                    <a:pt x="604" y="105"/>
                  </a:lnTo>
                  <a:lnTo>
                    <a:pt x="636" y="79"/>
                  </a:lnTo>
                  <a:lnTo>
                    <a:pt x="665" y="55"/>
                  </a:lnTo>
                  <a:lnTo>
                    <a:pt x="688" y="35"/>
                  </a:lnTo>
                  <a:lnTo>
                    <a:pt x="709" y="19"/>
                  </a:lnTo>
                  <a:lnTo>
                    <a:pt x="723" y="9"/>
                  </a:lnTo>
                  <a:lnTo>
                    <a:pt x="732" y="1"/>
                  </a:lnTo>
                  <a:lnTo>
                    <a:pt x="735" y="0"/>
                  </a:lnTo>
                  <a:lnTo>
                    <a:pt x="739" y="1"/>
                  </a:lnTo>
                  <a:lnTo>
                    <a:pt x="748" y="9"/>
                  </a:lnTo>
                  <a:lnTo>
                    <a:pt x="763" y="19"/>
                  </a:lnTo>
                  <a:lnTo>
                    <a:pt x="783" y="35"/>
                  </a:lnTo>
                  <a:lnTo>
                    <a:pt x="806" y="55"/>
                  </a:lnTo>
                  <a:lnTo>
                    <a:pt x="835" y="79"/>
                  </a:lnTo>
                  <a:lnTo>
                    <a:pt x="866" y="105"/>
                  </a:lnTo>
                  <a:lnTo>
                    <a:pt x="901" y="137"/>
                  </a:lnTo>
                  <a:lnTo>
                    <a:pt x="939" y="170"/>
                  </a:lnTo>
                  <a:lnTo>
                    <a:pt x="978" y="210"/>
                  </a:lnTo>
                  <a:lnTo>
                    <a:pt x="1019" y="251"/>
                  </a:lnTo>
                  <a:lnTo>
                    <a:pt x="1060" y="294"/>
                  </a:lnTo>
                  <a:lnTo>
                    <a:pt x="1102" y="343"/>
                  </a:lnTo>
                  <a:lnTo>
                    <a:pt x="1145" y="394"/>
                  </a:lnTo>
                  <a:lnTo>
                    <a:pt x="1187" y="446"/>
                  </a:lnTo>
                  <a:lnTo>
                    <a:pt x="1228" y="502"/>
                  </a:lnTo>
                  <a:lnTo>
                    <a:pt x="1267" y="560"/>
                  </a:lnTo>
                  <a:lnTo>
                    <a:pt x="1305" y="621"/>
                  </a:lnTo>
                  <a:lnTo>
                    <a:pt x="1339" y="684"/>
                  </a:lnTo>
                  <a:lnTo>
                    <a:pt x="1371" y="748"/>
                  </a:lnTo>
                  <a:lnTo>
                    <a:pt x="1400" y="815"/>
                  </a:lnTo>
                  <a:lnTo>
                    <a:pt x="1423" y="884"/>
                  </a:lnTo>
                  <a:lnTo>
                    <a:pt x="1444" y="954"/>
                  </a:lnTo>
                  <a:lnTo>
                    <a:pt x="1458" y="1025"/>
                  </a:lnTo>
                  <a:lnTo>
                    <a:pt x="1467" y="1098"/>
                  </a:lnTo>
                  <a:lnTo>
                    <a:pt x="1470" y="1173"/>
                  </a:lnTo>
                </a:path>
              </a:pathLst>
            </a:custGeom>
            <a:gradFill rotWithShape="0">
              <a:gsLst>
                <a:gs pos="0">
                  <a:srgbClr val="53b749"/>
                </a:gs>
                <a:gs pos="100000">
                  <a:srgbClr val="c6e7c2"/>
                </a:gs>
              </a:gsLst>
              <a:lin ang="4464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4" name="Text Box 14"/>
            <p:cNvSpPr/>
            <p:nvPr/>
          </p:nvSpPr>
          <p:spPr>
            <a:xfrm rot="17468400">
              <a:off x="3768840" y="1926000"/>
              <a:ext cx="1839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Данные системы ОМС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585" name="Группа 45"/>
          <p:cNvGrpSpPr/>
          <p:nvPr/>
        </p:nvGrpSpPr>
        <p:grpSpPr>
          <a:xfrm>
            <a:off x="1571760" y="3858840"/>
            <a:ext cx="2892600" cy="2556360"/>
            <a:chOff x="1571760" y="3858840"/>
            <a:chExt cx="2892600" cy="2556360"/>
          </a:xfrm>
        </p:grpSpPr>
        <p:sp>
          <p:nvSpPr>
            <p:cNvPr id="586" name="Freeform 7"/>
            <p:cNvSpPr/>
            <p:nvPr/>
          </p:nvSpPr>
          <p:spPr>
            <a:xfrm rot="19694400">
              <a:off x="2201760" y="4377960"/>
              <a:ext cx="2210040" cy="828720"/>
            </a:xfrm>
            <a:custGeom>
              <a:avLst/>
              <a:gdLst/>
              <a:ahLst/>
              <a:rect l="l" t="t" r="r" b="b"/>
              <a:pathLst>
                <a:path w="2032" h="1536">
                  <a:moveTo>
                    <a:pt x="648" y="131"/>
                  </a:moveTo>
                  <a:lnTo>
                    <a:pt x="717" y="96"/>
                  </a:lnTo>
                  <a:lnTo>
                    <a:pt x="788" y="67"/>
                  </a:lnTo>
                  <a:lnTo>
                    <a:pt x="860" y="43"/>
                  </a:lnTo>
                  <a:lnTo>
                    <a:pt x="934" y="24"/>
                  </a:lnTo>
                  <a:lnTo>
                    <a:pt x="1008" y="11"/>
                  </a:lnTo>
                  <a:lnTo>
                    <a:pt x="1083" y="4"/>
                  </a:lnTo>
                  <a:lnTo>
                    <a:pt x="1157" y="0"/>
                  </a:lnTo>
                  <a:lnTo>
                    <a:pt x="1232" y="0"/>
                  </a:lnTo>
                  <a:lnTo>
                    <a:pt x="1306" y="3"/>
                  </a:lnTo>
                  <a:lnTo>
                    <a:pt x="1377" y="8"/>
                  </a:lnTo>
                  <a:lnTo>
                    <a:pt x="1449" y="17"/>
                  </a:lnTo>
                  <a:lnTo>
                    <a:pt x="1517" y="29"/>
                  </a:lnTo>
                  <a:lnTo>
                    <a:pt x="1583" y="42"/>
                  </a:lnTo>
                  <a:lnTo>
                    <a:pt x="1647" y="55"/>
                  </a:lnTo>
                  <a:lnTo>
                    <a:pt x="1707" y="70"/>
                  </a:lnTo>
                  <a:lnTo>
                    <a:pt x="1762" y="86"/>
                  </a:lnTo>
                  <a:lnTo>
                    <a:pt x="1815" y="102"/>
                  </a:lnTo>
                  <a:lnTo>
                    <a:pt x="1862" y="116"/>
                  </a:lnTo>
                  <a:lnTo>
                    <a:pt x="1905" y="131"/>
                  </a:lnTo>
                  <a:lnTo>
                    <a:pt x="1942" y="146"/>
                  </a:lnTo>
                  <a:lnTo>
                    <a:pt x="1972" y="157"/>
                  </a:lnTo>
                  <a:lnTo>
                    <a:pt x="1999" y="167"/>
                  </a:lnTo>
                  <a:lnTo>
                    <a:pt x="2016" y="175"/>
                  </a:lnTo>
                  <a:lnTo>
                    <a:pt x="2028" y="179"/>
                  </a:lnTo>
                  <a:lnTo>
                    <a:pt x="2032" y="182"/>
                  </a:lnTo>
                  <a:lnTo>
                    <a:pt x="2031" y="186"/>
                  </a:lnTo>
                  <a:lnTo>
                    <a:pt x="2029" y="200"/>
                  </a:lnTo>
                  <a:lnTo>
                    <a:pt x="2026" y="220"/>
                  </a:lnTo>
                  <a:lnTo>
                    <a:pt x="2022" y="249"/>
                  </a:lnTo>
                  <a:lnTo>
                    <a:pt x="2018" y="286"/>
                  </a:lnTo>
                  <a:lnTo>
                    <a:pt x="2009" y="326"/>
                  </a:lnTo>
                  <a:lnTo>
                    <a:pt x="2000" y="375"/>
                  </a:lnTo>
                  <a:lnTo>
                    <a:pt x="1989" y="427"/>
                  </a:lnTo>
                  <a:lnTo>
                    <a:pt x="1975" y="483"/>
                  </a:lnTo>
                  <a:lnTo>
                    <a:pt x="1958" y="542"/>
                  </a:lnTo>
                  <a:lnTo>
                    <a:pt x="1940" y="607"/>
                  </a:lnTo>
                  <a:lnTo>
                    <a:pt x="1919" y="672"/>
                  </a:lnTo>
                  <a:lnTo>
                    <a:pt x="1894" y="738"/>
                  </a:lnTo>
                  <a:lnTo>
                    <a:pt x="1866" y="806"/>
                  </a:lnTo>
                  <a:lnTo>
                    <a:pt x="1835" y="875"/>
                  </a:lnTo>
                  <a:lnTo>
                    <a:pt x="1802" y="944"/>
                  </a:lnTo>
                  <a:lnTo>
                    <a:pt x="1764" y="1011"/>
                  </a:lnTo>
                  <a:lnTo>
                    <a:pt x="1722" y="1076"/>
                  </a:lnTo>
                  <a:lnTo>
                    <a:pt x="1676" y="1141"/>
                  </a:lnTo>
                  <a:lnTo>
                    <a:pt x="1627" y="1202"/>
                  </a:lnTo>
                  <a:lnTo>
                    <a:pt x="1573" y="1259"/>
                  </a:lnTo>
                  <a:lnTo>
                    <a:pt x="1514" y="1313"/>
                  </a:lnTo>
                  <a:lnTo>
                    <a:pt x="1452" y="1361"/>
                  </a:lnTo>
                  <a:lnTo>
                    <a:pt x="1383" y="1405"/>
                  </a:lnTo>
                  <a:lnTo>
                    <a:pt x="1315" y="1440"/>
                  </a:lnTo>
                  <a:lnTo>
                    <a:pt x="1245" y="1469"/>
                  </a:lnTo>
                  <a:lnTo>
                    <a:pt x="1173" y="1494"/>
                  </a:lnTo>
                  <a:lnTo>
                    <a:pt x="1099" y="1511"/>
                  </a:lnTo>
                  <a:lnTo>
                    <a:pt x="1024" y="1524"/>
                  </a:lnTo>
                  <a:lnTo>
                    <a:pt x="950" y="1532"/>
                  </a:lnTo>
                  <a:lnTo>
                    <a:pt x="876" y="1536"/>
                  </a:lnTo>
                  <a:lnTo>
                    <a:pt x="801" y="1536"/>
                  </a:lnTo>
                  <a:lnTo>
                    <a:pt x="727" y="1533"/>
                  </a:lnTo>
                  <a:lnTo>
                    <a:pt x="654" y="1527"/>
                  </a:lnTo>
                  <a:lnTo>
                    <a:pt x="584" y="1518"/>
                  </a:lnTo>
                  <a:lnTo>
                    <a:pt x="515" y="1507"/>
                  </a:lnTo>
                  <a:lnTo>
                    <a:pt x="450" y="1495"/>
                  </a:lnTo>
                  <a:lnTo>
                    <a:pt x="385" y="1481"/>
                  </a:lnTo>
                  <a:lnTo>
                    <a:pt x="326" y="1466"/>
                  </a:lnTo>
                  <a:lnTo>
                    <a:pt x="270" y="1450"/>
                  </a:lnTo>
                  <a:lnTo>
                    <a:pt x="218" y="1434"/>
                  </a:lnTo>
                  <a:lnTo>
                    <a:pt x="170" y="1419"/>
                  </a:lnTo>
                  <a:lnTo>
                    <a:pt x="127" y="1405"/>
                  </a:lnTo>
                  <a:lnTo>
                    <a:pt x="91" y="1390"/>
                  </a:lnTo>
                  <a:lnTo>
                    <a:pt x="59" y="1378"/>
                  </a:lnTo>
                  <a:lnTo>
                    <a:pt x="34" y="1368"/>
                  </a:lnTo>
                  <a:lnTo>
                    <a:pt x="16" y="1361"/>
                  </a:lnTo>
                  <a:lnTo>
                    <a:pt x="5" y="1357"/>
                  </a:lnTo>
                  <a:lnTo>
                    <a:pt x="0" y="1355"/>
                  </a:lnTo>
                  <a:lnTo>
                    <a:pt x="0" y="1349"/>
                  </a:lnTo>
                  <a:lnTo>
                    <a:pt x="3" y="1336"/>
                  </a:lnTo>
                  <a:lnTo>
                    <a:pt x="5" y="1316"/>
                  </a:lnTo>
                  <a:lnTo>
                    <a:pt x="9" y="1287"/>
                  </a:lnTo>
                  <a:lnTo>
                    <a:pt x="15" y="1250"/>
                  </a:lnTo>
                  <a:lnTo>
                    <a:pt x="22" y="1209"/>
                  </a:lnTo>
                  <a:lnTo>
                    <a:pt x="33" y="1161"/>
                  </a:lnTo>
                  <a:lnTo>
                    <a:pt x="44" y="1109"/>
                  </a:lnTo>
                  <a:lnTo>
                    <a:pt x="57" y="1053"/>
                  </a:lnTo>
                  <a:lnTo>
                    <a:pt x="73" y="993"/>
                  </a:lnTo>
                  <a:lnTo>
                    <a:pt x="92" y="929"/>
                  </a:lnTo>
                  <a:lnTo>
                    <a:pt x="114" y="865"/>
                  </a:lnTo>
                  <a:lnTo>
                    <a:pt x="139" y="798"/>
                  </a:lnTo>
                  <a:lnTo>
                    <a:pt x="167" y="729"/>
                  </a:lnTo>
                  <a:lnTo>
                    <a:pt x="197" y="661"/>
                  </a:lnTo>
                  <a:lnTo>
                    <a:pt x="231" y="592"/>
                  </a:lnTo>
                  <a:lnTo>
                    <a:pt x="269" y="525"/>
                  </a:lnTo>
                  <a:lnTo>
                    <a:pt x="311" y="459"/>
                  </a:lnTo>
                  <a:lnTo>
                    <a:pt x="356" y="395"/>
                  </a:lnTo>
                  <a:lnTo>
                    <a:pt x="406" y="334"/>
                  </a:lnTo>
                  <a:lnTo>
                    <a:pt x="460" y="277"/>
                  </a:lnTo>
                  <a:lnTo>
                    <a:pt x="518" y="223"/>
                  </a:lnTo>
                  <a:lnTo>
                    <a:pt x="581" y="175"/>
                  </a:lnTo>
                  <a:lnTo>
                    <a:pt x="648" y="131"/>
                  </a:lnTo>
                </a:path>
              </a:pathLst>
            </a:custGeom>
            <a:solidFill>
              <a:srgbClr val="ffc000"/>
            </a:soli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7" name="Text Box 14"/>
            <p:cNvSpPr/>
            <p:nvPr/>
          </p:nvSpPr>
          <p:spPr>
            <a:xfrm rot="19566000">
              <a:off x="2451240" y="4458960"/>
              <a:ext cx="18399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нформация об оказываемых медицинских услугах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88" name="Picture 7" descr="F:\Подготовка презентации 2008\ICONS\VirtualLNK Icons\VirtualLNK Medical Icons Collection v1.0\BMP\Regular\72x72\Treatment Plan 2.bmp"/>
            <p:cNvPicPr/>
            <p:nvPr/>
          </p:nvPicPr>
          <p:blipFill>
            <a:blip r:embed="rId2"/>
            <a:stretch/>
          </p:blipFill>
          <p:spPr>
            <a:xfrm>
              <a:off x="1571760" y="5500800"/>
              <a:ext cx="914400" cy="914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9" name="Группа 59"/>
          <p:cNvGrpSpPr/>
          <p:nvPr/>
        </p:nvGrpSpPr>
        <p:grpSpPr>
          <a:xfrm>
            <a:off x="4608360" y="2571840"/>
            <a:ext cx="3178440" cy="1495440"/>
            <a:chOff x="4608360" y="2571840"/>
            <a:chExt cx="3178440" cy="1495440"/>
          </a:xfrm>
        </p:grpSpPr>
        <p:sp>
          <p:nvSpPr>
            <p:cNvPr id="590" name="Freeform 10"/>
            <p:cNvSpPr/>
            <p:nvPr/>
          </p:nvSpPr>
          <p:spPr>
            <a:xfrm rot="20776200">
              <a:off x="4660920" y="3068640"/>
              <a:ext cx="2362320" cy="728640"/>
            </a:xfrm>
            <a:custGeom>
              <a:avLst/>
              <a:gdLst/>
              <a:ahLst/>
              <a:rect l="l" t="t" r="r" b="b"/>
              <a:pathLst>
                <a:path w="2032" h="1536">
                  <a:moveTo>
                    <a:pt x="647" y="131"/>
                  </a:moveTo>
                  <a:lnTo>
                    <a:pt x="716" y="96"/>
                  </a:lnTo>
                  <a:lnTo>
                    <a:pt x="787" y="67"/>
                  </a:lnTo>
                  <a:lnTo>
                    <a:pt x="859" y="43"/>
                  </a:lnTo>
                  <a:lnTo>
                    <a:pt x="933" y="25"/>
                  </a:lnTo>
                  <a:lnTo>
                    <a:pt x="1008" y="11"/>
                  </a:lnTo>
                  <a:lnTo>
                    <a:pt x="1082" y="4"/>
                  </a:lnTo>
                  <a:lnTo>
                    <a:pt x="1157" y="0"/>
                  </a:lnTo>
                  <a:lnTo>
                    <a:pt x="1231" y="0"/>
                  </a:lnTo>
                  <a:lnTo>
                    <a:pt x="1305" y="3"/>
                  </a:lnTo>
                  <a:lnTo>
                    <a:pt x="1377" y="8"/>
                  </a:lnTo>
                  <a:lnTo>
                    <a:pt x="1448" y="17"/>
                  </a:lnTo>
                  <a:lnTo>
                    <a:pt x="1517" y="29"/>
                  </a:lnTo>
                  <a:lnTo>
                    <a:pt x="1582" y="42"/>
                  </a:lnTo>
                  <a:lnTo>
                    <a:pt x="1647" y="55"/>
                  </a:lnTo>
                  <a:lnTo>
                    <a:pt x="1706" y="70"/>
                  </a:lnTo>
                  <a:lnTo>
                    <a:pt x="1762" y="86"/>
                  </a:lnTo>
                  <a:lnTo>
                    <a:pt x="1814" y="102"/>
                  </a:lnTo>
                  <a:lnTo>
                    <a:pt x="1861" y="116"/>
                  </a:lnTo>
                  <a:lnTo>
                    <a:pt x="1905" y="131"/>
                  </a:lnTo>
                  <a:lnTo>
                    <a:pt x="1941" y="146"/>
                  </a:lnTo>
                  <a:lnTo>
                    <a:pt x="1972" y="157"/>
                  </a:lnTo>
                  <a:lnTo>
                    <a:pt x="1998" y="167"/>
                  </a:lnTo>
                  <a:lnTo>
                    <a:pt x="2016" y="175"/>
                  </a:lnTo>
                  <a:lnTo>
                    <a:pt x="2027" y="179"/>
                  </a:lnTo>
                  <a:lnTo>
                    <a:pt x="2032" y="182"/>
                  </a:lnTo>
                  <a:lnTo>
                    <a:pt x="2030" y="186"/>
                  </a:lnTo>
                  <a:lnTo>
                    <a:pt x="2029" y="200"/>
                  </a:lnTo>
                  <a:lnTo>
                    <a:pt x="2026" y="220"/>
                  </a:lnTo>
                  <a:lnTo>
                    <a:pt x="2021" y="249"/>
                  </a:lnTo>
                  <a:lnTo>
                    <a:pt x="2017" y="286"/>
                  </a:lnTo>
                  <a:lnTo>
                    <a:pt x="2008" y="327"/>
                  </a:lnTo>
                  <a:lnTo>
                    <a:pt x="2000" y="375"/>
                  </a:lnTo>
                  <a:lnTo>
                    <a:pt x="1988" y="427"/>
                  </a:lnTo>
                  <a:lnTo>
                    <a:pt x="1975" y="483"/>
                  </a:lnTo>
                  <a:lnTo>
                    <a:pt x="1957" y="542"/>
                  </a:lnTo>
                  <a:lnTo>
                    <a:pt x="1940" y="607"/>
                  </a:lnTo>
                  <a:lnTo>
                    <a:pt x="1918" y="672"/>
                  </a:lnTo>
                  <a:lnTo>
                    <a:pt x="1893" y="738"/>
                  </a:lnTo>
                  <a:lnTo>
                    <a:pt x="1865" y="807"/>
                  </a:lnTo>
                  <a:lnTo>
                    <a:pt x="1835" y="875"/>
                  </a:lnTo>
                  <a:lnTo>
                    <a:pt x="1801" y="944"/>
                  </a:lnTo>
                  <a:lnTo>
                    <a:pt x="1763" y="1011"/>
                  </a:lnTo>
                  <a:lnTo>
                    <a:pt x="1721" y="1076"/>
                  </a:lnTo>
                  <a:lnTo>
                    <a:pt x="1676" y="1141"/>
                  </a:lnTo>
                  <a:lnTo>
                    <a:pt x="1626" y="1202"/>
                  </a:lnTo>
                  <a:lnTo>
                    <a:pt x="1572" y="1259"/>
                  </a:lnTo>
                  <a:lnTo>
                    <a:pt x="1514" y="1313"/>
                  </a:lnTo>
                  <a:lnTo>
                    <a:pt x="1451" y="1361"/>
                  </a:lnTo>
                  <a:lnTo>
                    <a:pt x="1383" y="1405"/>
                  </a:lnTo>
                  <a:lnTo>
                    <a:pt x="1314" y="1440"/>
                  </a:lnTo>
                  <a:lnTo>
                    <a:pt x="1244" y="1469"/>
                  </a:lnTo>
                  <a:lnTo>
                    <a:pt x="1173" y="1494"/>
                  </a:lnTo>
                  <a:lnTo>
                    <a:pt x="1098" y="1511"/>
                  </a:lnTo>
                  <a:lnTo>
                    <a:pt x="1024" y="1524"/>
                  </a:lnTo>
                  <a:lnTo>
                    <a:pt x="949" y="1532"/>
                  </a:lnTo>
                  <a:lnTo>
                    <a:pt x="875" y="1536"/>
                  </a:lnTo>
                  <a:lnTo>
                    <a:pt x="801" y="1536"/>
                  </a:lnTo>
                  <a:lnTo>
                    <a:pt x="726" y="1533"/>
                  </a:lnTo>
                  <a:lnTo>
                    <a:pt x="653" y="1527"/>
                  </a:lnTo>
                  <a:lnTo>
                    <a:pt x="583" y="1519"/>
                  </a:lnTo>
                  <a:lnTo>
                    <a:pt x="515" y="1507"/>
                  </a:lnTo>
                  <a:lnTo>
                    <a:pt x="449" y="1495"/>
                  </a:lnTo>
                  <a:lnTo>
                    <a:pt x="385" y="1481"/>
                  </a:lnTo>
                  <a:lnTo>
                    <a:pt x="325" y="1466"/>
                  </a:lnTo>
                  <a:lnTo>
                    <a:pt x="270" y="1450"/>
                  </a:lnTo>
                  <a:lnTo>
                    <a:pt x="217" y="1434"/>
                  </a:lnTo>
                  <a:lnTo>
                    <a:pt x="169" y="1419"/>
                  </a:lnTo>
                  <a:lnTo>
                    <a:pt x="127" y="1405"/>
                  </a:lnTo>
                  <a:lnTo>
                    <a:pt x="90" y="1390"/>
                  </a:lnTo>
                  <a:lnTo>
                    <a:pt x="58" y="1379"/>
                  </a:lnTo>
                  <a:lnTo>
                    <a:pt x="33" y="1368"/>
                  </a:lnTo>
                  <a:lnTo>
                    <a:pt x="16" y="1361"/>
                  </a:lnTo>
                  <a:lnTo>
                    <a:pt x="4" y="1357"/>
                  </a:lnTo>
                  <a:lnTo>
                    <a:pt x="0" y="1355"/>
                  </a:lnTo>
                  <a:lnTo>
                    <a:pt x="0" y="1349"/>
                  </a:lnTo>
                  <a:lnTo>
                    <a:pt x="3" y="1336"/>
                  </a:lnTo>
                  <a:lnTo>
                    <a:pt x="4" y="1316"/>
                  </a:lnTo>
                  <a:lnTo>
                    <a:pt x="9" y="1287"/>
                  </a:lnTo>
                  <a:lnTo>
                    <a:pt x="14" y="1250"/>
                  </a:lnTo>
                  <a:lnTo>
                    <a:pt x="22" y="1209"/>
                  </a:lnTo>
                  <a:lnTo>
                    <a:pt x="32" y="1161"/>
                  </a:lnTo>
                  <a:lnTo>
                    <a:pt x="44" y="1109"/>
                  </a:lnTo>
                  <a:lnTo>
                    <a:pt x="57" y="1053"/>
                  </a:lnTo>
                  <a:lnTo>
                    <a:pt x="73" y="993"/>
                  </a:lnTo>
                  <a:lnTo>
                    <a:pt x="92" y="929"/>
                  </a:lnTo>
                  <a:lnTo>
                    <a:pt x="114" y="865"/>
                  </a:lnTo>
                  <a:lnTo>
                    <a:pt x="138" y="798"/>
                  </a:lnTo>
                  <a:lnTo>
                    <a:pt x="166" y="729"/>
                  </a:lnTo>
                  <a:lnTo>
                    <a:pt x="197" y="661"/>
                  </a:lnTo>
                  <a:lnTo>
                    <a:pt x="230" y="592"/>
                  </a:lnTo>
                  <a:lnTo>
                    <a:pt x="268" y="525"/>
                  </a:lnTo>
                  <a:lnTo>
                    <a:pt x="311" y="459"/>
                  </a:lnTo>
                  <a:lnTo>
                    <a:pt x="356" y="395"/>
                  </a:lnTo>
                  <a:lnTo>
                    <a:pt x="405" y="334"/>
                  </a:lnTo>
                  <a:lnTo>
                    <a:pt x="459" y="277"/>
                  </a:lnTo>
                  <a:lnTo>
                    <a:pt x="518" y="223"/>
                  </a:lnTo>
                  <a:lnTo>
                    <a:pt x="580" y="175"/>
                  </a:lnTo>
                  <a:lnTo>
                    <a:pt x="647" y="131"/>
                  </a:lnTo>
                </a:path>
              </a:pathLst>
            </a:custGeom>
            <a:solidFill>
              <a:srgbClr val="ff3300"/>
            </a:soli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1" name="Text Box 14"/>
            <p:cNvSpPr/>
            <p:nvPr/>
          </p:nvSpPr>
          <p:spPr>
            <a:xfrm rot="20481600">
              <a:off x="5168160" y="3068640"/>
              <a:ext cx="1839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правочник ЛСииИМП по ЛЛО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92" name="Picture 13" descr="F:\Подготовка презентации 2008\ICONS\VirtualLNK Icons\VirtualLNK Medical Icons Collection v1.0\BMP\Regular\72x72\Insurance.bmp"/>
            <p:cNvPicPr/>
            <p:nvPr/>
          </p:nvPicPr>
          <p:blipFill>
            <a:blip r:embed="rId3"/>
            <a:stretch/>
          </p:blipFill>
          <p:spPr>
            <a:xfrm>
              <a:off x="7072560" y="2571840"/>
              <a:ext cx="714240" cy="71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3" name="Picture 14" descr="F:\Подготовка презентации 2008\ICONS\VirtualLNK Icons\VirtualLNK Medical Icons Collection v1.0\BMP\Regular\72x72\Medicine Pills.bmp"/>
            <p:cNvPicPr/>
            <p:nvPr/>
          </p:nvPicPr>
          <p:blipFill>
            <a:blip r:embed="rId4"/>
            <a:stretch/>
          </p:blipFill>
          <p:spPr>
            <a:xfrm>
              <a:off x="6929640" y="3071880"/>
              <a:ext cx="500040" cy="500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4" name="Группа 46"/>
          <p:cNvGrpSpPr/>
          <p:nvPr/>
        </p:nvGrpSpPr>
        <p:grpSpPr>
          <a:xfrm>
            <a:off x="785880" y="3343320"/>
            <a:ext cx="3350880" cy="1800360"/>
            <a:chOff x="785880" y="3343320"/>
            <a:chExt cx="3350880" cy="1800360"/>
          </a:xfrm>
        </p:grpSpPr>
        <p:sp>
          <p:nvSpPr>
            <p:cNvPr id="595" name="Freeform 7"/>
            <p:cNvSpPr/>
            <p:nvPr/>
          </p:nvSpPr>
          <p:spPr>
            <a:xfrm rot="21118800">
              <a:off x="1787040" y="3641400"/>
              <a:ext cx="2300400" cy="862200"/>
            </a:xfrm>
            <a:custGeom>
              <a:avLst/>
              <a:gdLst/>
              <a:ahLst/>
              <a:rect l="l" t="t" r="r" b="b"/>
              <a:pathLst>
                <a:path w="2032" h="1536">
                  <a:moveTo>
                    <a:pt x="648" y="131"/>
                  </a:moveTo>
                  <a:lnTo>
                    <a:pt x="717" y="96"/>
                  </a:lnTo>
                  <a:lnTo>
                    <a:pt x="788" y="67"/>
                  </a:lnTo>
                  <a:lnTo>
                    <a:pt x="860" y="43"/>
                  </a:lnTo>
                  <a:lnTo>
                    <a:pt x="934" y="24"/>
                  </a:lnTo>
                  <a:lnTo>
                    <a:pt x="1008" y="11"/>
                  </a:lnTo>
                  <a:lnTo>
                    <a:pt x="1083" y="4"/>
                  </a:lnTo>
                  <a:lnTo>
                    <a:pt x="1157" y="0"/>
                  </a:lnTo>
                  <a:lnTo>
                    <a:pt x="1232" y="0"/>
                  </a:lnTo>
                  <a:lnTo>
                    <a:pt x="1306" y="3"/>
                  </a:lnTo>
                  <a:lnTo>
                    <a:pt x="1377" y="8"/>
                  </a:lnTo>
                  <a:lnTo>
                    <a:pt x="1449" y="17"/>
                  </a:lnTo>
                  <a:lnTo>
                    <a:pt x="1517" y="29"/>
                  </a:lnTo>
                  <a:lnTo>
                    <a:pt x="1583" y="42"/>
                  </a:lnTo>
                  <a:lnTo>
                    <a:pt x="1647" y="55"/>
                  </a:lnTo>
                  <a:lnTo>
                    <a:pt x="1707" y="70"/>
                  </a:lnTo>
                  <a:lnTo>
                    <a:pt x="1762" y="86"/>
                  </a:lnTo>
                  <a:lnTo>
                    <a:pt x="1815" y="102"/>
                  </a:lnTo>
                  <a:lnTo>
                    <a:pt x="1862" y="116"/>
                  </a:lnTo>
                  <a:lnTo>
                    <a:pt x="1905" y="131"/>
                  </a:lnTo>
                  <a:lnTo>
                    <a:pt x="1942" y="146"/>
                  </a:lnTo>
                  <a:lnTo>
                    <a:pt x="1972" y="157"/>
                  </a:lnTo>
                  <a:lnTo>
                    <a:pt x="1999" y="167"/>
                  </a:lnTo>
                  <a:lnTo>
                    <a:pt x="2016" y="175"/>
                  </a:lnTo>
                  <a:lnTo>
                    <a:pt x="2028" y="179"/>
                  </a:lnTo>
                  <a:lnTo>
                    <a:pt x="2032" y="182"/>
                  </a:lnTo>
                  <a:lnTo>
                    <a:pt x="2031" y="186"/>
                  </a:lnTo>
                  <a:lnTo>
                    <a:pt x="2029" y="200"/>
                  </a:lnTo>
                  <a:lnTo>
                    <a:pt x="2026" y="220"/>
                  </a:lnTo>
                  <a:lnTo>
                    <a:pt x="2022" y="249"/>
                  </a:lnTo>
                  <a:lnTo>
                    <a:pt x="2018" y="286"/>
                  </a:lnTo>
                  <a:lnTo>
                    <a:pt x="2009" y="326"/>
                  </a:lnTo>
                  <a:lnTo>
                    <a:pt x="2000" y="375"/>
                  </a:lnTo>
                  <a:lnTo>
                    <a:pt x="1989" y="427"/>
                  </a:lnTo>
                  <a:lnTo>
                    <a:pt x="1975" y="483"/>
                  </a:lnTo>
                  <a:lnTo>
                    <a:pt x="1958" y="542"/>
                  </a:lnTo>
                  <a:lnTo>
                    <a:pt x="1940" y="607"/>
                  </a:lnTo>
                  <a:lnTo>
                    <a:pt x="1919" y="672"/>
                  </a:lnTo>
                  <a:lnTo>
                    <a:pt x="1894" y="738"/>
                  </a:lnTo>
                  <a:lnTo>
                    <a:pt x="1866" y="806"/>
                  </a:lnTo>
                  <a:lnTo>
                    <a:pt x="1835" y="875"/>
                  </a:lnTo>
                  <a:lnTo>
                    <a:pt x="1802" y="944"/>
                  </a:lnTo>
                  <a:lnTo>
                    <a:pt x="1764" y="1011"/>
                  </a:lnTo>
                  <a:lnTo>
                    <a:pt x="1722" y="1076"/>
                  </a:lnTo>
                  <a:lnTo>
                    <a:pt x="1676" y="1141"/>
                  </a:lnTo>
                  <a:lnTo>
                    <a:pt x="1627" y="1202"/>
                  </a:lnTo>
                  <a:lnTo>
                    <a:pt x="1573" y="1259"/>
                  </a:lnTo>
                  <a:lnTo>
                    <a:pt x="1514" y="1313"/>
                  </a:lnTo>
                  <a:lnTo>
                    <a:pt x="1452" y="1361"/>
                  </a:lnTo>
                  <a:lnTo>
                    <a:pt x="1383" y="1405"/>
                  </a:lnTo>
                  <a:lnTo>
                    <a:pt x="1315" y="1440"/>
                  </a:lnTo>
                  <a:lnTo>
                    <a:pt x="1245" y="1469"/>
                  </a:lnTo>
                  <a:lnTo>
                    <a:pt x="1173" y="1494"/>
                  </a:lnTo>
                  <a:lnTo>
                    <a:pt x="1099" y="1511"/>
                  </a:lnTo>
                  <a:lnTo>
                    <a:pt x="1024" y="1524"/>
                  </a:lnTo>
                  <a:lnTo>
                    <a:pt x="950" y="1532"/>
                  </a:lnTo>
                  <a:lnTo>
                    <a:pt x="876" y="1536"/>
                  </a:lnTo>
                  <a:lnTo>
                    <a:pt x="801" y="1536"/>
                  </a:lnTo>
                  <a:lnTo>
                    <a:pt x="727" y="1533"/>
                  </a:lnTo>
                  <a:lnTo>
                    <a:pt x="654" y="1527"/>
                  </a:lnTo>
                  <a:lnTo>
                    <a:pt x="584" y="1518"/>
                  </a:lnTo>
                  <a:lnTo>
                    <a:pt x="515" y="1507"/>
                  </a:lnTo>
                  <a:lnTo>
                    <a:pt x="450" y="1495"/>
                  </a:lnTo>
                  <a:lnTo>
                    <a:pt x="385" y="1481"/>
                  </a:lnTo>
                  <a:lnTo>
                    <a:pt x="326" y="1466"/>
                  </a:lnTo>
                  <a:lnTo>
                    <a:pt x="270" y="1450"/>
                  </a:lnTo>
                  <a:lnTo>
                    <a:pt x="218" y="1434"/>
                  </a:lnTo>
                  <a:lnTo>
                    <a:pt x="170" y="1419"/>
                  </a:lnTo>
                  <a:lnTo>
                    <a:pt x="127" y="1405"/>
                  </a:lnTo>
                  <a:lnTo>
                    <a:pt x="91" y="1390"/>
                  </a:lnTo>
                  <a:lnTo>
                    <a:pt x="59" y="1378"/>
                  </a:lnTo>
                  <a:lnTo>
                    <a:pt x="34" y="1368"/>
                  </a:lnTo>
                  <a:lnTo>
                    <a:pt x="16" y="1361"/>
                  </a:lnTo>
                  <a:lnTo>
                    <a:pt x="5" y="1357"/>
                  </a:lnTo>
                  <a:lnTo>
                    <a:pt x="0" y="1355"/>
                  </a:lnTo>
                  <a:lnTo>
                    <a:pt x="0" y="1349"/>
                  </a:lnTo>
                  <a:lnTo>
                    <a:pt x="3" y="1336"/>
                  </a:lnTo>
                  <a:lnTo>
                    <a:pt x="5" y="1316"/>
                  </a:lnTo>
                  <a:lnTo>
                    <a:pt x="9" y="1287"/>
                  </a:lnTo>
                  <a:lnTo>
                    <a:pt x="15" y="1250"/>
                  </a:lnTo>
                  <a:lnTo>
                    <a:pt x="22" y="1209"/>
                  </a:lnTo>
                  <a:lnTo>
                    <a:pt x="33" y="1161"/>
                  </a:lnTo>
                  <a:lnTo>
                    <a:pt x="44" y="1109"/>
                  </a:lnTo>
                  <a:lnTo>
                    <a:pt x="57" y="1053"/>
                  </a:lnTo>
                  <a:lnTo>
                    <a:pt x="73" y="993"/>
                  </a:lnTo>
                  <a:lnTo>
                    <a:pt x="92" y="929"/>
                  </a:lnTo>
                  <a:lnTo>
                    <a:pt x="114" y="865"/>
                  </a:lnTo>
                  <a:lnTo>
                    <a:pt x="139" y="798"/>
                  </a:lnTo>
                  <a:lnTo>
                    <a:pt x="167" y="729"/>
                  </a:lnTo>
                  <a:lnTo>
                    <a:pt x="197" y="661"/>
                  </a:lnTo>
                  <a:lnTo>
                    <a:pt x="231" y="592"/>
                  </a:lnTo>
                  <a:lnTo>
                    <a:pt x="269" y="525"/>
                  </a:lnTo>
                  <a:lnTo>
                    <a:pt x="311" y="459"/>
                  </a:lnTo>
                  <a:lnTo>
                    <a:pt x="356" y="395"/>
                  </a:lnTo>
                  <a:lnTo>
                    <a:pt x="406" y="334"/>
                  </a:lnTo>
                  <a:lnTo>
                    <a:pt x="460" y="277"/>
                  </a:lnTo>
                  <a:lnTo>
                    <a:pt x="518" y="223"/>
                  </a:lnTo>
                  <a:lnTo>
                    <a:pt x="581" y="175"/>
                  </a:lnTo>
                  <a:lnTo>
                    <a:pt x="648" y="131"/>
                  </a:lnTo>
                </a:path>
              </a:pathLst>
            </a:custGeom>
            <a:gradFill rotWithShape="0">
              <a:gsLst>
                <a:gs pos="0">
                  <a:srgbClr val="bc61cb"/>
                </a:gs>
                <a:gs pos="100000">
                  <a:srgbClr val="e9caee"/>
                </a:gs>
              </a:gsLst>
              <a:lin ang="48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6" name="Text Box 14"/>
            <p:cNvSpPr/>
            <p:nvPr/>
          </p:nvSpPr>
          <p:spPr>
            <a:xfrm rot="20305800">
              <a:off x="2091240" y="3659040"/>
              <a:ext cx="18399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нформация о наличии лекарств в аптеках города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97" name="Picture 5" descr="F:\Подготовка презентации 2008\ICONS\VirtualLNK Icons\VirtualLNK Medical Icons Collection v1.0\BMP\Regular\72x72\Allergy Vials Dosage.bmp"/>
            <p:cNvPicPr/>
            <p:nvPr/>
          </p:nvPicPr>
          <p:blipFill>
            <a:blip r:embed="rId5"/>
            <a:stretch/>
          </p:blipFill>
          <p:spPr>
            <a:xfrm>
              <a:off x="785880" y="407196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" descr="F:\Подготовка презентации 2008\ICONS\VirtualLNK Icons\VirtualLNK Accounting Icons Collection v1.0\BMP\Regular\72x72\Barcode Scan.bmp"/>
            <p:cNvPicPr/>
            <p:nvPr/>
          </p:nvPicPr>
          <p:blipFill>
            <a:blip r:embed="rId6"/>
            <a:stretch/>
          </p:blipFill>
          <p:spPr>
            <a:xfrm>
              <a:off x="1714320" y="4572000"/>
              <a:ext cx="571320" cy="571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9" name="Группа 61"/>
          <p:cNvGrpSpPr/>
          <p:nvPr/>
        </p:nvGrpSpPr>
        <p:grpSpPr>
          <a:xfrm>
            <a:off x="4129560" y="3358080"/>
            <a:ext cx="2942640" cy="3214080"/>
            <a:chOff x="4129560" y="3358080"/>
            <a:chExt cx="2942640" cy="3214080"/>
          </a:xfrm>
        </p:grpSpPr>
        <p:sp>
          <p:nvSpPr>
            <p:cNvPr id="600" name="Freeform 8"/>
            <p:cNvSpPr/>
            <p:nvPr/>
          </p:nvSpPr>
          <p:spPr>
            <a:xfrm rot="19367400">
              <a:off x="4913280" y="3324240"/>
              <a:ext cx="858600" cy="2881440"/>
            </a:xfrm>
            <a:custGeom>
              <a:avLst/>
              <a:gdLst/>
              <a:ahLst/>
              <a:rect l="l" t="t" r="r" b="b"/>
              <a:pathLst>
                <a:path w="1470" h="2346">
                  <a:moveTo>
                    <a:pt x="1470" y="1173"/>
                  </a:moveTo>
                  <a:lnTo>
                    <a:pt x="1467" y="1246"/>
                  </a:lnTo>
                  <a:lnTo>
                    <a:pt x="1458" y="1319"/>
                  </a:lnTo>
                  <a:lnTo>
                    <a:pt x="1444" y="1390"/>
                  </a:lnTo>
                  <a:lnTo>
                    <a:pt x="1423" y="1462"/>
                  </a:lnTo>
                  <a:lnTo>
                    <a:pt x="1400" y="1529"/>
                  </a:lnTo>
                  <a:lnTo>
                    <a:pt x="1371" y="1596"/>
                  </a:lnTo>
                  <a:lnTo>
                    <a:pt x="1339" y="1662"/>
                  </a:lnTo>
                  <a:lnTo>
                    <a:pt x="1305" y="1725"/>
                  </a:lnTo>
                  <a:lnTo>
                    <a:pt x="1267" y="1784"/>
                  </a:lnTo>
                  <a:lnTo>
                    <a:pt x="1228" y="1843"/>
                  </a:lnTo>
                  <a:lnTo>
                    <a:pt x="1187" y="1898"/>
                  </a:lnTo>
                  <a:lnTo>
                    <a:pt x="1145" y="1952"/>
                  </a:lnTo>
                  <a:lnTo>
                    <a:pt x="1102" y="2002"/>
                  </a:lnTo>
                  <a:lnTo>
                    <a:pt x="1060" y="2050"/>
                  </a:lnTo>
                  <a:lnTo>
                    <a:pt x="1019" y="2094"/>
                  </a:lnTo>
                  <a:lnTo>
                    <a:pt x="978" y="2135"/>
                  </a:lnTo>
                  <a:lnTo>
                    <a:pt x="939" y="2174"/>
                  </a:lnTo>
                  <a:lnTo>
                    <a:pt x="901" y="2207"/>
                  </a:lnTo>
                  <a:lnTo>
                    <a:pt x="866" y="2240"/>
                  </a:lnTo>
                  <a:lnTo>
                    <a:pt x="835" y="2266"/>
                  </a:lnTo>
                  <a:lnTo>
                    <a:pt x="806" y="2291"/>
                  </a:lnTo>
                  <a:lnTo>
                    <a:pt x="783" y="2310"/>
                  </a:lnTo>
                  <a:lnTo>
                    <a:pt x="763" y="2326"/>
                  </a:lnTo>
                  <a:lnTo>
                    <a:pt x="748" y="2336"/>
                  </a:lnTo>
                  <a:lnTo>
                    <a:pt x="739" y="2343"/>
                  </a:lnTo>
                  <a:lnTo>
                    <a:pt x="735" y="2346"/>
                  </a:lnTo>
                  <a:lnTo>
                    <a:pt x="732" y="2343"/>
                  </a:lnTo>
                  <a:lnTo>
                    <a:pt x="723" y="2336"/>
                  </a:lnTo>
                  <a:lnTo>
                    <a:pt x="709" y="2326"/>
                  </a:lnTo>
                  <a:lnTo>
                    <a:pt x="688" y="2310"/>
                  </a:lnTo>
                  <a:lnTo>
                    <a:pt x="665" y="2291"/>
                  </a:lnTo>
                  <a:lnTo>
                    <a:pt x="636" y="2266"/>
                  </a:lnTo>
                  <a:lnTo>
                    <a:pt x="604" y="2240"/>
                  </a:lnTo>
                  <a:lnTo>
                    <a:pt x="570" y="2207"/>
                  </a:lnTo>
                  <a:lnTo>
                    <a:pt x="532" y="2174"/>
                  </a:lnTo>
                  <a:lnTo>
                    <a:pt x="493" y="2135"/>
                  </a:lnTo>
                  <a:lnTo>
                    <a:pt x="452" y="2094"/>
                  </a:lnTo>
                  <a:lnTo>
                    <a:pt x="410" y="2050"/>
                  </a:lnTo>
                  <a:lnTo>
                    <a:pt x="367" y="2002"/>
                  </a:lnTo>
                  <a:lnTo>
                    <a:pt x="325" y="1952"/>
                  </a:lnTo>
                  <a:lnTo>
                    <a:pt x="284" y="1898"/>
                  </a:lnTo>
                  <a:lnTo>
                    <a:pt x="243" y="1843"/>
                  </a:lnTo>
                  <a:lnTo>
                    <a:pt x="204" y="1784"/>
                  </a:lnTo>
                  <a:lnTo>
                    <a:pt x="166" y="1725"/>
                  </a:lnTo>
                  <a:lnTo>
                    <a:pt x="131" y="1662"/>
                  </a:lnTo>
                  <a:lnTo>
                    <a:pt x="100" y="1596"/>
                  </a:lnTo>
                  <a:lnTo>
                    <a:pt x="71" y="1529"/>
                  </a:lnTo>
                  <a:lnTo>
                    <a:pt x="48" y="1462"/>
                  </a:lnTo>
                  <a:lnTo>
                    <a:pt x="27" y="1390"/>
                  </a:lnTo>
                  <a:lnTo>
                    <a:pt x="13" y="1319"/>
                  </a:lnTo>
                  <a:lnTo>
                    <a:pt x="4" y="1246"/>
                  </a:lnTo>
                  <a:lnTo>
                    <a:pt x="0" y="1173"/>
                  </a:lnTo>
                  <a:lnTo>
                    <a:pt x="4" y="1099"/>
                  </a:lnTo>
                  <a:lnTo>
                    <a:pt x="13" y="1026"/>
                  </a:lnTo>
                  <a:lnTo>
                    <a:pt x="27" y="954"/>
                  </a:lnTo>
                  <a:lnTo>
                    <a:pt x="48" y="884"/>
                  </a:lnTo>
                  <a:lnTo>
                    <a:pt x="71" y="816"/>
                  </a:lnTo>
                  <a:lnTo>
                    <a:pt x="100" y="748"/>
                  </a:lnTo>
                  <a:lnTo>
                    <a:pt x="131" y="684"/>
                  </a:lnTo>
                  <a:lnTo>
                    <a:pt x="166" y="621"/>
                  </a:lnTo>
                  <a:lnTo>
                    <a:pt x="204" y="560"/>
                  </a:lnTo>
                  <a:lnTo>
                    <a:pt x="243" y="502"/>
                  </a:lnTo>
                  <a:lnTo>
                    <a:pt x="284" y="446"/>
                  </a:lnTo>
                  <a:lnTo>
                    <a:pt x="325" y="394"/>
                  </a:lnTo>
                  <a:lnTo>
                    <a:pt x="367" y="343"/>
                  </a:lnTo>
                  <a:lnTo>
                    <a:pt x="410" y="295"/>
                  </a:lnTo>
                  <a:lnTo>
                    <a:pt x="452" y="251"/>
                  </a:lnTo>
                  <a:lnTo>
                    <a:pt x="493" y="210"/>
                  </a:lnTo>
                  <a:lnTo>
                    <a:pt x="532" y="171"/>
                  </a:lnTo>
                  <a:lnTo>
                    <a:pt x="570" y="137"/>
                  </a:lnTo>
                  <a:lnTo>
                    <a:pt x="604" y="105"/>
                  </a:lnTo>
                  <a:lnTo>
                    <a:pt x="636" y="79"/>
                  </a:lnTo>
                  <a:lnTo>
                    <a:pt x="665" y="55"/>
                  </a:lnTo>
                  <a:lnTo>
                    <a:pt x="688" y="35"/>
                  </a:lnTo>
                  <a:lnTo>
                    <a:pt x="709" y="19"/>
                  </a:lnTo>
                  <a:lnTo>
                    <a:pt x="723" y="9"/>
                  </a:lnTo>
                  <a:lnTo>
                    <a:pt x="732" y="1"/>
                  </a:lnTo>
                  <a:lnTo>
                    <a:pt x="735" y="0"/>
                  </a:lnTo>
                  <a:lnTo>
                    <a:pt x="739" y="1"/>
                  </a:lnTo>
                  <a:lnTo>
                    <a:pt x="748" y="9"/>
                  </a:lnTo>
                  <a:lnTo>
                    <a:pt x="763" y="19"/>
                  </a:lnTo>
                  <a:lnTo>
                    <a:pt x="783" y="35"/>
                  </a:lnTo>
                  <a:lnTo>
                    <a:pt x="806" y="55"/>
                  </a:lnTo>
                  <a:lnTo>
                    <a:pt x="835" y="79"/>
                  </a:lnTo>
                  <a:lnTo>
                    <a:pt x="866" y="105"/>
                  </a:lnTo>
                  <a:lnTo>
                    <a:pt x="901" y="137"/>
                  </a:lnTo>
                  <a:lnTo>
                    <a:pt x="939" y="171"/>
                  </a:lnTo>
                  <a:lnTo>
                    <a:pt x="978" y="210"/>
                  </a:lnTo>
                  <a:lnTo>
                    <a:pt x="1019" y="251"/>
                  </a:lnTo>
                  <a:lnTo>
                    <a:pt x="1060" y="295"/>
                  </a:lnTo>
                  <a:lnTo>
                    <a:pt x="1102" y="343"/>
                  </a:lnTo>
                  <a:lnTo>
                    <a:pt x="1145" y="394"/>
                  </a:lnTo>
                  <a:lnTo>
                    <a:pt x="1187" y="446"/>
                  </a:lnTo>
                  <a:lnTo>
                    <a:pt x="1228" y="502"/>
                  </a:lnTo>
                  <a:lnTo>
                    <a:pt x="1267" y="560"/>
                  </a:lnTo>
                  <a:lnTo>
                    <a:pt x="1305" y="621"/>
                  </a:lnTo>
                  <a:lnTo>
                    <a:pt x="1339" y="684"/>
                  </a:lnTo>
                  <a:lnTo>
                    <a:pt x="1371" y="748"/>
                  </a:lnTo>
                  <a:lnTo>
                    <a:pt x="1400" y="816"/>
                  </a:lnTo>
                  <a:lnTo>
                    <a:pt x="1423" y="884"/>
                  </a:lnTo>
                  <a:lnTo>
                    <a:pt x="1444" y="954"/>
                  </a:lnTo>
                  <a:lnTo>
                    <a:pt x="1458" y="1026"/>
                  </a:lnTo>
                  <a:lnTo>
                    <a:pt x="1467" y="1099"/>
                  </a:lnTo>
                  <a:lnTo>
                    <a:pt x="1470" y="1173"/>
                  </a:lnTo>
                </a:path>
              </a:pathLst>
            </a:custGeom>
            <a:gradFill rotWithShape="0">
              <a:gsLst>
                <a:gs pos="0">
                  <a:srgbClr val="ffaacc"/>
                </a:gs>
                <a:gs pos="100000">
                  <a:srgbClr val="ff0066"/>
                </a:gs>
              </a:gsLst>
              <a:lin ang="7632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601" name="Picture 8" descr="F:\Подготовка презентации 2008\ICONS\VirtualLNK Icons\VirtualLNK Medical Icons Collection v1.0\BMP\Regular\72x72\Qualifications 3D.bmp"/>
            <p:cNvPicPr/>
            <p:nvPr/>
          </p:nvPicPr>
          <p:blipFill>
            <a:blip r:embed="rId7"/>
            <a:stretch/>
          </p:blipFill>
          <p:spPr>
            <a:xfrm>
              <a:off x="6215040" y="5643720"/>
              <a:ext cx="71424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Text Box 14"/>
            <p:cNvSpPr/>
            <p:nvPr/>
          </p:nvSpPr>
          <p:spPr>
            <a:xfrm rot="3028800">
              <a:off x="4702320" y="4950360"/>
              <a:ext cx="18399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нформация о статусе включения в регистры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603" name="Picture 10" descr="F:\Подготовка презентации 2008\ICONS\VirtualLNK Icons\VirtualLNK Network Icons Collection v1.0\BMP\Regular\72x72\XML Data 1.bmp"/>
            <p:cNvPicPr/>
            <p:nvPr/>
          </p:nvPicPr>
          <p:blipFill>
            <a:blip r:embed="rId8"/>
            <a:stretch/>
          </p:blipFill>
          <p:spPr>
            <a:xfrm>
              <a:off x="6500880" y="6000840"/>
              <a:ext cx="57132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4" name="Picture 17" descr="F:\Подготовка презентации 2008\ICONS\VirtualLNK Icons\VirtualLNK Accounting Icons Collection v1.0\BMP\Regular\72x72\Barcode Scan.bmp"/>
            <p:cNvPicPr/>
            <p:nvPr/>
          </p:nvPicPr>
          <p:blipFill>
            <a:blip r:embed="rId9"/>
            <a:stretch/>
          </p:blipFill>
          <p:spPr>
            <a:xfrm flipH="1">
              <a:off x="5571720" y="5786640"/>
              <a:ext cx="571320" cy="571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5" name="Группа 47"/>
          <p:cNvGrpSpPr/>
          <p:nvPr/>
        </p:nvGrpSpPr>
        <p:grpSpPr>
          <a:xfrm>
            <a:off x="1000080" y="2200320"/>
            <a:ext cx="3544920" cy="1754640"/>
            <a:chOff x="1000080" y="2200320"/>
            <a:chExt cx="3544920" cy="1754640"/>
          </a:xfrm>
        </p:grpSpPr>
        <p:sp>
          <p:nvSpPr>
            <p:cNvPr id="606" name="Freeform 6"/>
            <p:cNvSpPr/>
            <p:nvPr/>
          </p:nvSpPr>
          <p:spPr>
            <a:xfrm rot="798600">
              <a:off x="1850400" y="2790720"/>
              <a:ext cx="2629080" cy="873360"/>
            </a:xfrm>
            <a:custGeom>
              <a:avLst/>
              <a:gdLst/>
              <a:ahLst/>
              <a:rect l="l" t="t" r="r" b="b"/>
              <a:pathLst>
                <a:path w="2032" h="1536">
                  <a:moveTo>
                    <a:pt x="1383" y="131"/>
                  </a:moveTo>
                  <a:lnTo>
                    <a:pt x="1451" y="175"/>
                  </a:lnTo>
                  <a:lnTo>
                    <a:pt x="1514" y="223"/>
                  </a:lnTo>
                  <a:lnTo>
                    <a:pt x="1572" y="277"/>
                  </a:lnTo>
                  <a:lnTo>
                    <a:pt x="1626" y="334"/>
                  </a:lnTo>
                  <a:lnTo>
                    <a:pt x="1676" y="395"/>
                  </a:lnTo>
                  <a:lnTo>
                    <a:pt x="1721" y="459"/>
                  </a:lnTo>
                  <a:lnTo>
                    <a:pt x="1763" y="525"/>
                  </a:lnTo>
                  <a:lnTo>
                    <a:pt x="1801" y="592"/>
                  </a:lnTo>
                  <a:lnTo>
                    <a:pt x="1835" y="660"/>
                  </a:lnTo>
                  <a:lnTo>
                    <a:pt x="1866" y="729"/>
                  </a:lnTo>
                  <a:lnTo>
                    <a:pt x="1893" y="798"/>
                  </a:lnTo>
                  <a:lnTo>
                    <a:pt x="1918" y="865"/>
                  </a:lnTo>
                  <a:lnTo>
                    <a:pt x="1940" y="929"/>
                  </a:lnTo>
                  <a:lnTo>
                    <a:pt x="1957" y="993"/>
                  </a:lnTo>
                  <a:lnTo>
                    <a:pt x="1975" y="1053"/>
                  </a:lnTo>
                  <a:lnTo>
                    <a:pt x="1988" y="1108"/>
                  </a:lnTo>
                  <a:lnTo>
                    <a:pt x="2000" y="1161"/>
                  </a:lnTo>
                  <a:lnTo>
                    <a:pt x="2008" y="1209"/>
                  </a:lnTo>
                  <a:lnTo>
                    <a:pt x="2017" y="1250"/>
                  </a:lnTo>
                  <a:lnTo>
                    <a:pt x="2022" y="1286"/>
                  </a:lnTo>
                  <a:lnTo>
                    <a:pt x="2026" y="1316"/>
                  </a:lnTo>
                  <a:lnTo>
                    <a:pt x="2029" y="1336"/>
                  </a:lnTo>
                  <a:lnTo>
                    <a:pt x="2030" y="1349"/>
                  </a:lnTo>
                  <a:lnTo>
                    <a:pt x="2032" y="1355"/>
                  </a:lnTo>
                  <a:lnTo>
                    <a:pt x="2027" y="1356"/>
                  </a:lnTo>
                  <a:lnTo>
                    <a:pt x="2016" y="1361"/>
                  </a:lnTo>
                  <a:lnTo>
                    <a:pt x="1998" y="1368"/>
                  </a:lnTo>
                  <a:lnTo>
                    <a:pt x="1972" y="1378"/>
                  </a:lnTo>
                  <a:lnTo>
                    <a:pt x="1941" y="1390"/>
                  </a:lnTo>
                  <a:lnTo>
                    <a:pt x="1905" y="1405"/>
                  </a:lnTo>
                  <a:lnTo>
                    <a:pt x="1861" y="1419"/>
                  </a:lnTo>
                  <a:lnTo>
                    <a:pt x="1814" y="1434"/>
                  </a:lnTo>
                  <a:lnTo>
                    <a:pt x="1762" y="1450"/>
                  </a:lnTo>
                  <a:lnTo>
                    <a:pt x="1707" y="1466"/>
                  </a:lnTo>
                  <a:lnTo>
                    <a:pt x="1647" y="1480"/>
                  </a:lnTo>
                  <a:lnTo>
                    <a:pt x="1583" y="1495"/>
                  </a:lnTo>
                  <a:lnTo>
                    <a:pt x="1517" y="1507"/>
                  </a:lnTo>
                  <a:lnTo>
                    <a:pt x="1448" y="1518"/>
                  </a:lnTo>
                  <a:lnTo>
                    <a:pt x="1377" y="1527"/>
                  </a:lnTo>
                  <a:lnTo>
                    <a:pt x="1305" y="1533"/>
                  </a:lnTo>
                  <a:lnTo>
                    <a:pt x="1231" y="1536"/>
                  </a:lnTo>
                  <a:lnTo>
                    <a:pt x="1157" y="1536"/>
                  </a:lnTo>
                  <a:lnTo>
                    <a:pt x="1082" y="1532"/>
                  </a:lnTo>
                  <a:lnTo>
                    <a:pt x="1008" y="1524"/>
                  </a:lnTo>
                  <a:lnTo>
                    <a:pt x="933" y="1511"/>
                  </a:lnTo>
                  <a:lnTo>
                    <a:pt x="859" y="1494"/>
                  </a:lnTo>
                  <a:lnTo>
                    <a:pt x="788" y="1469"/>
                  </a:lnTo>
                  <a:lnTo>
                    <a:pt x="716" y="1440"/>
                  </a:lnTo>
                  <a:lnTo>
                    <a:pt x="648" y="1405"/>
                  </a:lnTo>
                  <a:lnTo>
                    <a:pt x="580" y="1361"/>
                  </a:lnTo>
                  <a:lnTo>
                    <a:pt x="518" y="1313"/>
                  </a:lnTo>
                  <a:lnTo>
                    <a:pt x="459" y="1259"/>
                  </a:lnTo>
                  <a:lnTo>
                    <a:pt x="405" y="1202"/>
                  </a:lnTo>
                  <a:lnTo>
                    <a:pt x="356" y="1141"/>
                  </a:lnTo>
                  <a:lnTo>
                    <a:pt x="311" y="1076"/>
                  </a:lnTo>
                  <a:lnTo>
                    <a:pt x="268" y="1011"/>
                  </a:lnTo>
                  <a:lnTo>
                    <a:pt x="230" y="944"/>
                  </a:lnTo>
                  <a:lnTo>
                    <a:pt x="197" y="875"/>
                  </a:lnTo>
                  <a:lnTo>
                    <a:pt x="166" y="806"/>
                  </a:lnTo>
                  <a:lnTo>
                    <a:pt x="138" y="738"/>
                  </a:lnTo>
                  <a:lnTo>
                    <a:pt x="114" y="672"/>
                  </a:lnTo>
                  <a:lnTo>
                    <a:pt x="92" y="607"/>
                  </a:lnTo>
                  <a:lnTo>
                    <a:pt x="73" y="542"/>
                  </a:lnTo>
                  <a:lnTo>
                    <a:pt x="57" y="482"/>
                  </a:lnTo>
                  <a:lnTo>
                    <a:pt x="44" y="427"/>
                  </a:lnTo>
                  <a:lnTo>
                    <a:pt x="32" y="375"/>
                  </a:lnTo>
                  <a:lnTo>
                    <a:pt x="22" y="326"/>
                  </a:lnTo>
                  <a:lnTo>
                    <a:pt x="15" y="286"/>
                  </a:lnTo>
                  <a:lnTo>
                    <a:pt x="9" y="249"/>
                  </a:lnTo>
                  <a:lnTo>
                    <a:pt x="4" y="220"/>
                  </a:lnTo>
                  <a:lnTo>
                    <a:pt x="3" y="199"/>
                  </a:lnTo>
                  <a:lnTo>
                    <a:pt x="0" y="186"/>
                  </a:lnTo>
                  <a:lnTo>
                    <a:pt x="0" y="182"/>
                  </a:lnTo>
                  <a:lnTo>
                    <a:pt x="4" y="179"/>
                  </a:lnTo>
                  <a:lnTo>
                    <a:pt x="16" y="175"/>
                  </a:lnTo>
                  <a:lnTo>
                    <a:pt x="33" y="167"/>
                  </a:lnTo>
                  <a:lnTo>
                    <a:pt x="58" y="157"/>
                  </a:lnTo>
                  <a:lnTo>
                    <a:pt x="90" y="145"/>
                  </a:lnTo>
                  <a:lnTo>
                    <a:pt x="127" y="131"/>
                  </a:lnTo>
                  <a:lnTo>
                    <a:pt x="169" y="116"/>
                  </a:lnTo>
                  <a:lnTo>
                    <a:pt x="217" y="102"/>
                  </a:lnTo>
                  <a:lnTo>
                    <a:pt x="270" y="86"/>
                  </a:lnTo>
                  <a:lnTo>
                    <a:pt x="325" y="70"/>
                  </a:lnTo>
                  <a:lnTo>
                    <a:pt x="385" y="55"/>
                  </a:lnTo>
                  <a:lnTo>
                    <a:pt x="449" y="42"/>
                  </a:lnTo>
                  <a:lnTo>
                    <a:pt x="515" y="29"/>
                  </a:lnTo>
                  <a:lnTo>
                    <a:pt x="583" y="17"/>
                  </a:lnTo>
                  <a:lnTo>
                    <a:pt x="653" y="8"/>
                  </a:lnTo>
                  <a:lnTo>
                    <a:pt x="726" y="2"/>
                  </a:lnTo>
                  <a:lnTo>
                    <a:pt x="801" y="0"/>
                  </a:lnTo>
                  <a:lnTo>
                    <a:pt x="875" y="0"/>
                  </a:lnTo>
                  <a:lnTo>
                    <a:pt x="949" y="4"/>
                  </a:lnTo>
                  <a:lnTo>
                    <a:pt x="1024" y="11"/>
                  </a:lnTo>
                  <a:lnTo>
                    <a:pt x="1098" y="24"/>
                  </a:lnTo>
                  <a:lnTo>
                    <a:pt x="1173" y="43"/>
                  </a:lnTo>
                  <a:lnTo>
                    <a:pt x="1244" y="67"/>
                  </a:lnTo>
                  <a:lnTo>
                    <a:pt x="1314" y="96"/>
                  </a:lnTo>
                  <a:lnTo>
                    <a:pt x="1383" y="131"/>
                  </a:lnTo>
                </a:path>
              </a:pathLst>
            </a:custGeom>
            <a:gradFill rotWithShape="0">
              <a:gsLst>
                <a:gs pos="0">
                  <a:srgbClr val="00b1f0"/>
                </a:gs>
                <a:gs pos="100000">
                  <a:srgbClr val="aae5fa"/>
                </a:gs>
              </a:gsLst>
              <a:lin ang="1902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7" name="Text Box 14"/>
            <p:cNvSpPr/>
            <p:nvPr/>
          </p:nvSpPr>
          <p:spPr>
            <a:xfrm rot="1500600">
              <a:off x="1980360" y="2859120"/>
              <a:ext cx="18399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Управление очередью на приём 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 ЛПУ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608" name="Picture 6" descr="F:\Подготовка презентации 2008\ICONS\VirtualLNK Icons\VirtualLNK Medical Icons Collection v1.0\BMP\Regular\72x72\Appointment.bmp"/>
            <p:cNvPicPr/>
            <p:nvPr/>
          </p:nvPicPr>
          <p:blipFill>
            <a:blip r:embed="rId10"/>
            <a:stretch/>
          </p:blipFill>
          <p:spPr>
            <a:xfrm>
              <a:off x="1000080" y="2200320"/>
              <a:ext cx="85716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9" name="Picture 17" descr="F:\Подготовка презентации 2008\ICONS\VirtualLNK Icons\VirtualLNK Accounting Icons Collection v1.0\BMP\Regular\72x72\Barcode Scan.bmp"/>
            <p:cNvPicPr/>
            <p:nvPr/>
          </p:nvPicPr>
          <p:blipFill>
            <a:blip r:embed="rId11"/>
            <a:stretch/>
          </p:blipFill>
          <p:spPr>
            <a:xfrm>
              <a:off x="1643040" y="2786040"/>
              <a:ext cx="571320" cy="571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0" name="Группа 60"/>
          <p:cNvGrpSpPr/>
          <p:nvPr/>
        </p:nvGrpSpPr>
        <p:grpSpPr>
          <a:xfrm>
            <a:off x="4358160" y="3571920"/>
            <a:ext cx="3485520" cy="2128680"/>
            <a:chOff x="4358160" y="3571920"/>
            <a:chExt cx="3485520" cy="2128680"/>
          </a:xfrm>
        </p:grpSpPr>
        <p:sp>
          <p:nvSpPr>
            <p:cNvPr id="611" name="Freeform 9"/>
            <p:cNvSpPr/>
            <p:nvPr/>
          </p:nvSpPr>
          <p:spPr>
            <a:xfrm rot="521400">
              <a:off x="4401720" y="3768840"/>
              <a:ext cx="2666880" cy="780840"/>
            </a:xfrm>
            <a:custGeom>
              <a:avLst/>
              <a:gdLst/>
              <a:ahLst/>
              <a:rect l="l" t="t" r="r" b="b"/>
              <a:pathLst>
                <a:path w="2032" h="1536">
                  <a:moveTo>
                    <a:pt x="1383" y="131"/>
                  </a:moveTo>
                  <a:lnTo>
                    <a:pt x="1451" y="175"/>
                  </a:lnTo>
                  <a:lnTo>
                    <a:pt x="1514" y="223"/>
                  </a:lnTo>
                  <a:lnTo>
                    <a:pt x="1572" y="277"/>
                  </a:lnTo>
                  <a:lnTo>
                    <a:pt x="1626" y="334"/>
                  </a:lnTo>
                  <a:lnTo>
                    <a:pt x="1676" y="395"/>
                  </a:lnTo>
                  <a:lnTo>
                    <a:pt x="1721" y="459"/>
                  </a:lnTo>
                  <a:lnTo>
                    <a:pt x="1763" y="525"/>
                  </a:lnTo>
                  <a:lnTo>
                    <a:pt x="1801" y="592"/>
                  </a:lnTo>
                  <a:lnTo>
                    <a:pt x="1835" y="661"/>
                  </a:lnTo>
                  <a:lnTo>
                    <a:pt x="1865" y="729"/>
                  </a:lnTo>
                  <a:lnTo>
                    <a:pt x="1893" y="798"/>
                  </a:lnTo>
                  <a:lnTo>
                    <a:pt x="1918" y="865"/>
                  </a:lnTo>
                  <a:lnTo>
                    <a:pt x="1940" y="929"/>
                  </a:lnTo>
                  <a:lnTo>
                    <a:pt x="1957" y="993"/>
                  </a:lnTo>
                  <a:lnTo>
                    <a:pt x="1975" y="1053"/>
                  </a:lnTo>
                  <a:lnTo>
                    <a:pt x="1988" y="1109"/>
                  </a:lnTo>
                  <a:lnTo>
                    <a:pt x="2000" y="1161"/>
                  </a:lnTo>
                  <a:lnTo>
                    <a:pt x="2008" y="1209"/>
                  </a:lnTo>
                  <a:lnTo>
                    <a:pt x="2017" y="1250"/>
                  </a:lnTo>
                  <a:lnTo>
                    <a:pt x="2021" y="1287"/>
                  </a:lnTo>
                  <a:lnTo>
                    <a:pt x="2026" y="1316"/>
                  </a:lnTo>
                  <a:lnTo>
                    <a:pt x="2029" y="1336"/>
                  </a:lnTo>
                  <a:lnTo>
                    <a:pt x="2030" y="1349"/>
                  </a:lnTo>
                  <a:lnTo>
                    <a:pt x="2032" y="1355"/>
                  </a:lnTo>
                  <a:lnTo>
                    <a:pt x="2027" y="1357"/>
                  </a:lnTo>
                  <a:lnTo>
                    <a:pt x="2016" y="1361"/>
                  </a:lnTo>
                  <a:lnTo>
                    <a:pt x="1998" y="1368"/>
                  </a:lnTo>
                  <a:lnTo>
                    <a:pt x="1972" y="1378"/>
                  </a:lnTo>
                  <a:lnTo>
                    <a:pt x="1941" y="1390"/>
                  </a:lnTo>
                  <a:lnTo>
                    <a:pt x="1905" y="1405"/>
                  </a:lnTo>
                  <a:lnTo>
                    <a:pt x="1861" y="1419"/>
                  </a:lnTo>
                  <a:lnTo>
                    <a:pt x="1814" y="1434"/>
                  </a:lnTo>
                  <a:lnTo>
                    <a:pt x="1762" y="1450"/>
                  </a:lnTo>
                  <a:lnTo>
                    <a:pt x="1706" y="1466"/>
                  </a:lnTo>
                  <a:lnTo>
                    <a:pt x="1647" y="1481"/>
                  </a:lnTo>
                  <a:lnTo>
                    <a:pt x="1582" y="1495"/>
                  </a:lnTo>
                  <a:lnTo>
                    <a:pt x="1517" y="1507"/>
                  </a:lnTo>
                  <a:lnTo>
                    <a:pt x="1448" y="1518"/>
                  </a:lnTo>
                  <a:lnTo>
                    <a:pt x="1377" y="1527"/>
                  </a:lnTo>
                  <a:lnTo>
                    <a:pt x="1305" y="1533"/>
                  </a:lnTo>
                  <a:lnTo>
                    <a:pt x="1231" y="1536"/>
                  </a:lnTo>
                  <a:lnTo>
                    <a:pt x="1157" y="1536"/>
                  </a:lnTo>
                  <a:lnTo>
                    <a:pt x="1082" y="1532"/>
                  </a:lnTo>
                  <a:lnTo>
                    <a:pt x="1008" y="1524"/>
                  </a:lnTo>
                  <a:lnTo>
                    <a:pt x="933" y="1511"/>
                  </a:lnTo>
                  <a:lnTo>
                    <a:pt x="859" y="1494"/>
                  </a:lnTo>
                  <a:lnTo>
                    <a:pt x="787" y="1469"/>
                  </a:lnTo>
                  <a:lnTo>
                    <a:pt x="716" y="1440"/>
                  </a:lnTo>
                  <a:lnTo>
                    <a:pt x="647" y="1405"/>
                  </a:lnTo>
                  <a:lnTo>
                    <a:pt x="580" y="1361"/>
                  </a:lnTo>
                  <a:lnTo>
                    <a:pt x="518" y="1313"/>
                  </a:lnTo>
                  <a:lnTo>
                    <a:pt x="459" y="1259"/>
                  </a:lnTo>
                  <a:lnTo>
                    <a:pt x="405" y="1202"/>
                  </a:lnTo>
                  <a:lnTo>
                    <a:pt x="356" y="1141"/>
                  </a:lnTo>
                  <a:lnTo>
                    <a:pt x="311" y="1076"/>
                  </a:lnTo>
                  <a:lnTo>
                    <a:pt x="268" y="1011"/>
                  </a:lnTo>
                  <a:lnTo>
                    <a:pt x="230" y="944"/>
                  </a:lnTo>
                  <a:lnTo>
                    <a:pt x="197" y="875"/>
                  </a:lnTo>
                  <a:lnTo>
                    <a:pt x="166" y="806"/>
                  </a:lnTo>
                  <a:lnTo>
                    <a:pt x="138" y="738"/>
                  </a:lnTo>
                  <a:lnTo>
                    <a:pt x="114" y="672"/>
                  </a:lnTo>
                  <a:lnTo>
                    <a:pt x="92" y="607"/>
                  </a:lnTo>
                  <a:lnTo>
                    <a:pt x="73" y="542"/>
                  </a:lnTo>
                  <a:lnTo>
                    <a:pt x="57" y="483"/>
                  </a:lnTo>
                  <a:lnTo>
                    <a:pt x="44" y="427"/>
                  </a:lnTo>
                  <a:lnTo>
                    <a:pt x="32" y="375"/>
                  </a:lnTo>
                  <a:lnTo>
                    <a:pt x="22" y="326"/>
                  </a:lnTo>
                  <a:lnTo>
                    <a:pt x="14" y="286"/>
                  </a:lnTo>
                  <a:lnTo>
                    <a:pt x="9" y="249"/>
                  </a:lnTo>
                  <a:lnTo>
                    <a:pt x="4" y="220"/>
                  </a:lnTo>
                  <a:lnTo>
                    <a:pt x="3" y="200"/>
                  </a:lnTo>
                  <a:lnTo>
                    <a:pt x="0" y="186"/>
                  </a:lnTo>
                  <a:lnTo>
                    <a:pt x="0" y="182"/>
                  </a:lnTo>
                  <a:lnTo>
                    <a:pt x="4" y="179"/>
                  </a:lnTo>
                  <a:lnTo>
                    <a:pt x="16" y="175"/>
                  </a:lnTo>
                  <a:lnTo>
                    <a:pt x="33" y="167"/>
                  </a:lnTo>
                  <a:lnTo>
                    <a:pt x="58" y="157"/>
                  </a:lnTo>
                  <a:lnTo>
                    <a:pt x="90" y="146"/>
                  </a:lnTo>
                  <a:lnTo>
                    <a:pt x="127" y="131"/>
                  </a:lnTo>
                  <a:lnTo>
                    <a:pt x="169" y="116"/>
                  </a:lnTo>
                  <a:lnTo>
                    <a:pt x="217" y="102"/>
                  </a:lnTo>
                  <a:lnTo>
                    <a:pt x="270" y="86"/>
                  </a:lnTo>
                  <a:lnTo>
                    <a:pt x="325" y="70"/>
                  </a:lnTo>
                  <a:lnTo>
                    <a:pt x="385" y="55"/>
                  </a:lnTo>
                  <a:lnTo>
                    <a:pt x="449" y="42"/>
                  </a:lnTo>
                  <a:lnTo>
                    <a:pt x="515" y="29"/>
                  </a:lnTo>
                  <a:lnTo>
                    <a:pt x="583" y="17"/>
                  </a:lnTo>
                  <a:lnTo>
                    <a:pt x="653" y="8"/>
                  </a:lnTo>
                  <a:lnTo>
                    <a:pt x="726" y="3"/>
                  </a:lnTo>
                  <a:lnTo>
                    <a:pt x="801" y="0"/>
                  </a:lnTo>
                  <a:lnTo>
                    <a:pt x="875" y="0"/>
                  </a:lnTo>
                  <a:lnTo>
                    <a:pt x="949" y="4"/>
                  </a:lnTo>
                  <a:lnTo>
                    <a:pt x="1024" y="11"/>
                  </a:lnTo>
                  <a:lnTo>
                    <a:pt x="1098" y="24"/>
                  </a:lnTo>
                  <a:lnTo>
                    <a:pt x="1173" y="43"/>
                  </a:lnTo>
                  <a:lnTo>
                    <a:pt x="1244" y="67"/>
                  </a:lnTo>
                  <a:lnTo>
                    <a:pt x="1314" y="96"/>
                  </a:lnTo>
                  <a:lnTo>
                    <a:pt x="1383" y="131"/>
                  </a:lnTo>
                </a:path>
              </a:pathLst>
            </a:custGeom>
            <a:gradFill rotWithShape="0">
              <a:gsLst>
                <a:gs pos="0">
                  <a:srgbClr val="ffd4be"/>
                </a:gs>
                <a:gs pos="100000">
                  <a:srgbClr val="ff7e3d"/>
                </a:gs>
              </a:gsLst>
              <a:lin ang="2178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2" name="Text Box 14"/>
            <p:cNvSpPr/>
            <p:nvPr/>
          </p:nvSpPr>
          <p:spPr>
            <a:xfrm rot="903000">
              <a:off x="5367600" y="4048200"/>
              <a:ext cx="18399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правочник учреждений. Поиск. ГИС.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613" name="Picture 15" descr="F:\Подготовка презентации 2008\ICONS\VirtualLNK Icons\VirtualLNK Medical Icons Collection v1.0\BMP\Regular\72x72\Medical Symbol.bmp"/>
            <p:cNvPicPr/>
            <p:nvPr/>
          </p:nvPicPr>
          <p:blipFill>
            <a:blip r:embed="rId12"/>
            <a:stretch/>
          </p:blipFill>
          <p:spPr>
            <a:xfrm>
              <a:off x="6715080" y="407196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19" descr="F:\Подготовка презентации 2008\ICONS\VirtualLNK Icons\VirtualLNK Accounting Icons Collection v1.0\BMP\Regular\72x72\Bank Internet Transfer.bmp"/>
            <p:cNvPicPr/>
            <p:nvPr/>
          </p:nvPicPr>
          <p:blipFill>
            <a:blip r:embed="rId13"/>
            <a:stretch/>
          </p:blipFill>
          <p:spPr>
            <a:xfrm>
              <a:off x="6929280" y="4786200"/>
              <a:ext cx="914400" cy="914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5" name="Группа 56"/>
          <p:cNvGrpSpPr/>
          <p:nvPr/>
        </p:nvGrpSpPr>
        <p:grpSpPr>
          <a:xfrm>
            <a:off x="4075200" y="1500120"/>
            <a:ext cx="3295440" cy="2150280"/>
            <a:chOff x="4075200" y="1500120"/>
            <a:chExt cx="3295440" cy="2150280"/>
          </a:xfrm>
        </p:grpSpPr>
        <p:sp>
          <p:nvSpPr>
            <p:cNvPr id="616" name="Freeform 10"/>
            <p:cNvSpPr/>
            <p:nvPr/>
          </p:nvSpPr>
          <p:spPr>
            <a:xfrm rot="20265600">
              <a:off x="4143240" y="2333160"/>
              <a:ext cx="2563920" cy="863640"/>
            </a:xfrm>
            <a:custGeom>
              <a:avLst/>
              <a:gdLst/>
              <a:ahLst/>
              <a:rect l="l" t="t" r="r" b="b"/>
              <a:pathLst>
                <a:path w="2032" h="1536">
                  <a:moveTo>
                    <a:pt x="647" y="131"/>
                  </a:moveTo>
                  <a:lnTo>
                    <a:pt x="716" y="96"/>
                  </a:lnTo>
                  <a:lnTo>
                    <a:pt x="787" y="67"/>
                  </a:lnTo>
                  <a:lnTo>
                    <a:pt x="859" y="43"/>
                  </a:lnTo>
                  <a:lnTo>
                    <a:pt x="933" y="25"/>
                  </a:lnTo>
                  <a:lnTo>
                    <a:pt x="1008" y="11"/>
                  </a:lnTo>
                  <a:lnTo>
                    <a:pt x="1082" y="4"/>
                  </a:lnTo>
                  <a:lnTo>
                    <a:pt x="1157" y="0"/>
                  </a:lnTo>
                  <a:lnTo>
                    <a:pt x="1231" y="0"/>
                  </a:lnTo>
                  <a:lnTo>
                    <a:pt x="1305" y="3"/>
                  </a:lnTo>
                  <a:lnTo>
                    <a:pt x="1377" y="8"/>
                  </a:lnTo>
                  <a:lnTo>
                    <a:pt x="1448" y="17"/>
                  </a:lnTo>
                  <a:lnTo>
                    <a:pt x="1517" y="29"/>
                  </a:lnTo>
                  <a:lnTo>
                    <a:pt x="1582" y="42"/>
                  </a:lnTo>
                  <a:lnTo>
                    <a:pt x="1647" y="55"/>
                  </a:lnTo>
                  <a:lnTo>
                    <a:pt x="1706" y="70"/>
                  </a:lnTo>
                  <a:lnTo>
                    <a:pt x="1762" y="86"/>
                  </a:lnTo>
                  <a:lnTo>
                    <a:pt x="1814" y="102"/>
                  </a:lnTo>
                  <a:lnTo>
                    <a:pt x="1861" y="116"/>
                  </a:lnTo>
                  <a:lnTo>
                    <a:pt x="1905" y="131"/>
                  </a:lnTo>
                  <a:lnTo>
                    <a:pt x="1941" y="146"/>
                  </a:lnTo>
                  <a:lnTo>
                    <a:pt x="1972" y="157"/>
                  </a:lnTo>
                  <a:lnTo>
                    <a:pt x="1998" y="167"/>
                  </a:lnTo>
                  <a:lnTo>
                    <a:pt x="2016" y="175"/>
                  </a:lnTo>
                  <a:lnTo>
                    <a:pt x="2027" y="179"/>
                  </a:lnTo>
                  <a:lnTo>
                    <a:pt x="2032" y="182"/>
                  </a:lnTo>
                  <a:lnTo>
                    <a:pt x="2030" y="186"/>
                  </a:lnTo>
                  <a:lnTo>
                    <a:pt x="2029" y="200"/>
                  </a:lnTo>
                  <a:lnTo>
                    <a:pt x="2026" y="220"/>
                  </a:lnTo>
                  <a:lnTo>
                    <a:pt x="2021" y="249"/>
                  </a:lnTo>
                  <a:lnTo>
                    <a:pt x="2017" y="286"/>
                  </a:lnTo>
                  <a:lnTo>
                    <a:pt x="2008" y="327"/>
                  </a:lnTo>
                  <a:lnTo>
                    <a:pt x="2000" y="375"/>
                  </a:lnTo>
                  <a:lnTo>
                    <a:pt x="1988" y="427"/>
                  </a:lnTo>
                  <a:lnTo>
                    <a:pt x="1975" y="483"/>
                  </a:lnTo>
                  <a:lnTo>
                    <a:pt x="1957" y="542"/>
                  </a:lnTo>
                  <a:lnTo>
                    <a:pt x="1940" y="607"/>
                  </a:lnTo>
                  <a:lnTo>
                    <a:pt x="1918" y="672"/>
                  </a:lnTo>
                  <a:lnTo>
                    <a:pt x="1893" y="738"/>
                  </a:lnTo>
                  <a:lnTo>
                    <a:pt x="1865" y="807"/>
                  </a:lnTo>
                  <a:lnTo>
                    <a:pt x="1835" y="875"/>
                  </a:lnTo>
                  <a:lnTo>
                    <a:pt x="1801" y="944"/>
                  </a:lnTo>
                  <a:lnTo>
                    <a:pt x="1763" y="1011"/>
                  </a:lnTo>
                  <a:lnTo>
                    <a:pt x="1721" y="1076"/>
                  </a:lnTo>
                  <a:lnTo>
                    <a:pt x="1676" y="1141"/>
                  </a:lnTo>
                  <a:lnTo>
                    <a:pt x="1626" y="1202"/>
                  </a:lnTo>
                  <a:lnTo>
                    <a:pt x="1572" y="1259"/>
                  </a:lnTo>
                  <a:lnTo>
                    <a:pt x="1514" y="1313"/>
                  </a:lnTo>
                  <a:lnTo>
                    <a:pt x="1451" y="1361"/>
                  </a:lnTo>
                  <a:lnTo>
                    <a:pt x="1383" y="1405"/>
                  </a:lnTo>
                  <a:lnTo>
                    <a:pt x="1314" y="1440"/>
                  </a:lnTo>
                  <a:lnTo>
                    <a:pt x="1244" y="1469"/>
                  </a:lnTo>
                  <a:lnTo>
                    <a:pt x="1173" y="1494"/>
                  </a:lnTo>
                  <a:lnTo>
                    <a:pt x="1098" y="1511"/>
                  </a:lnTo>
                  <a:lnTo>
                    <a:pt x="1024" y="1524"/>
                  </a:lnTo>
                  <a:lnTo>
                    <a:pt x="949" y="1532"/>
                  </a:lnTo>
                  <a:lnTo>
                    <a:pt x="875" y="1536"/>
                  </a:lnTo>
                  <a:lnTo>
                    <a:pt x="801" y="1536"/>
                  </a:lnTo>
                  <a:lnTo>
                    <a:pt x="726" y="1533"/>
                  </a:lnTo>
                  <a:lnTo>
                    <a:pt x="653" y="1527"/>
                  </a:lnTo>
                  <a:lnTo>
                    <a:pt x="583" y="1519"/>
                  </a:lnTo>
                  <a:lnTo>
                    <a:pt x="515" y="1507"/>
                  </a:lnTo>
                  <a:lnTo>
                    <a:pt x="449" y="1495"/>
                  </a:lnTo>
                  <a:lnTo>
                    <a:pt x="385" y="1481"/>
                  </a:lnTo>
                  <a:lnTo>
                    <a:pt x="325" y="1466"/>
                  </a:lnTo>
                  <a:lnTo>
                    <a:pt x="270" y="1450"/>
                  </a:lnTo>
                  <a:lnTo>
                    <a:pt x="217" y="1434"/>
                  </a:lnTo>
                  <a:lnTo>
                    <a:pt x="169" y="1419"/>
                  </a:lnTo>
                  <a:lnTo>
                    <a:pt x="127" y="1405"/>
                  </a:lnTo>
                  <a:lnTo>
                    <a:pt x="90" y="1390"/>
                  </a:lnTo>
                  <a:lnTo>
                    <a:pt x="58" y="1379"/>
                  </a:lnTo>
                  <a:lnTo>
                    <a:pt x="33" y="1368"/>
                  </a:lnTo>
                  <a:lnTo>
                    <a:pt x="16" y="1361"/>
                  </a:lnTo>
                  <a:lnTo>
                    <a:pt x="4" y="1357"/>
                  </a:lnTo>
                  <a:lnTo>
                    <a:pt x="0" y="1355"/>
                  </a:lnTo>
                  <a:lnTo>
                    <a:pt x="0" y="1349"/>
                  </a:lnTo>
                  <a:lnTo>
                    <a:pt x="3" y="1336"/>
                  </a:lnTo>
                  <a:lnTo>
                    <a:pt x="4" y="1316"/>
                  </a:lnTo>
                  <a:lnTo>
                    <a:pt x="9" y="1287"/>
                  </a:lnTo>
                  <a:lnTo>
                    <a:pt x="14" y="1250"/>
                  </a:lnTo>
                  <a:lnTo>
                    <a:pt x="22" y="1209"/>
                  </a:lnTo>
                  <a:lnTo>
                    <a:pt x="32" y="1161"/>
                  </a:lnTo>
                  <a:lnTo>
                    <a:pt x="44" y="1109"/>
                  </a:lnTo>
                  <a:lnTo>
                    <a:pt x="57" y="1053"/>
                  </a:lnTo>
                  <a:lnTo>
                    <a:pt x="73" y="993"/>
                  </a:lnTo>
                  <a:lnTo>
                    <a:pt x="92" y="929"/>
                  </a:lnTo>
                  <a:lnTo>
                    <a:pt x="114" y="865"/>
                  </a:lnTo>
                  <a:lnTo>
                    <a:pt x="138" y="798"/>
                  </a:lnTo>
                  <a:lnTo>
                    <a:pt x="166" y="729"/>
                  </a:lnTo>
                  <a:lnTo>
                    <a:pt x="197" y="661"/>
                  </a:lnTo>
                  <a:lnTo>
                    <a:pt x="230" y="592"/>
                  </a:lnTo>
                  <a:lnTo>
                    <a:pt x="268" y="525"/>
                  </a:lnTo>
                  <a:lnTo>
                    <a:pt x="311" y="459"/>
                  </a:lnTo>
                  <a:lnTo>
                    <a:pt x="356" y="395"/>
                  </a:lnTo>
                  <a:lnTo>
                    <a:pt x="405" y="334"/>
                  </a:lnTo>
                  <a:lnTo>
                    <a:pt x="459" y="277"/>
                  </a:lnTo>
                  <a:lnTo>
                    <a:pt x="518" y="223"/>
                  </a:lnTo>
                  <a:lnTo>
                    <a:pt x="580" y="175"/>
                  </a:lnTo>
                  <a:lnTo>
                    <a:pt x="647" y="131"/>
                  </a:lnTo>
                </a:path>
              </a:pathLst>
            </a:custGeom>
            <a:gradFill rotWithShape="0">
              <a:gsLst>
                <a:gs pos="0">
                  <a:srgbClr val="ffeeaa"/>
                </a:gs>
                <a:gs pos="100000">
                  <a:srgbClr val="ffcc00"/>
                </a:gs>
              </a:gsLst>
              <a:lin ang="20232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7" name="Text Box 14"/>
            <p:cNvSpPr/>
            <p:nvPr/>
          </p:nvSpPr>
          <p:spPr>
            <a:xfrm rot="20005800">
              <a:off x="4832280" y="2141640"/>
              <a:ext cx="1839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бращение на горячую линию Комитета по здравоохранению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618" name="Picture 2" descr="H:\Подготовка презентации 2008\ICONS\VirtualLNK Icons\VirtualLNK Medical Icons Collection v1.0\BMP\Regular\72x72\Receptionist.bmp"/>
            <p:cNvPicPr/>
            <p:nvPr/>
          </p:nvPicPr>
          <p:blipFill>
            <a:blip r:embed="rId14"/>
            <a:stretch/>
          </p:blipFill>
          <p:spPr>
            <a:xfrm>
              <a:off x="6629400" y="1500120"/>
              <a:ext cx="71424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9" name="Text Box 14"/>
            <p:cNvSpPr/>
            <p:nvPr/>
          </p:nvSpPr>
          <p:spPr>
            <a:xfrm>
              <a:off x="6715080" y="2143080"/>
              <a:ext cx="655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VoIP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20" name="Нижний колонтитул 4"/>
          <p:cNvSpPr/>
          <p:nvPr/>
        </p:nvSpPr>
        <p:spPr>
          <a:xfrm>
            <a:off x="5500800" y="6500880"/>
            <a:ext cx="36432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621" name="Группа 51"/>
          <p:cNvGrpSpPr/>
          <p:nvPr/>
        </p:nvGrpSpPr>
        <p:grpSpPr>
          <a:xfrm>
            <a:off x="2171880" y="1285920"/>
            <a:ext cx="2481840" cy="2597760"/>
            <a:chOff x="2171880" y="1285920"/>
            <a:chExt cx="2481840" cy="2597760"/>
          </a:xfrm>
        </p:grpSpPr>
        <p:sp>
          <p:nvSpPr>
            <p:cNvPr id="622" name="Freeform 5"/>
            <p:cNvSpPr/>
            <p:nvPr/>
          </p:nvSpPr>
          <p:spPr>
            <a:xfrm rot="19762800">
              <a:off x="3223800" y="1326600"/>
              <a:ext cx="847800" cy="2516400"/>
            </a:xfrm>
            <a:custGeom>
              <a:avLst/>
              <a:gdLst/>
              <a:ahLst/>
              <a:rect l="l" t="t" r="r" b="b"/>
              <a:pathLst>
                <a:path w="1470" h="2346">
                  <a:moveTo>
                    <a:pt x="1470" y="1173"/>
                  </a:moveTo>
                  <a:lnTo>
                    <a:pt x="1467" y="1246"/>
                  </a:lnTo>
                  <a:lnTo>
                    <a:pt x="1458" y="1319"/>
                  </a:lnTo>
                  <a:lnTo>
                    <a:pt x="1444" y="1390"/>
                  </a:lnTo>
                  <a:lnTo>
                    <a:pt x="1423" y="1462"/>
                  </a:lnTo>
                  <a:lnTo>
                    <a:pt x="1400" y="1529"/>
                  </a:lnTo>
                  <a:lnTo>
                    <a:pt x="1371" y="1596"/>
                  </a:lnTo>
                  <a:lnTo>
                    <a:pt x="1339" y="1662"/>
                  </a:lnTo>
                  <a:lnTo>
                    <a:pt x="1305" y="1724"/>
                  </a:lnTo>
                  <a:lnTo>
                    <a:pt x="1267" y="1784"/>
                  </a:lnTo>
                  <a:lnTo>
                    <a:pt x="1228" y="1843"/>
                  </a:lnTo>
                  <a:lnTo>
                    <a:pt x="1187" y="1898"/>
                  </a:lnTo>
                  <a:lnTo>
                    <a:pt x="1145" y="1952"/>
                  </a:lnTo>
                  <a:lnTo>
                    <a:pt x="1102" y="2002"/>
                  </a:lnTo>
                  <a:lnTo>
                    <a:pt x="1060" y="2050"/>
                  </a:lnTo>
                  <a:lnTo>
                    <a:pt x="1019" y="2094"/>
                  </a:lnTo>
                  <a:lnTo>
                    <a:pt x="978" y="2134"/>
                  </a:lnTo>
                  <a:lnTo>
                    <a:pt x="939" y="2174"/>
                  </a:lnTo>
                  <a:lnTo>
                    <a:pt x="901" y="2207"/>
                  </a:lnTo>
                  <a:lnTo>
                    <a:pt x="866" y="2239"/>
                  </a:lnTo>
                  <a:lnTo>
                    <a:pt x="835" y="2266"/>
                  </a:lnTo>
                  <a:lnTo>
                    <a:pt x="806" y="2290"/>
                  </a:lnTo>
                  <a:lnTo>
                    <a:pt x="783" y="2309"/>
                  </a:lnTo>
                  <a:lnTo>
                    <a:pt x="763" y="2325"/>
                  </a:lnTo>
                  <a:lnTo>
                    <a:pt x="748" y="2336"/>
                  </a:lnTo>
                  <a:lnTo>
                    <a:pt x="739" y="2343"/>
                  </a:lnTo>
                  <a:lnTo>
                    <a:pt x="735" y="2346"/>
                  </a:lnTo>
                  <a:lnTo>
                    <a:pt x="732" y="2343"/>
                  </a:lnTo>
                  <a:lnTo>
                    <a:pt x="723" y="2336"/>
                  </a:lnTo>
                  <a:lnTo>
                    <a:pt x="709" y="2325"/>
                  </a:lnTo>
                  <a:lnTo>
                    <a:pt x="688" y="2309"/>
                  </a:lnTo>
                  <a:lnTo>
                    <a:pt x="665" y="2290"/>
                  </a:lnTo>
                  <a:lnTo>
                    <a:pt x="636" y="2266"/>
                  </a:lnTo>
                  <a:lnTo>
                    <a:pt x="604" y="2239"/>
                  </a:lnTo>
                  <a:lnTo>
                    <a:pt x="570" y="2207"/>
                  </a:lnTo>
                  <a:lnTo>
                    <a:pt x="532" y="2174"/>
                  </a:lnTo>
                  <a:lnTo>
                    <a:pt x="493" y="2134"/>
                  </a:lnTo>
                  <a:lnTo>
                    <a:pt x="452" y="2094"/>
                  </a:lnTo>
                  <a:lnTo>
                    <a:pt x="410" y="2050"/>
                  </a:lnTo>
                  <a:lnTo>
                    <a:pt x="367" y="2002"/>
                  </a:lnTo>
                  <a:lnTo>
                    <a:pt x="325" y="1952"/>
                  </a:lnTo>
                  <a:lnTo>
                    <a:pt x="284" y="1898"/>
                  </a:lnTo>
                  <a:lnTo>
                    <a:pt x="243" y="1843"/>
                  </a:lnTo>
                  <a:lnTo>
                    <a:pt x="204" y="1784"/>
                  </a:lnTo>
                  <a:lnTo>
                    <a:pt x="166" y="1724"/>
                  </a:lnTo>
                  <a:lnTo>
                    <a:pt x="131" y="1662"/>
                  </a:lnTo>
                  <a:lnTo>
                    <a:pt x="100" y="1596"/>
                  </a:lnTo>
                  <a:lnTo>
                    <a:pt x="71" y="1529"/>
                  </a:lnTo>
                  <a:lnTo>
                    <a:pt x="48" y="1462"/>
                  </a:lnTo>
                  <a:lnTo>
                    <a:pt x="27" y="1390"/>
                  </a:lnTo>
                  <a:lnTo>
                    <a:pt x="13" y="1319"/>
                  </a:lnTo>
                  <a:lnTo>
                    <a:pt x="4" y="1246"/>
                  </a:lnTo>
                  <a:lnTo>
                    <a:pt x="0" y="1173"/>
                  </a:lnTo>
                  <a:lnTo>
                    <a:pt x="4" y="1098"/>
                  </a:lnTo>
                  <a:lnTo>
                    <a:pt x="13" y="1025"/>
                  </a:lnTo>
                  <a:lnTo>
                    <a:pt x="27" y="954"/>
                  </a:lnTo>
                  <a:lnTo>
                    <a:pt x="48" y="884"/>
                  </a:lnTo>
                  <a:lnTo>
                    <a:pt x="71" y="815"/>
                  </a:lnTo>
                  <a:lnTo>
                    <a:pt x="100" y="748"/>
                  </a:lnTo>
                  <a:lnTo>
                    <a:pt x="131" y="684"/>
                  </a:lnTo>
                  <a:lnTo>
                    <a:pt x="166" y="621"/>
                  </a:lnTo>
                  <a:lnTo>
                    <a:pt x="204" y="560"/>
                  </a:lnTo>
                  <a:lnTo>
                    <a:pt x="243" y="502"/>
                  </a:lnTo>
                  <a:lnTo>
                    <a:pt x="284" y="446"/>
                  </a:lnTo>
                  <a:lnTo>
                    <a:pt x="325" y="394"/>
                  </a:lnTo>
                  <a:lnTo>
                    <a:pt x="367" y="343"/>
                  </a:lnTo>
                  <a:lnTo>
                    <a:pt x="410" y="294"/>
                  </a:lnTo>
                  <a:lnTo>
                    <a:pt x="452" y="251"/>
                  </a:lnTo>
                  <a:lnTo>
                    <a:pt x="493" y="210"/>
                  </a:lnTo>
                  <a:lnTo>
                    <a:pt x="532" y="170"/>
                  </a:lnTo>
                  <a:lnTo>
                    <a:pt x="570" y="137"/>
                  </a:lnTo>
                  <a:lnTo>
                    <a:pt x="604" y="105"/>
                  </a:lnTo>
                  <a:lnTo>
                    <a:pt x="636" y="79"/>
                  </a:lnTo>
                  <a:lnTo>
                    <a:pt x="665" y="55"/>
                  </a:lnTo>
                  <a:lnTo>
                    <a:pt x="688" y="35"/>
                  </a:lnTo>
                  <a:lnTo>
                    <a:pt x="709" y="19"/>
                  </a:lnTo>
                  <a:lnTo>
                    <a:pt x="723" y="9"/>
                  </a:lnTo>
                  <a:lnTo>
                    <a:pt x="732" y="1"/>
                  </a:lnTo>
                  <a:lnTo>
                    <a:pt x="735" y="0"/>
                  </a:lnTo>
                  <a:lnTo>
                    <a:pt x="739" y="1"/>
                  </a:lnTo>
                  <a:lnTo>
                    <a:pt x="748" y="9"/>
                  </a:lnTo>
                  <a:lnTo>
                    <a:pt x="763" y="19"/>
                  </a:lnTo>
                  <a:lnTo>
                    <a:pt x="783" y="35"/>
                  </a:lnTo>
                  <a:lnTo>
                    <a:pt x="806" y="55"/>
                  </a:lnTo>
                  <a:lnTo>
                    <a:pt x="835" y="79"/>
                  </a:lnTo>
                  <a:lnTo>
                    <a:pt x="866" y="105"/>
                  </a:lnTo>
                  <a:lnTo>
                    <a:pt x="901" y="137"/>
                  </a:lnTo>
                  <a:lnTo>
                    <a:pt x="939" y="170"/>
                  </a:lnTo>
                  <a:lnTo>
                    <a:pt x="978" y="210"/>
                  </a:lnTo>
                  <a:lnTo>
                    <a:pt x="1019" y="251"/>
                  </a:lnTo>
                  <a:lnTo>
                    <a:pt x="1060" y="294"/>
                  </a:lnTo>
                  <a:lnTo>
                    <a:pt x="1102" y="343"/>
                  </a:lnTo>
                  <a:lnTo>
                    <a:pt x="1145" y="394"/>
                  </a:lnTo>
                  <a:lnTo>
                    <a:pt x="1187" y="446"/>
                  </a:lnTo>
                  <a:lnTo>
                    <a:pt x="1228" y="502"/>
                  </a:lnTo>
                  <a:lnTo>
                    <a:pt x="1267" y="560"/>
                  </a:lnTo>
                  <a:lnTo>
                    <a:pt x="1305" y="621"/>
                  </a:lnTo>
                  <a:lnTo>
                    <a:pt x="1339" y="684"/>
                  </a:lnTo>
                  <a:lnTo>
                    <a:pt x="1371" y="748"/>
                  </a:lnTo>
                  <a:lnTo>
                    <a:pt x="1400" y="815"/>
                  </a:lnTo>
                  <a:lnTo>
                    <a:pt x="1423" y="884"/>
                  </a:lnTo>
                  <a:lnTo>
                    <a:pt x="1444" y="954"/>
                  </a:lnTo>
                  <a:lnTo>
                    <a:pt x="1458" y="1025"/>
                  </a:lnTo>
                  <a:lnTo>
                    <a:pt x="1467" y="1098"/>
                  </a:lnTo>
                  <a:lnTo>
                    <a:pt x="1470" y="1173"/>
                  </a:lnTo>
                </a:path>
              </a:pathLst>
            </a:custGeom>
            <a:gradFill rotWithShape="0">
              <a:gsLst>
                <a:gs pos="0">
                  <a:srgbClr val="53b749"/>
                </a:gs>
                <a:gs pos="100000">
                  <a:srgbClr val="c6e7c2"/>
                </a:gs>
              </a:gsLst>
              <a:lin ang="7236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3" name="Text Box 14"/>
            <p:cNvSpPr/>
            <p:nvPr/>
          </p:nvSpPr>
          <p:spPr>
            <a:xfrm rot="2983800">
              <a:off x="2637720" y="2049840"/>
              <a:ext cx="1839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правочник ИОГВ СПб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624" name="Picture 12" descr="F:\Подготовка презентации 2008\ICONS\VirtualLNK Icons\VirtualLNK Medical Icons Collection v1.0\BMP\Regular\72x72\Hospital 2.bmp"/>
            <p:cNvPicPr/>
            <p:nvPr/>
          </p:nvPicPr>
          <p:blipFill>
            <a:blip r:embed="rId15"/>
            <a:stretch/>
          </p:blipFill>
          <p:spPr>
            <a:xfrm>
              <a:off x="2171880" y="1285920"/>
              <a:ext cx="78588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5" name="Picture 13" descr="C:\DATA\Мои документы\Мои рисунки\293551133787556.jpg"/>
            <p:cNvPicPr/>
            <p:nvPr/>
          </p:nvPicPr>
          <p:blipFill>
            <a:blip r:embed="rId16"/>
            <a:stretch/>
          </p:blipFill>
          <p:spPr>
            <a:xfrm>
              <a:off x="2214720" y="1928880"/>
              <a:ext cx="428400" cy="441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26" name="Picture 2" descr="AviorCash with Scan"/>
          <p:cNvPicPr/>
          <p:nvPr/>
        </p:nvPicPr>
        <p:blipFill>
          <a:blip r:embed="rId17"/>
          <a:stretch/>
        </p:blipFill>
        <p:spPr>
          <a:xfrm>
            <a:off x="3643200" y="2857680"/>
            <a:ext cx="150048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all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ентр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8" name="Прямоугольник 6"/>
          <p:cNvSpPr/>
          <p:nvPr/>
        </p:nvSpPr>
        <p:spPr>
          <a:xfrm>
            <a:off x="1158120" y="314316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Горячая линия по работе с обращениями граждан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9" name="Прямоугольник 8"/>
          <p:cNvSpPr/>
          <p:nvPr/>
        </p:nvSpPr>
        <p:spPr>
          <a:xfrm>
            <a:off x="1161000" y="3857760"/>
            <a:ext cx="434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Фармацевтическая справочная служба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30" name="Прямоугольник 10"/>
          <p:cNvSpPr/>
          <p:nvPr/>
        </p:nvSpPr>
        <p:spPr>
          <a:xfrm>
            <a:off x="1159200" y="4500720"/>
            <a:ext cx="37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Медицинская справочная служба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31" name="Picture 2" descr="H:\Подготовка презентации 2008\ICONS\VirtualLNK Icons\VirtualLNK Medical Icons Collection v1.0\BMP\Regular\72x72\Receptionist.bmp"/>
          <p:cNvPicPr/>
          <p:nvPr/>
        </p:nvPicPr>
        <p:blipFill>
          <a:blip r:embed="rId1"/>
          <a:stretch/>
        </p:blipFill>
        <p:spPr>
          <a:xfrm>
            <a:off x="571680" y="5072040"/>
            <a:ext cx="571320" cy="571680"/>
          </a:xfrm>
          <a:prstGeom prst="rect">
            <a:avLst/>
          </a:prstGeom>
          <a:ln w="0">
            <a:noFill/>
          </a:ln>
        </p:spPr>
      </p:pic>
      <p:sp>
        <p:nvSpPr>
          <p:cNvPr id="632" name="Прямоугольник 12"/>
          <p:cNvSpPr/>
          <p:nvPr/>
        </p:nvSpPr>
        <p:spPr>
          <a:xfrm>
            <a:off x="1156320" y="5214960"/>
            <a:ext cx="375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Техническая поддержка (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Arial"/>
              </a:rPr>
              <a:t>Support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33" name="Picture 2" descr="H:\Подготовка презентации 2008\ICONS\VirtualLNK Icons\VirtualLNK Medical Icons Collection v1.0\BMP\Regular\72x72\Receptionist.bmp"/>
          <p:cNvPicPr/>
          <p:nvPr/>
        </p:nvPicPr>
        <p:blipFill>
          <a:blip r:embed="rId2"/>
          <a:stretch/>
        </p:blipFill>
        <p:spPr>
          <a:xfrm>
            <a:off x="571680" y="5786280"/>
            <a:ext cx="571320" cy="571680"/>
          </a:xfrm>
          <a:prstGeom prst="rect">
            <a:avLst/>
          </a:prstGeom>
          <a:ln w="0">
            <a:noFill/>
          </a:ln>
        </p:spPr>
      </p:pic>
      <p:sp>
        <p:nvSpPr>
          <p:cNvPr id="634" name="Прямоугольник 14"/>
          <p:cNvSpPr/>
          <p:nvPr/>
        </p:nvSpPr>
        <p:spPr>
          <a:xfrm>
            <a:off x="1195200" y="5857920"/>
            <a:ext cx="48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Высокотехнологичная медицинская помощь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35" name="Пятно 1 15"/>
          <p:cNvSpPr/>
          <p:nvPr/>
        </p:nvSpPr>
        <p:spPr>
          <a:xfrm>
            <a:off x="6429240" y="2786040"/>
            <a:ext cx="857520" cy="571680"/>
          </a:xfrm>
          <a:prstGeom prst="irregularSeal1">
            <a:avLst/>
          </a:prstGeom>
          <a:solidFill>
            <a:srgbClr val="ffc000"/>
          </a:solidFill>
          <a:ln w="25560">
            <a:solidFill>
              <a:srgbClr val="1881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</a:rPr>
              <a:t>24*7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36" name="Пятно 1 16"/>
          <p:cNvSpPr/>
          <p:nvPr/>
        </p:nvSpPr>
        <p:spPr>
          <a:xfrm>
            <a:off x="5429160" y="3429000"/>
            <a:ext cx="857520" cy="571680"/>
          </a:xfrm>
          <a:prstGeom prst="irregularSeal1">
            <a:avLst/>
          </a:prstGeom>
          <a:solidFill>
            <a:srgbClr val="ffc000"/>
          </a:solidFill>
          <a:ln w="25560">
            <a:solidFill>
              <a:srgbClr val="1881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</a:rPr>
              <a:t>24*7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37" name="Пятно 1 17"/>
          <p:cNvSpPr/>
          <p:nvPr/>
        </p:nvSpPr>
        <p:spPr>
          <a:xfrm>
            <a:off x="4857840" y="4214880"/>
            <a:ext cx="857160" cy="571320"/>
          </a:xfrm>
          <a:prstGeom prst="irregularSeal1">
            <a:avLst/>
          </a:prstGeom>
          <a:solidFill>
            <a:srgbClr val="ffc000"/>
          </a:solidFill>
          <a:ln w="25560">
            <a:solidFill>
              <a:srgbClr val="1881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</a:rPr>
              <a:t>24*7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38" name="Picture 2" descr="F:\Подготовка презентации 2008\ICONS\VirtualLNK Icons\VirtualLNK Medical Icons Collection v1.0\BMP\Regular\72x72\Ambulance.bmp"/>
          <p:cNvPicPr/>
          <p:nvPr/>
        </p:nvPicPr>
        <p:blipFill>
          <a:blip r:embed="rId3"/>
          <a:stretch/>
        </p:blipFill>
        <p:spPr>
          <a:xfrm>
            <a:off x="2928960" y="10717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3" descr="F:\Подготовка презентации 2008\ICONS\VirtualLNK Icons\VirtualLNK Medical Icons Collection v1.0\BMP\Regular\72x72\Receptionist Error.bmp"/>
          <p:cNvPicPr/>
          <p:nvPr/>
        </p:nvPicPr>
        <p:blipFill>
          <a:blip r:embed="rId4"/>
          <a:stretch/>
        </p:blipFill>
        <p:spPr>
          <a:xfrm>
            <a:off x="500040" y="300024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3" descr="F:\Подготовка презентации 2008\ICONS\VirtualLNK Icons\VirtualLNK Medical Icons Collection v1.0\BMP\Regular\72x72\Receptionist Error.bmp"/>
          <p:cNvPicPr/>
          <p:nvPr/>
        </p:nvPicPr>
        <p:blipFill>
          <a:blip r:embed="rId5"/>
          <a:stretch/>
        </p:blipFill>
        <p:spPr>
          <a:xfrm>
            <a:off x="500040" y="371484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3" descr="F:\Подготовка презентации 2008\ICONS\VirtualLNK Icons\VirtualLNK Medical Icons Collection v1.0\BMP\Regular\72x72\Receptionist Error.bmp"/>
          <p:cNvPicPr/>
          <p:nvPr/>
        </p:nvPicPr>
        <p:blipFill>
          <a:blip r:embed="rId6"/>
          <a:stretch/>
        </p:blipFill>
        <p:spPr>
          <a:xfrm>
            <a:off x="500040" y="435780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10" descr="F:\Подготовка презентации 2008\ICONS\sissof1\PNG_32\celsave_48.png"/>
          <p:cNvPicPr/>
          <p:nvPr/>
        </p:nvPicPr>
        <p:blipFill>
          <a:blip r:embed="rId7"/>
          <a:stretch/>
        </p:blipFill>
        <p:spPr>
          <a:xfrm>
            <a:off x="5857920" y="1214280"/>
            <a:ext cx="728640" cy="729000"/>
          </a:xfrm>
          <a:prstGeom prst="rect">
            <a:avLst/>
          </a:prstGeom>
          <a:ln w="0">
            <a:noFill/>
          </a:ln>
        </p:spPr>
      </p:pic>
      <p:sp>
        <p:nvSpPr>
          <p:cNvPr id="643" name="AutoShape 14"/>
          <p:cNvSpPr/>
          <p:nvPr/>
        </p:nvSpPr>
        <p:spPr>
          <a:xfrm rot="10800000">
            <a:off x="2857680" y="1785600"/>
            <a:ext cx="1071360" cy="1214280"/>
          </a:xfrm>
          <a:prstGeom prst="upArrow">
            <a:avLst>
              <a:gd name="adj1" fmla="val 78306"/>
              <a:gd name="adj2" fmla="val 48217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44" name="AutoShape 14"/>
          <p:cNvSpPr/>
          <p:nvPr/>
        </p:nvSpPr>
        <p:spPr>
          <a:xfrm rot="10800000">
            <a:off x="4214880" y="1785600"/>
            <a:ext cx="1071360" cy="1214280"/>
          </a:xfrm>
          <a:prstGeom prst="upArrow">
            <a:avLst>
              <a:gd name="adj1" fmla="val 78306"/>
              <a:gd name="adj2" fmla="val 48217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45" name="AutoShape 14"/>
          <p:cNvSpPr/>
          <p:nvPr/>
        </p:nvSpPr>
        <p:spPr>
          <a:xfrm rot="10800000">
            <a:off x="5643720" y="1785600"/>
            <a:ext cx="1071360" cy="1214280"/>
          </a:xfrm>
          <a:prstGeom prst="upArrow">
            <a:avLst>
              <a:gd name="adj1" fmla="val 78306"/>
              <a:gd name="adj2" fmla="val 48217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46" name="Пятно 1 38"/>
          <p:cNvSpPr/>
          <p:nvPr/>
        </p:nvSpPr>
        <p:spPr>
          <a:xfrm>
            <a:off x="4929120" y="5214960"/>
            <a:ext cx="857160" cy="571320"/>
          </a:xfrm>
          <a:prstGeom prst="irregularSeal1">
            <a:avLst/>
          </a:prstGeom>
          <a:solidFill>
            <a:srgbClr val="ffc000"/>
          </a:solidFill>
          <a:ln w="25560">
            <a:solidFill>
              <a:srgbClr val="1881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</a:rPr>
              <a:t>5*8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47" name="Пятно 1 39"/>
          <p:cNvSpPr/>
          <p:nvPr/>
        </p:nvSpPr>
        <p:spPr>
          <a:xfrm>
            <a:off x="5929200" y="5500800"/>
            <a:ext cx="857520" cy="571320"/>
          </a:xfrm>
          <a:prstGeom prst="irregularSeal1">
            <a:avLst/>
          </a:prstGeom>
          <a:solidFill>
            <a:srgbClr val="ffc000"/>
          </a:solidFill>
          <a:ln w="25560">
            <a:solidFill>
              <a:srgbClr val="1881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</a:rPr>
              <a:t>5*8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48" name="Picture 13" descr="C:\DATA\Мои документы\Мои рисунки\293551133787556.jpg"/>
          <p:cNvPicPr/>
          <p:nvPr/>
        </p:nvPicPr>
        <p:blipFill>
          <a:blip r:embed="rId8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13" descr="F:\Подготовка презентации 2008\ICONS\VirtualLNK Icons\VirtualLNK Medical Icons Collection v1.0\BMP\Regular\72x72\Emergency.bmp"/>
          <p:cNvPicPr/>
          <p:nvPr/>
        </p:nvPicPr>
        <p:blipFill>
          <a:blip r:embed="rId9"/>
          <a:stretch/>
        </p:blipFill>
        <p:spPr>
          <a:xfrm>
            <a:off x="4429080" y="1285920"/>
            <a:ext cx="642960" cy="642960"/>
          </a:xfrm>
          <a:prstGeom prst="rect">
            <a:avLst/>
          </a:prstGeom>
          <a:ln w="0">
            <a:noFill/>
          </a:ln>
        </p:spPr>
      </p:pic>
      <p:sp>
        <p:nvSpPr>
          <p:cNvPr id="650" name="AutoShape 14"/>
          <p:cNvSpPr/>
          <p:nvPr/>
        </p:nvSpPr>
        <p:spPr>
          <a:xfrm rot="10800000">
            <a:off x="928800" y="1857240"/>
            <a:ext cx="1071360" cy="1214640"/>
          </a:xfrm>
          <a:prstGeom prst="upArrow">
            <a:avLst>
              <a:gd name="adj1" fmla="val 78306"/>
              <a:gd name="adj2" fmla="val 48231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51" name="Picture 14" descr="F:\Подготовка презентации 2008\ICONS\VirtualLNK Icons\VirtualLNK Medical Icons Collection v1.0\BMP\Regular\72x72\Patient Boy 1.bmp"/>
          <p:cNvPicPr/>
          <p:nvPr/>
        </p:nvPicPr>
        <p:blipFill>
          <a:blip r:embed="rId10"/>
          <a:stretch/>
        </p:blipFill>
        <p:spPr>
          <a:xfrm>
            <a:off x="857160" y="1285920"/>
            <a:ext cx="1000080" cy="1000080"/>
          </a:xfrm>
          <a:prstGeom prst="rect">
            <a:avLst/>
          </a:prstGeom>
          <a:ln w="0">
            <a:noFill/>
          </a:ln>
        </p:spPr>
      </p:pic>
      <p:sp>
        <p:nvSpPr>
          <p:cNvPr id="652" name="AutoShape 14"/>
          <p:cNvSpPr/>
          <p:nvPr/>
        </p:nvSpPr>
        <p:spPr>
          <a:xfrm rot="5400000">
            <a:off x="1356840" y="1214280"/>
            <a:ext cx="1071360" cy="1214280"/>
          </a:xfrm>
          <a:prstGeom prst="upArrow">
            <a:avLst>
              <a:gd name="adj1" fmla="val 78306"/>
              <a:gd name="adj2" fmla="val 48217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53" name="Picture 2" descr="AviorCash with Scan"/>
          <p:cNvPicPr/>
          <p:nvPr/>
        </p:nvPicPr>
        <p:blipFill>
          <a:blip r:embed="rId11"/>
          <a:stretch/>
        </p:blipFill>
        <p:spPr>
          <a:xfrm>
            <a:off x="7286760" y="1214280"/>
            <a:ext cx="468000" cy="1071720"/>
          </a:xfrm>
          <a:prstGeom prst="rect">
            <a:avLst/>
          </a:prstGeom>
          <a:ln w="0">
            <a:noFill/>
          </a:ln>
        </p:spPr>
      </p:pic>
      <p:sp>
        <p:nvSpPr>
          <p:cNvPr id="654" name="AutoShape 14"/>
          <p:cNvSpPr/>
          <p:nvPr/>
        </p:nvSpPr>
        <p:spPr>
          <a:xfrm rot="10800000">
            <a:off x="7000920" y="1785600"/>
            <a:ext cx="1071360" cy="1214280"/>
          </a:xfrm>
          <a:prstGeom prst="upArrow">
            <a:avLst>
              <a:gd name="adj1" fmla="val 78306"/>
              <a:gd name="adj2" fmla="val 48217"/>
            </a:avLst>
          </a:prstGeom>
          <a:gradFill rotWithShape="0">
            <a:gsLst>
              <a:gs pos="0">
                <a:srgbClr val="88ce58"/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5" name="Прямоугольник 19"/>
          <p:cNvSpPr/>
          <p:nvPr/>
        </p:nvSpPr>
        <p:spPr>
          <a:xfrm>
            <a:off x="3217320" y="23572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03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6" name="Прямоугольник 25"/>
          <p:cNvSpPr/>
          <p:nvPr/>
        </p:nvSpPr>
        <p:spPr>
          <a:xfrm>
            <a:off x="4142520" y="2357280"/>
            <a:ext cx="120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Служба 112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7" name="Прямоугольник 31"/>
          <p:cNvSpPr/>
          <p:nvPr/>
        </p:nvSpPr>
        <p:spPr>
          <a:xfrm>
            <a:off x="5932080" y="23572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0999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8" name="Прямоугольник 43"/>
          <p:cNvSpPr/>
          <p:nvPr/>
        </p:nvSpPr>
        <p:spPr>
          <a:xfrm>
            <a:off x="7211520" y="23572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Arial"/>
                <a:ea typeface="Arial"/>
              </a:rPr>
              <a:t>VoIP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59" name="Picture 2" descr=""/>
          <p:cNvPicPr/>
          <p:nvPr/>
        </p:nvPicPr>
        <p:blipFill>
          <a:blip r:embed="rId12"/>
          <a:stretch/>
        </p:blipFill>
        <p:spPr>
          <a:xfrm>
            <a:off x="6500880" y="3714840"/>
            <a:ext cx="2428920" cy="182088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2" descr="C:\Users\ADexter\Desktop\VirtualLNK Icons\VirtualLNK Website Icons Collection v1.0\BMP\Regular\72x72\Telecommunications.bmp"/>
          <p:cNvPicPr/>
          <p:nvPr/>
        </p:nvPicPr>
        <p:blipFill>
          <a:blip r:embed="rId13"/>
          <a:stretch/>
        </p:blipFill>
        <p:spPr>
          <a:xfrm>
            <a:off x="1214280" y="228600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661" name="Нижний колонтитул 4"/>
          <p:cNvSpPr/>
          <p:nvPr/>
        </p:nvSpPr>
        <p:spPr>
          <a:xfrm>
            <a:off x="5500800" y="6429240"/>
            <a:ext cx="3643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От е-правительства к мобильному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равительству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3" name="Прямоугольник 5"/>
          <p:cNvSpPr/>
          <p:nvPr/>
        </p:nvSpPr>
        <p:spPr>
          <a:xfrm>
            <a:off x="285840" y="1357200"/>
            <a:ext cx="857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Получение информации о статусе включения гражданина в регистр региональных льготников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64" name="Прямоугольник 6"/>
          <p:cNvSpPr/>
          <p:nvPr/>
        </p:nvSpPr>
        <p:spPr>
          <a:xfrm>
            <a:off x="357120" y="3214800"/>
            <a:ext cx="8501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528d"/>
                </a:solidFill>
                <a:latin typeface="Arial"/>
                <a:ea typeface="Arial"/>
              </a:rPr>
              <a:t>Получение информации о выдаче квоты на получение Высокотехнологичной (дорогостоящей) медицинской помощи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665" name="Группа 86"/>
          <p:cNvGrpSpPr/>
          <p:nvPr/>
        </p:nvGrpSpPr>
        <p:grpSpPr>
          <a:xfrm>
            <a:off x="0" y="1857240"/>
            <a:ext cx="1665360" cy="642960"/>
            <a:chOff x="0" y="1857240"/>
            <a:chExt cx="1665360" cy="642960"/>
          </a:xfrm>
        </p:grpSpPr>
        <p:pic>
          <p:nvPicPr>
            <p:cNvPr id="666" name="Picture 2" descr="F:\Подготовка презентации 2008\ICONS\VirtualLNK Icons\VirtualLNK Medical Icons Collection v1.0\BMP\Regular\72x72\Dentist Green Edit.bmp"/>
            <p:cNvPicPr/>
            <p:nvPr/>
          </p:nvPicPr>
          <p:blipFill>
            <a:blip r:embed="rId1"/>
            <a:stretch/>
          </p:blipFill>
          <p:spPr>
            <a:xfrm>
              <a:off x="1143000" y="1857240"/>
              <a:ext cx="522360" cy="52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7" name="Picture 14" descr="F:\Подготовка презентации 2008\ICONS\VirtualLNK Icons\VirtualLNK Medical Icons Collection v1.0\BMP\Regular\72x72\Patient Boy 1.bmp"/>
            <p:cNvPicPr/>
            <p:nvPr/>
          </p:nvPicPr>
          <p:blipFill>
            <a:blip r:embed="rId2"/>
            <a:stretch/>
          </p:blipFill>
          <p:spPr>
            <a:xfrm>
              <a:off x="0" y="1857240"/>
              <a:ext cx="642960" cy="6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8" name="AutoShape 14"/>
            <p:cNvSpPr/>
            <p:nvPr/>
          </p:nvSpPr>
          <p:spPr>
            <a:xfrm rot="5400000">
              <a:off x="662760" y="1908360"/>
              <a:ext cx="330840" cy="514440"/>
            </a:xfrm>
            <a:prstGeom prst="upArrow">
              <a:avLst>
                <a:gd name="adj1" fmla="val 78306"/>
                <a:gd name="adj2" fmla="val 48203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69" name="Группа 87"/>
          <p:cNvGrpSpPr/>
          <p:nvPr/>
        </p:nvGrpSpPr>
        <p:grpSpPr>
          <a:xfrm>
            <a:off x="1571400" y="1857240"/>
            <a:ext cx="1000440" cy="879480"/>
            <a:chOff x="1571400" y="1857240"/>
            <a:chExt cx="1000440" cy="879480"/>
          </a:xfrm>
        </p:grpSpPr>
        <p:pic>
          <p:nvPicPr>
            <p:cNvPr id="670" name="Picture 3" descr="F:\Подготовка презентации 2008\ICONS\VirtualLNK Icons\VirtualLNK Medical Icons Collection v1.0\BMP\Regular\72x72\Qualifications 3D.bmp"/>
            <p:cNvPicPr/>
            <p:nvPr/>
          </p:nvPicPr>
          <p:blipFill>
            <a:blip r:embed="rId3"/>
            <a:stretch/>
          </p:blipFill>
          <p:spPr>
            <a:xfrm>
              <a:off x="2071800" y="1857240"/>
              <a:ext cx="500040" cy="49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1" name="Picture 2" descr="C:\Users\ADexter\Desktop\VirtualLNK Icons\VirtualLNK Network Icons Collection v1.0\BMP\Regular\72x72\XML.bmp"/>
            <p:cNvPicPr/>
            <p:nvPr/>
          </p:nvPicPr>
          <p:blipFill>
            <a:blip r:embed="rId4"/>
            <a:stretch/>
          </p:blipFill>
          <p:spPr>
            <a:xfrm>
              <a:off x="2000160" y="2428560"/>
              <a:ext cx="571320" cy="3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2" name="AutoShape 14"/>
            <p:cNvSpPr/>
            <p:nvPr/>
          </p:nvSpPr>
          <p:spPr>
            <a:xfrm rot="5400000">
              <a:off x="1663200" y="1907640"/>
              <a:ext cx="330480" cy="514440"/>
            </a:xfrm>
            <a:prstGeom prst="upArrow">
              <a:avLst>
                <a:gd name="adj1" fmla="val 78306"/>
                <a:gd name="adj2" fmla="val 48256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73" name="Группа 88"/>
          <p:cNvGrpSpPr/>
          <p:nvPr/>
        </p:nvGrpSpPr>
        <p:grpSpPr>
          <a:xfrm>
            <a:off x="2571840" y="1857240"/>
            <a:ext cx="1071360" cy="571680"/>
            <a:chOff x="2571840" y="1857240"/>
            <a:chExt cx="1071360" cy="571680"/>
          </a:xfrm>
        </p:grpSpPr>
        <p:pic>
          <p:nvPicPr>
            <p:cNvPr id="674" name="Picture 5" descr="F:\Подготовка презентации 2008\ICONS\VirtualLNK Icons\VirtualLNK Network Icons Collection v1.0\BMP\Regular\72x72\Login Status.bmp"/>
            <p:cNvPicPr/>
            <p:nvPr/>
          </p:nvPicPr>
          <p:blipFill>
            <a:blip r:embed="rId5"/>
            <a:stretch/>
          </p:blipFill>
          <p:spPr>
            <a:xfrm>
              <a:off x="3071880" y="1857240"/>
              <a:ext cx="571320" cy="5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5" name="AutoShape 14"/>
            <p:cNvSpPr/>
            <p:nvPr/>
          </p:nvSpPr>
          <p:spPr>
            <a:xfrm rot="5400000">
              <a:off x="2663280" y="1908360"/>
              <a:ext cx="330840" cy="514080"/>
            </a:xfrm>
            <a:prstGeom prst="upArrow">
              <a:avLst>
                <a:gd name="adj1" fmla="val 78306"/>
                <a:gd name="adj2" fmla="val 48170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76" name="Прямоугольник 51"/>
          <p:cNvSpPr/>
          <p:nvPr/>
        </p:nvSpPr>
        <p:spPr>
          <a:xfrm>
            <a:off x="2928960" y="2357280"/>
            <a:ext cx="87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ЦП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677" name="Группа 89"/>
          <p:cNvGrpSpPr/>
          <p:nvPr/>
        </p:nvGrpSpPr>
        <p:grpSpPr>
          <a:xfrm>
            <a:off x="3500280" y="1928880"/>
            <a:ext cx="1008360" cy="506520"/>
            <a:chOff x="3500280" y="1928880"/>
            <a:chExt cx="1008360" cy="506520"/>
          </a:xfrm>
        </p:grpSpPr>
        <p:pic>
          <p:nvPicPr>
            <p:cNvPr id="678" name="Picture 4" descr="F:\Подготовка презентации 2008\ICONS\VirtualLNK Icons\VirtualLNK Network Icons Collection v1.0\BMP\Regular\72x72\Mail Lock.bmp"/>
            <p:cNvPicPr/>
            <p:nvPr/>
          </p:nvPicPr>
          <p:blipFill>
            <a:blip r:embed="rId6"/>
            <a:stretch/>
          </p:blipFill>
          <p:spPr>
            <a:xfrm>
              <a:off x="4001040" y="1928880"/>
              <a:ext cx="50760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9" name="AutoShape 14"/>
            <p:cNvSpPr/>
            <p:nvPr/>
          </p:nvSpPr>
          <p:spPr>
            <a:xfrm rot="5400000">
              <a:off x="3592440" y="1908000"/>
              <a:ext cx="330480" cy="514800"/>
            </a:xfrm>
            <a:prstGeom prst="upArrow">
              <a:avLst>
                <a:gd name="adj1" fmla="val 78306"/>
                <a:gd name="adj2" fmla="val 48290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80" name="Группа 90"/>
          <p:cNvGrpSpPr/>
          <p:nvPr/>
        </p:nvGrpSpPr>
        <p:grpSpPr>
          <a:xfrm>
            <a:off x="4357440" y="1928880"/>
            <a:ext cx="1173240" cy="577800"/>
            <a:chOff x="4357440" y="1928880"/>
            <a:chExt cx="1173240" cy="577800"/>
          </a:xfrm>
        </p:grpSpPr>
        <p:sp>
          <p:nvSpPr>
            <p:cNvPr id="681" name="AutoShape 14"/>
            <p:cNvSpPr/>
            <p:nvPr/>
          </p:nvSpPr>
          <p:spPr>
            <a:xfrm rot="5400000">
              <a:off x="4449600" y="1908000"/>
              <a:ext cx="330120" cy="514440"/>
            </a:xfrm>
            <a:prstGeom prst="upArrow">
              <a:avLst>
                <a:gd name="adj1" fmla="val 78306"/>
                <a:gd name="adj2" fmla="val 48309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682" name="Рисунок 57" descr="untitled.bmp"/>
            <p:cNvPicPr/>
            <p:nvPr/>
          </p:nvPicPr>
          <p:blipFill>
            <a:blip r:embed="rId7"/>
            <a:stretch/>
          </p:blipFill>
          <p:spPr>
            <a:xfrm>
              <a:off x="4804560" y="1928880"/>
              <a:ext cx="726120" cy="577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3" name="Группа 91"/>
          <p:cNvGrpSpPr/>
          <p:nvPr/>
        </p:nvGrpSpPr>
        <p:grpSpPr>
          <a:xfrm>
            <a:off x="5428800" y="1857240"/>
            <a:ext cx="1000440" cy="571680"/>
            <a:chOff x="5428800" y="1857240"/>
            <a:chExt cx="1000440" cy="571680"/>
          </a:xfrm>
        </p:grpSpPr>
        <p:pic>
          <p:nvPicPr>
            <p:cNvPr id="684" name="Picture 6" descr="F:\Подготовка презентации 2008\ICONS\VirtualLNK Icons\VirtualLNK Network Icons Collection v1.0\BMP\Regular\72x72\Certificate Security.bmp"/>
            <p:cNvPicPr/>
            <p:nvPr/>
          </p:nvPicPr>
          <p:blipFill>
            <a:blip r:embed="rId8"/>
            <a:stretch/>
          </p:blipFill>
          <p:spPr>
            <a:xfrm>
              <a:off x="5857560" y="1857240"/>
              <a:ext cx="571680" cy="5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5" name="AutoShape 14"/>
            <p:cNvSpPr/>
            <p:nvPr/>
          </p:nvSpPr>
          <p:spPr>
            <a:xfrm rot="5400000">
              <a:off x="5520600" y="1908360"/>
              <a:ext cx="330840" cy="514440"/>
            </a:xfrm>
            <a:prstGeom prst="upArrow">
              <a:avLst>
                <a:gd name="adj1" fmla="val 78306"/>
                <a:gd name="adj2" fmla="val 48203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86" name="Группа 92"/>
          <p:cNvGrpSpPr/>
          <p:nvPr/>
        </p:nvGrpSpPr>
        <p:grpSpPr>
          <a:xfrm>
            <a:off x="6357600" y="1571760"/>
            <a:ext cx="1143000" cy="1214280"/>
            <a:chOff x="6357600" y="1571760"/>
            <a:chExt cx="1143000" cy="1214280"/>
          </a:xfrm>
        </p:grpSpPr>
        <p:pic>
          <p:nvPicPr>
            <p:cNvPr id="687" name="Picture 9" descr="F:\Подготовка презентации 2008\ICONS\VirtualLNK Icons\VirtualLNK Network Icons Collection v1.0\BMP\Regular\72x72\Certificate Check.bmp"/>
            <p:cNvPicPr/>
            <p:nvPr/>
          </p:nvPicPr>
          <p:blipFill>
            <a:blip r:embed="rId9"/>
            <a:stretch/>
          </p:blipFill>
          <p:spPr>
            <a:xfrm>
              <a:off x="6858000" y="1571760"/>
              <a:ext cx="57132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8" name="Picture 10" descr="F:\Подготовка презентации 2008\ICONS\VirtualLNK Icons\VirtualLNK Network Icons Collection v1.0\BMP\Regular\72x72\Certificate Delete.bmp"/>
            <p:cNvPicPr/>
            <p:nvPr/>
          </p:nvPicPr>
          <p:blipFill>
            <a:blip r:embed="rId10"/>
            <a:stretch/>
          </p:blipFill>
          <p:spPr>
            <a:xfrm>
              <a:off x="6929280" y="2214720"/>
              <a:ext cx="57132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9" name="AutoShape 14"/>
            <p:cNvSpPr/>
            <p:nvPr/>
          </p:nvSpPr>
          <p:spPr>
            <a:xfrm rot="5400000">
              <a:off x="6449400" y="1908000"/>
              <a:ext cx="330480" cy="514440"/>
            </a:xfrm>
            <a:prstGeom prst="upArrow">
              <a:avLst>
                <a:gd name="adj1" fmla="val 78306"/>
                <a:gd name="adj2" fmla="val 48256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90" name="Группа 93"/>
          <p:cNvGrpSpPr/>
          <p:nvPr/>
        </p:nvGrpSpPr>
        <p:grpSpPr>
          <a:xfrm>
            <a:off x="7143480" y="2000160"/>
            <a:ext cx="1000440" cy="500040"/>
            <a:chOff x="7143480" y="2000160"/>
            <a:chExt cx="1000440" cy="500040"/>
          </a:xfrm>
        </p:grpSpPr>
        <p:pic>
          <p:nvPicPr>
            <p:cNvPr id="691" name="Picture 11" descr="F:\Подготовка презентации 2008\ICONS\VirtualLNK Icons\VirtualLNK Network Icons Collection v1.0\BMP\Regular\72x72\Mail Send Recieve.bmp"/>
            <p:cNvPicPr/>
            <p:nvPr/>
          </p:nvPicPr>
          <p:blipFill>
            <a:blip r:embed="rId11"/>
            <a:stretch/>
          </p:blipFill>
          <p:spPr>
            <a:xfrm>
              <a:off x="7643880" y="2000160"/>
              <a:ext cx="50004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2" name="AutoShape 14"/>
            <p:cNvSpPr/>
            <p:nvPr/>
          </p:nvSpPr>
          <p:spPr>
            <a:xfrm rot="5400000">
              <a:off x="7235280" y="1979640"/>
              <a:ext cx="330840" cy="514440"/>
            </a:xfrm>
            <a:prstGeom prst="upArrow">
              <a:avLst>
                <a:gd name="adj1" fmla="val 78306"/>
                <a:gd name="adj2" fmla="val 48203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93" name="Группа 94"/>
          <p:cNvGrpSpPr/>
          <p:nvPr/>
        </p:nvGrpSpPr>
        <p:grpSpPr>
          <a:xfrm>
            <a:off x="7929360" y="1857240"/>
            <a:ext cx="1214640" cy="928800"/>
            <a:chOff x="7929360" y="1857240"/>
            <a:chExt cx="1214640" cy="928800"/>
          </a:xfrm>
        </p:grpSpPr>
        <p:pic>
          <p:nvPicPr>
            <p:cNvPr id="694" name="Picture 14" descr="F:\Подготовка презентации 2008\ICONS\VirtualLNK Icons\VirtualLNK Medical Icons Collection v1.0\BMP\Regular\72x72\Patient Boy 1.bmp"/>
            <p:cNvPicPr/>
            <p:nvPr/>
          </p:nvPicPr>
          <p:blipFill>
            <a:blip r:embed="rId12"/>
            <a:stretch/>
          </p:blipFill>
          <p:spPr>
            <a:xfrm>
              <a:off x="8429760" y="1857240"/>
              <a:ext cx="7142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5" name="Picture 10" descr="F:\Подготовка презентации 2008\ICONS\sissof1\PNG_32\celsave_48.png"/>
            <p:cNvPicPr/>
            <p:nvPr/>
          </p:nvPicPr>
          <p:blipFill>
            <a:blip r:embed="rId13"/>
            <a:stretch/>
          </p:blipFill>
          <p:spPr>
            <a:xfrm>
              <a:off x="8286840" y="2214360"/>
              <a:ext cx="571320" cy="5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6" name="AutoShape 14"/>
            <p:cNvSpPr/>
            <p:nvPr/>
          </p:nvSpPr>
          <p:spPr>
            <a:xfrm rot="5400000">
              <a:off x="8021160" y="1979640"/>
              <a:ext cx="330840" cy="514440"/>
            </a:xfrm>
            <a:prstGeom prst="upArrow">
              <a:avLst>
                <a:gd name="adj1" fmla="val 78306"/>
                <a:gd name="adj2" fmla="val 48203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97" name="Группа 97"/>
          <p:cNvGrpSpPr/>
          <p:nvPr/>
        </p:nvGrpSpPr>
        <p:grpSpPr>
          <a:xfrm>
            <a:off x="3714840" y="3857760"/>
            <a:ext cx="1660320" cy="950040"/>
            <a:chOff x="3714840" y="3857760"/>
            <a:chExt cx="1660320" cy="950040"/>
          </a:xfrm>
        </p:grpSpPr>
        <p:pic>
          <p:nvPicPr>
            <p:cNvPr id="698" name="Picture 11" descr="H:\Подготовка презентации 2008\ICONS\VirtualLNK Icons\VirtualLNK Medical Icons Collection v1.0\BMP\Regular\72x72\Hospital.bmp"/>
            <p:cNvPicPr/>
            <p:nvPr/>
          </p:nvPicPr>
          <p:blipFill>
            <a:blip r:embed="rId14"/>
            <a:stretch/>
          </p:blipFill>
          <p:spPr>
            <a:xfrm>
              <a:off x="4214520" y="3857760"/>
              <a:ext cx="642600" cy="6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9" name="Прямоугольник 39"/>
            <p:cNvSpPr/>
            <p:nvPr/>
          </p:nvSpPr>
          <p:spPr>
            <a:xfrm>
              <a:off x="3714840" y="4500720"/>
              <a:ext cx="166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c00000"/>
                  </a:solidFill>
                  <a:latin typeface="Arial"/>
                </a:rPr>
                <a:t>ТОУЗ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0" name="AutoShape 14"/>
            <p:cNvSpPr/>
            <p:nvPr/>
          </p:nvSpPr>
          <p:spPr>
            <a:xfrm rot="5400000">
              <a:off x="3806280" y="3980160"/>
              <a:ext cx="330840" cy="514080"/>
            </a:xfrm>
            <a:prstGeom prst="upArrow">
              <a:avLst>
                <a:gd name="adj1" fmla="val 78306"/>
                <a:gd name="adj2" fmla="val 48170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01" name="Группа 99"/>
          <p:cNvGrpSpPr/>
          <p:nvPr/>
        </p:nvGrpSpPr>
        <p:grpSpPr>
          <a:xfrm>
            <a:off x="5857560" y="3929040"/>
            <a:ext cx="1297440" cy="579600"/>
            <a:chOff x="5857560" y="3929040"/>
            <a:chExt cx="1297440" cy="579600"/>
          </a:xfrm>
        </p:grpSpPr>
        <p:pic>
          <p:nvPicPr>
            <p:cNvPr id="702" name="Рисунок 72" descr="untitled.bmp"/>
            <p:cNvPicPr/>
            <p:nvPr/>
          </p:nvPicPr>
          <p:blipFill>
            <a:blip r:embed="rId15"/>
            <a:stretch/>
          </p:blipFill>
          <p:spPr>
            <a:xfrm>
              <a:off x="6429240" y="3929040"/>
              <a:ext cx="725760" cy="57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3" name="AutoShape 14"/>
            <p:cNvSpPr/>
            <p:nvPr/>
          </p:nvSpPr>
          <p:spPr>
            <a:xfrm rot="5400000">
              <a:off x="5949000" y="3980160"/>
              <a:ext cx="331200" cy="514440"/>
            </a:xfrm>
            <a:prstGeom prst="upArrow">
              <a:avLst>
                <a:gd name="adj1" fmla="val 78306"/>
                <a:gd name="adj2" fmla="val 48151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04" name="Группа 96"/>
          <p:cNvGrpSpPr/>
          <p:nvPr/>
        </p:nvGrpSpPr>
        <p:grpSpPr>
          <a:xfrm>
            <a:off x="2356920" y="3714840"/>
            <a:ext cx="1415160" cy="1500120"/>
            <a:chOff x="2356920" y="3714840"/>
            <a:chExt cx="1415160" cy="1500120"/>
          </a:xfrm>
        </p:grpSpPr>
        <p:pic>
          <p:nvPicPr>
            <p:cNvPr id="705" name="Picture 4" descr="C:\Users\ADexter\Desktop\VirtualLNK Icons\VirtualLNK Website Icons Collection v1.0\BMP\Regular\72x72\Printing and Publishing.bmp"/>
            <p:cNvPicPr/>
            <p:nvPr/>
          </p:nvPicPr>
          <p:blipFill>
            <a:blip r:embed="rId16"/>
            <a:stretch/>
          </p:blipFill>
          <p:spPr>
            <a:xfrm>
              <a:off x="2857320" y="3714840"/>
              <a:ext cx="91476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6" name="AutoShape 14"/>
            <p:cNvSpPr/>
            <p:nvPr/>
          </p:nvSpPr>
          <p:spPr>
            <a:xfrm rot="5400000">
              <a:off x="2448720" y="3979800"/>
              <a:ext cx="330480" cy="514440"/>
            </a:xfrm>
            <a:prstGeom prst="upArrow">
              <a:avLst>
                <a:gd name="adj1" fmla="val 78306"/>
                <a:gd name="adj2" fmla="val 48256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707" name="Picture 5" descr="C:\Users\ADexter\Desktop\VirtualLNK Icons\VirtualLNK Accounting Icons Collection v1.0\BMP\Regular\72x72\Barcode.bmp"/>
            <p:cNvPicPr/>
            <p:nvPr/>
          </p:nvPicPr>
          <p:blipFill>
            <a:blip r:embed="rId17"/>
            <a:stretch/>
          </p:blipFill>
          <p:spPr>
            <a:xfrm>
              <a:off x="2928960" y="4500720"/>
              <a:ext cx="714600" cy="71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8" name="Группа 95"/>
          <p:cNvGrpSpPr/>
          <p:nvPr/>
        </p:nvGrpSpPr>
        <p:grpSpPr>
          <a:xfrm>
            <a:off x="214200" y="3929040"/>
            <a:ext cx="2225880" cy="1143000"/>
            <a:chOff x="214200" y="3929040"/>
            <a:chExt cx="2225880" cy="1143000"/>
          </a:xfrm>
        </p:grpSpPr>
        <p:pic>
          <p:nvPicPr>
            <p:cNvPr id="709" name="Picture 3" descr="F:\Подготовка презентации 2008\ICONS\VirtualLNK Icons\VirtualLNK Medical Icons Collection v1.0\BMP\Regular\72x72\Qualifications 3D.bmp"/>
            <p:cNvPicPr/>
            <p:nvPr/>
          </p:nvPicPr>
          <p:blipFill>
            <a:blip r:embed="rId18"/>
            <a:stretch/>
          </p:blipFill>
          <p:spPr>
            <a:xfrm>
              <a:off x="857160" y="4357440"/>
              <a:ext cx="714240" cy="71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14" descr="F:\Подготовка презентации 2008\ICONS\VirtualLNK Icons\VirtualLNK Medical Icons Collection v1.0\BMP\Regular\72x72\Patient Boy 1.bmp"/>
            <p:cNvPicPr/>
            <p:nvPr/>
          </p:nvPicPr>
          <p:blipFill>
            <a:blip r:embed="rId19"/>
            <a:stretch/>
          </p:blipFill>
          <p:spPr>
            <a:xfrm>
              <a:off x="214200" y="3929040"/>
              <a:ext cx="71424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" name="AutoShape 14"/>
            <p:cNvSpPr/>
            <p:nvPr/>
          </p:nvSpPr>
          <p:spPr>
            <a:xfrm rot="5400000">
              <a:off x="1019880" y="3979440"/>
              <a:ext cx="330480" cy="514440"/>
            </a:xfrm>
            <a:prstGeom prst="upArrow">
              <a:avLst>
                <a:gd name="adj1" fmla="val 78306"/>
                <a:gd name="adj2" fmla="val 48256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712" name="Рисунок 68" descr="untitled.bmp"/>
            <p:cNvPicPr/>
            <p:nvPr/>
          </p:nvPicPr>
          <p:blipFill>
            <a:blip r:embed="rId20"/>
            <a:stretch/>
          </p:blipFill>
          <p:spPr>
            <a:xfrm>
              <a:off x="1714680" y="3929040"/>
              <a:ext cx="725400" cy="57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3" name="Picture 10" descr="F:\Подготовка презентации 2008\ICONS\sissof1\PNG_32\celsave_48.png"/>
            <p:cNvPicPr/>
            <p:nvPr/>
          </p:nvPicPr>
          <p:blipFill>
            <a:blip r:embed="rId21"/>
            <a:stretch/>
          </p:blipFill>
          <p:spPr>
            <a:xfrm>
              <a:off x="1214280" y="4572000"/>
              <a:ext cx="500040" cy="500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4" name="Группа 98"/>
          <p:cNvGrpSpPr/>
          <p:nvPr/>
        </p:nvGrpSpPr>
        <p:grpSpPr>
          <a:xfrm>
            <a:off x="4785840" y="3786120"/>
            <a:ext cx="1315080" cy="1314360"/>
            <a:chOff x="4785840" y="3786120"/>
            <a:chExt cx="1315080" cy="1314360"/>
          </a:xfrm>
        </p:grpSpPr>
        <p:pic>
          <p:nvPicPr>
            <p:cNvPr id="715" name="Picture 9" descr="F:\Подготовка презентации 2008\ICONS\VirtualLNK Icons\VirtualLNK Network Icons Collection v1.0\BMP\Regular\72x72\Certificate Check.bmp"/>
            <p:cNvPicPr/>
            <p:nvPr/>
          </p:nvPicPr>
          <p:blipFill>
            <a:blip r:embed="rId22"/>
            <a:stretch/>
          </p:blipFill>
          <p:spPr>
            <a:xfrm>
              <a:off x="5357880" y="3786120"/>
              <a:ext cx="71460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6" name="AutoShape 14"/>
            <p:cNvSpPr/>
            <p:nvPr/>
          </p:nvSpPr>
          <p:spPr>
            <a:xfrm rot="5400000">
              <a:off x="4877640" y="3979440"/>
              <a:ext cx="330480" cy="514440"/>
            </a:xfrm>
            <a:prstGeom prst="upArrow">
              <a:avLst>
                <a:gd name="adj1" fmla="val 78306"/>
                <a:gd name="adj2" fmla="val 48256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717" name="Picture 6" descr="C:\Users\ADexter\Desktop\VirtualLNK Icons\VirtualLNK Accounting Icons Collection v1.0\BMP\Regular\72x72\Barcode Scan.bmp"/>
            <p:cNvPicPr/>
            <p:nvPr/>
          </p:nvPicPr>
          <p:blipFill>
            <a:blip r:embed="rId23"/>
            <a:stretch/>
          </p:blipFill>
          <p:spPr>
            <a:xfrm>
              <a:off x="5500800" y="4500360"/>
              <a:ext cx="600120" cy="600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8" name="Группа 100"/>
          <p:cNvGrpSpPr/>
          <p:nvPr/>
        </p:nvGrpSpPr>
        <p:grpSpPr>
          <a:xfrm>
            <a:off x="7000920" y="4000680"/>
            <a:ext cx="1071360" cy="500040"/>
            <a:chOff x="7000920" y="4000680"/>
            <a:chExt cx="1071360" cy="500040"/>
          </a:xfrm>
        </p:grpSpPr>
        <p:sp>
          <p:nvSpPr>
            <p:cNvPr id="719" name="AutoShape 14"/>
            <p:cNvSpPr/>
            <p:nvPr/>
          </p:nvSpPr>
          <p:spPr>
            <a:xfrm rot="5400000">
              <a:off x="7092360" y="3980160"/>
              <a:ext cx="330840" cy="514080"/>
            </a:xfrm>
            <a:prstGeom prst="upArrow">
              <a:avLst>
                <a:gd name="adj1" fmla="val 78306"/>
                <a:gd name="adj2" fmla="val 48170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720" name="Picture 11" descr="F:\Подготовка презентации 2008\ICONS\VirtualLNK Icons\VirtualLNK Network Icons Collection v1.0\BMP\Regular\72x72\Mail Send Recieve.bmp"/>
            <p:cNvPicPr/>
            <p:nvPr/>
          </p:nvPicPr>
          <p:blipFill>
            <a:blip r:embed="rId24"/>
            <a:stretch/>
          </p:blipFill>
          <p:spPr>
            <a:xfrm>
              <a:off x="7572240" y="4000680"/>
              <a:ext cx="500040" cy="500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1" name="Группа 101"/>
          <p:cNvGrpSpPr/>
          <p:nvPr/>
        </p:nvGrpSpPr>
        <p:grpSpPr>
          <a:xfrm>
            <a:off x="7929360" y="3857760"/>
            <a:ext cx="1214640" cy="928440"/>
            <a:chOff x="7929360" y="3857760"/>
            <a:chExt cx="1214640" cy="928440"/>
          </a:xfrm>
        </p:grpSpPr>
        <p:pic>
          <p:nvPicPr>
            <p:cNvPr id="722" name="Picture 14" descr="F:\Подготовка презентации 2008\ICONS\VirtualLNK Icons\VirtualLNK Medical Icons Collection v1.0\BMP\Regular\72x72\Patient Boy 1.bmp"/>
            <p:cNvPicPr/>
            <p:nvPr/>
          </p:nvPicPr>
          <p:blipFill>
            <a:blip r:embed="rId25"/>
            <a:stretch/>
          </p:blipFill>
          <p:spPr>
            <a:xfrm>
              <a:off x="8429760" y="3857760"/>
              <a:ext cx="714240" cy="71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3" name="Picture 10" descr="F:\Подготовка презентации 2008\ICONS\sissof1\PNG_32\celsave_48.png"/>
            <p:cNvPicPr/>
            <p:nvPr/>
          </p:nvPicPr>
          <p:blipFill>
            <a:blip r:embed="rId26"/>
            <a:stretch/>
          </p:blipFill>
          <p:spPr>
            <a:xfrm>
              <a:off x="8286840" y="4214880"/>
              <a:ext cx="57132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4" name="AutoShape 14"/>
            <p:cNvSpPr/>
            <p:nvPr/>
          </p:nvSpPr>
          <p:spPr>
            <a:xfrm rot="5400000">
              <a:off x="8021160" y="3979800"/>
              <a:ext cx="330480" cy="514440"/>
            </a:xfrm>
            <a:prstGeom prst="upArrow">
              <a:avLst>
                <a:gd name="adj1" fmla="val 78306"/>
                <a:gd name="adj2" fmla="val 48256"/>
              </a:avLst>
            </a:prstGeom>
            <a:gradFill rotWithShape="0">
              <a:gsLst>
                <a:gs pos="0">
                  <a:srgbClr val="88ce5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725" name="Прямоугольник 82"/>
          <p:cNvSpPr/>
          <p:nvPr/>
        </p:nvSpPr>
        <p:spPr>
          <a:xfrm>
            <a:off x="6215040" y="2428920"/>
            <a:ext cx="87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СРН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726" name="Picture 13" descr="C:\DATA\Мои документы\Мои рисунки\293551133787556.jpg"/>
          <p:cNvPicPr/>
          <p:nvPr/>
        </p:nvPicPr>
        <p:blipFill>
          <a:blip r:embed="rId27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727" name="Нижний колонтитул 4"/>
          <p:cNvSpPr/>
          <p:nvPr/>
        </p:nvSpPr>
        <p:spPr>
          <a:xfrm>
            <a:off x="5500800" y="6500880"/>
            <a:ext cx="36432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онцепции информатизаци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457200" y="1343160"/>
            <a:ext cx="8229600" cy="10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30" name="Нижний колонтитул 4"/>
          <p:cNvSpPr/>
          <p:nvPr/>
        </p:nvSpPr>
        <p:spPr>
          <a:xfrm>
            <a:off x="5500800" y="6500880"/>
            <a:ext cx="36432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731" name="Picture 4" descr="F:\Подготовка презентации 2008\ICONS\iconki_www.webz.tu1.ru\500ic\[www.zavis.ru]NetByte Design Studio - 1121.png"/>
          <p:cNvPicPr/>
          <p:nvPr/>
        </p:nvPicPr>
        <p:blipFill>
          <a:blip r:embed="rId1"/>
          <a:stretch/>
        </p:blipFill>
        <p:spPr>
          <a:xfrm>
            <a:off x="5857920" y="2071800"/>
            <a:ext cx="1625400" cy="1625400"/>
          </a:xfrm>
          <a:prstGeom prst="rect">
            <a:avLst/>
          </a:prstGeom>
          <a:ln w="0">
            <a:noFill/>
          </a:ln>
        </p:spPr>
      </p:pic>
      <p:sp>
        <p:nvSpPr>
          <p:cNvPr id="732" name="Прямоугольник 7"/>
          <p:cNvSpPr/>
          <p:nvPr/>
        </p:nvSpPr>
        <p:spPr>
          <a:xfrm>
            <a:off x="285840" y="3857760"/>
            <a:ext cx="421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Концепция информатизации системы управления здравоохранением Санкт-Петербурга на 2009-2011 годы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33" name="Прямоугольник 8"/>
          <p:cNvSpPr/>
          <p:nvPr/>
        </p:nvSpPr>
        <p:spPr>
          <a:xfrm>
            <a:off x="4786200" y="3857760"/>
            <a:ext cx="421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Концепция информатизации системы обязательного медицинского страхования Санкт-Петербурга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734" name="Picture 4" descr="F:\Подготовка презентации 2008\ICONS\iconki_www.webz.tu1.ru\500ic\[www.zavis.ru]NetByte Design Studio - 1121.png"/>
          <p:cNvPicPr/>
          <p:nvPr/>
        </p:nvPicPr>
        <p:blipFill>
          <a:blip r:embed="rId2"/>
          <a:stretch/>
        </p:blipFill>
        <p:spPr>
          <a:xfrm>
            <a:off x="1785960" y="2000160"/>
            <a:ext cx="1625400" cy="1625760"/>
          </a:xfrm>
          <a:prstGeom prst="rect">
            <a:avLst/>
          </a:prstGeom>
          <a:ln w="0">
            <a:noFill/>
          </a:ln>
        </p:spPr>
      </p:pic>
      <p:sp>
        <p:nvSpPr>
          <p:cNvPr id="735" name="Двойная стрелка влево/вправо 10"/>
          <p:cNvSpPr/>
          <p:nvPr/>
        </p:nvSpPr>
        <p:spPr>
          <a:xfrm>
            <a:off x="4000680" y="2571840"/>
            <a:ext cx="1785600" cy="428400"/>
          </a:xfrm>
          <a:prstGeom prst="leftRightArrow">
            <a:avLst>
              <a:gd name="adj1" fmla="val 50000"/>
              <a:gd name="adj2" fmla="val 50017"/>
            </a:avLst>
          </a:prstGeom>
          <a:solidFill>
            <a:srgbClr val="5bace9"/>
          </a:solidFill>
          <a:ln w="25560">
            <a:solidFill>
              <a:srgbClr val="417d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736" name="Picture 13" descr="C:\DATA\Мои документы\Мои рисунки\293551133787556.jpg"/>
          <p:cNvPicPr/>
          <p:nvPr/>
        </p:nvPicPr>
        <p:blipFill>
          <a:blip r:embed="rId3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5" descr="F:\Подготовка презентации 2008\ICONS\iconki_www.webz.tu1.ru\500ic\[www.zavis.ru]NetByte Design Studio - 1288.png"/>
          <p:cNvPicPr/>
          <p:nvPr/>
        </p:nvPicPr>
        <p:blipFill>
          <a:blip r:embed="rId4"/>
          <a:stretch/>
        </p:blipFill>
        <p:spPr>
          <a:xfrm>
            <a:off x="6643800" y="264312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5" descr="F:\Подготовка презентации 2008\ICONS\iconki_www.webz.tu1.ru\500ic\[www.zavis.ru]NetByte Design Studio - 1288.png"/>
          <p:cNvPicPr/>
          <p:nvPr/>
        </p:nvPicPr>
        <p:blipFill>
          <a:blip r:embed="rId5"/>
          <a:stretch/>
        </p:blipFill>
        <p:spPr>
          <a:xfrm>
            <a:off x="2643120" y="2571840"/>
            <a:ext cx="1905120" cy="1904760"/>
          </a:xfrm>
          <a:prstGeom prst="rect">
            <a:avLst/>
          </a:prstGeom>
          <a:ln w="0">
            <a:noFill/>
          </a:ln>
        </p:spPr>
      </p:pic>
      <p:sp>
        <p:nvSpPr>
          <p:cNvPr id="739" name="AutoShape 3"/>
          <p:cNvSpPr/>
          <p:nvPr/>
        </p:nvSpPr>
        <p:spPr>
          <a:xfrm flipV="1">
            <a:off x="2857680" y="3285360"/>
            <a:ext cx="3929040" cy="2357640"/>
          </a:xfrm>
          <a:prstGeom prst="upArrow">
            <a:avLst>
              <a:gd name="adj1" fmla="val 73769"/>
              <a:gd name="adj2" fmla="val 32588"/>
            </a:avLst>
          </a:prstGeom>
          <a:gradFill rotWithShape="0">
            <a:gsLst>
              <a:gs pos="0">
                <a:srgbClr val="4090e8">
                  <a:alpha val="3215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40" name="Прямоугольник 15"/>
          <p:cNvSpPr/>
          <p:nvPr/>
        </p:nvSpPr>
        <p:spPr>
          <a:xfrm>
            <a:off x="1500120" y="5643720"/>
            <a:ext cx="678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  <a:ea typeface="Arial"/>
              </a:rPr>
              <a:t>Постановление Правительства Санкт-Петербурга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1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714240" y="579240"/>
            <a:ext cx="84297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43" name="Picture 2" descr="C:\Documents and Settings\Papa\Рабочий стол\3D_Business_Graphics_rep\stockxpertcom_id1300071_size5.jpg"/>
          <p:cNvPicPr/>
          <p:nvPr/>
        </p:nvPicPr>
        <p:blipFill>
          <a:blip r:embed="rId2"/>
          <a:stretch/>
        </p:blipFill>
        <p:spPr>
          <a:xfrm>
            <a:off x="928800" y="1214280"/>
            <a:ext cx="7551720" cy="5643720"/>
          </a:xfrm>
          <a:prstGeom prst="rect">
            <a:avLst/>
          </a:prstGeom>
          <a:ln w="0">
            <a:noFill/>
          </a:ln>
        </p:spPr>
      </p:pic>
      <p:pic>
        <p:nvPicPr>
          <p:cNvPr id="744" name="WordArt 5" descr=""/>
          <p:cNvPicPr/>
          <p:nvPr/>
        </p:nvPicPr>
        <p:blipFill>
          <a:blip r:embed="rId3"/>
          <a:stretch/>
        </p:blipFill>
        <p:spPr>
          <a:xfrm>
            <a:off x="2212920" y="1116000"/>
            <a:ext cx="5145120" cy="1455840"/>
          </a:xfrm>
          <a:prstGeom prst="rect">
            <a:avLst/>
          </a:prstGeom>
          <a:ln w="0">
            <a:noFill/>
          </a:ln>
        </p:spPr>
      </p:pic>
      <p:pic>
        <p:nvPicPr>
          <p:cNvPr id="745" name="Рисунок 4" descr="untitled.bmp"/>
          <p:cNvPicPr/>
          <p:nvPr/>
        </p:nvPicPr>
        <p:blipFill>
          <a:blip r:embed="rId4"/>
          <a:stretch/>
        </p:blipFill>
        <p:spPr>
          <a:xfrm>
            <a:off x="4214880" y="5500800"/>
            <a:ext cx="895320" cy="714240"/>
          </a:xfrm>
          <a:prstGeom prst="rect">
            <a:avLst/>
          </a:prstGeom>
          <a:ln w="0">
            <a:noFill/>
          </a:ln>
        </p:spPr>
      </p:pic>
      <p:sp>
        <p:nvSpPr>
          <p:cNvPr id="746" name="Прямоугольник 7"/>
          <p:cNvSpPr/>
          <p:nvPr/>
        </p:nvSpPr>
        <p:spPr>
          <a:xfrm>
            <a:off x="3384000" y="6488280"/>
            <a:ext cx="26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Verdana"/>
                <a:ea typeface="Arial"/>
              </a:rPr>
              <a:t>cio@miac.zdrav.spb.ru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47" name="Місце для нижнього колонтитула 1"/>
          <p:cNvSpPr/>
          <p:nvPr/>
        </p:nvSpPr>
        <p:spPr>
          <a:xfrm>
            <a:off x="579132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0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indefinite"/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7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7" descr="shutterstock_5322817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56437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5280" y="57132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ринятые национальные стандарты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Footer Placeholder 3"/>
          <p:cNvSpPr/>
          <p:nvPr/>
        </p:nvSpPr>
        <p:spPr>
          <a:xfrm>
            <a:off x="5791320" y="6537240"/>
            <a:ext cx="3352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1" name="AutoShape 8"/>
          <p:cNvSpPr/>
          <p:nvPr/>
        </p:nvSpPr>
        <p:spPr>
          <a:xfrm>
            <a:off x="357120" y="1643040"/>
            <a:ext cx="8501040" cy="132408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eeeee"/>
              </a:gs>
              <a:gs pos="100000">
                <a:srgbClr val="dddddd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500040" y="1714680"/>
            <a:ext cx="2571840" cy="118404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25b1b1"/>
              </a:gs>
              <a:gs pos="100000">
                <a:srgbClr val="1a7c7c"/>
              </a:gs>
            </a:gsLst>
            <a:lin ang="5400000"/>
          </a:gradFill>
          <a:ln w="3816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934920" y="1928880"/>
            <a:ext cx="154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ОСТ Р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52636-2006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3000240" y="1785960"/>
            <a:ext cx="55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528d"/>
                </a:solidFill>
                <a:latin typeface="Arial"/>
                <a:ea typeface="Arial"/>
              </a:rPr>
              <a:t>«Электронная история болезни. </a:t>
            </a:r>
            <a:br>
              <a:rPr sz="2400"/>
            </a:br>
            <a:r>
              <a:rPr b="0" lang="ru-RU" sz="2400" spc="-1" strike="noStrike">
                <a:solidFill>
                  <a:srgbClr val="1d528d"/>
                </a:solidFill>
                <a:latin typeface="Arial"/>
                <a:ea typeface="Arial"/>
              </a:rPr>
              <a:t>Общие положения»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5" name="AutoShape 12"/>
          <p:cNvSpPr/>
          <p:nvPr/>
        </p:nvSpPr>
        <p:spPr>
          <a:xfrm>
            <a:off x="357120" y="3262320"/>
            <a:ext cx="8501040" cy="166680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eeeee"/>
              </a:gs>
              <a:gs pos="100000">
                <a:srgbClr val="dddddd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6" name="AutoShape 13"/>
          <p:cNvSpPr/>
          <p:nvPr/>
        </p:nvSpPr>
        <p:spPr>
          <a:xfrm>
            <a:off x="500040" y="3333600"/>
            <a:ext cx="2571840" cy="145260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6e71f0"/>
              </a:gs>
              <a:gs pos="100000">
                <a:srgbClr val="4d4fa8"/>
              </a:gs>
            </a:gsLst>
            <a:lin ang="5400000"/>
          </a:gradFill>
          <a:ln w="3816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7" name="Text Box 14"/>
          <p:cNvSpPr/>
          <p:nvPr/>
        </p:nvSpPr>
        <p:spPr>
          <a:xfrm>
            <a:off x="506520" y="3714840"/>
            <a:ext cx="258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ГОСТ Р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ИСО/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С 18308-2008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8" name="Text Box 15"/>
          <p:cNvSpPr/>
          <p:nvPr/>
        </p:nvSpPr>
        <p:spPr>
          <a:xfrm>
            <a:off x="3143160" y="3397320"/>
            <a:ext cx="571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528d"/>
                </a:solidFill>
                <a:latin typeface="Arial"/>
                <a:ea typeface="Arial"/>
              </a:rPr>
              <a:t>«Информатизация здоровья.</a:t>
            </a:r>
            <a:r>
              <a:rPr b="0" lang="en-US" sz="24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1d528d"/>
                </a:solidFill>
                <a:latin typeface="Arial"/>
                <a:ea typeface="Arial"/>
              </a:rPr>
              <a:t>Требования к архитектуре  электронных записей в здравоохранении»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Freeform 16"/>
          <p:cNvSpPr/>
          <p:nvPr/>
        </p:nvSpPr>
        <p:spPr>
          <a:xfrm>
            <a:off x="571680" y="1785960"/>
            <a:ext cx="607680" cy="592200"/>
          </a:xfrm>
          <a:custGeom>
            <a:avLst/>
            <a:gdLst/>
            <a:ahLst/>
            <a:rect l="l" t="t" r="r" b="b"/>
            <a:pathLst>
              <a:path w="596" h="598">
                <a:moveTo>
                  <a:pt x="118" y="0"/>
                </a:moveTo>
                <a:cubicBezTo>
                  <a:pt x="53" y="0"/>
                  <a:pt x="0" y="53"/>
                  <a:pt x="0" y="118"/>
                </a:cubicBezTo>
                <a:lnTo>
                  <a:pt x="0" y="589"/>
                </a:lnTo>
                <a:cubicBezTo>
                  <a:pt x="27" y="598"/>
                  <a:pt x="12" y="309"/>
                  <a:pt x="161" y="174"/>
                </a:cubicBezTo>
                <a:cubicBezTo>
                  <a:pt x="310" y="39"/>
                  <a:pt x="596" y="29"/>
                  <a:pt x="589" y="0"/>
                </a:cubicBezTo>
                <a:lnTo>
                  <a:pt x="118" y="0"/>
                </a:lnTo>
                <a:close/>
              </a:path>
            </a:pathLst>
          </a:custGeom>
          <a:gradFill rotWithShape="0">
            <a:gsLst>
              <a:gs pos="0">
                <a:srgbClr val="88d4d4"/>
              </a:gs>
              <a:gs pos="50000">
                <a:srgbClr val="25b1b1">
                  <a:alpha val="0"/>
                </a:srgbClr>
              </a:gs>
              <a:gs pos="100000">
                <a:srgbClr val="88d4d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0" name="Freeform 17"/>
          <p:cNvSpPr/>
          <p:nvPr/>
        </p:nvSpPr>
        <p:spPr>
          <a:xfrm>
            <a:off x="571680" y="3429000"/>
            <a:ext cx="607680" cy="592200"/>
          </a:xfrm>
          <a:custGeom>
            <a:avLst/>
            <a:gdLst/>
            <a:ahLst/>
            <a:rect l="l" t="t" r="r" b="b"/>
            <a:pathLst>
              <a:path w="596" h="598">
                <a:moveTo>
                  <a:pt x="118" y="0"/>
                </a:moveTo>
                <a:cubicBezTo>
                  <a:pt x="53" y="0"/>
                  <a:pt x="0" y="53"/>
                  <a:pt x="0" y="118"/>
                </a:cubicBezTo>
                <a:lnTo>
                  <a:pt x="0" y="589"/>
                </a:lnTo>
                <a:cubicBezTo>
                  <a:pt x="27" y="598"/>
                  <a:pt x="12" y="309"/>
                  <a:pt x="161" y="174"/>
                </a:cubicBezTo>
                <a:cubicBezTo>
                  <a:pt x="310" y="39"/>
                  <a:pt x="596" y="29"/>
                  <a:pt x="589" y="0"/>
                </a:cubicBezTo>
                <a:lnTo>
                  <a:pt x="118" y="0"/>
                </a:lnTo>
                <a:close/>
              </a:path>
            </a:pathLst>
          </a:custGeom>
          <a:gradFill rotWithShape="0">
            <a:gsLst>
              <a:gs pos="0">
                <a:srgbClr val="b0b2f7"/>
              </a:gs>
              <a:gs pos="50000">
                <a:srgbClr val="6e71f0">
                  <a:alpha val="0"/>
                </a:srgbClr>
              </a:gs>
              <a:gs pos="100000">
                <a:srgbClr val="b0b2f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1" name="Picture 13" descr="C:\DATA\Мои документы\Мои рисунки\293551133787556.jpg"/>
          <p:cNvPicPr/>
          <p:nvPr/>
        </p:nvPicPr>
        <p:blipFill>
          <a:blip r:embed="rId2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indefinite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37" descr="shutterstock_1_9382699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56437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95280" y="57132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онцепция развития системы здравоохранения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до 2020 года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4" name="Picture 27" descr="россия"/>
          <p:cNvPicPr/>
          <p:nvPr/>
        </p:nvPicPr>
        <p:blipFill>
          <a:blip r:embed="rId2"/>
          <a:stretch/>
        </p:blipFill>
        <p:spPr>
          <a:xfrm>
            <a:off x="7500960" y="1785960"/>
            <a:ext cx="609480" cy="371520"/>
          </a:xfrm>
          <a:prstGeom prst="rect">
            <a:avLst/>
          </a:prstGeom>
          <a:ln w="9360">
            <a:solidFill>
              <a:srgbClr val="6e71f0"/>
            </a:solidFill>
            <a:miter/>
          </a:ln>
          <a:effectLst>
            <a:outerShdw dist="17819" dir="2700000" blurRad="0" rotWithShape="0">
              <a:srgbClr val="6e71f0"/>
            </a:outerShdw>
          </a:effectLst>
        </p:spPr>
      </p:pic>
      <p:pic>
        <p:nvPicPr>
          <p:cNvPr id="135" name="Picture 13" descr="C:\DATA\Мои документы\Мои рисунки\293551133787556.jpg"/>
          <p:cNvPicPr/>
          <p:nvPr/>
        </p:nvPicPr>
        <p:blipFill>
          <a:blip r:embed="rId3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136" name="Footer Placeholder 3"/>
          <p:cNvSpPr/>
          <p:nvPr/>
        </p:nvSpPr>
        <p:spPr>
          <a:xfrm>
            <a:off x="5791320" y="6537240"/>
            <a:ext cx="3352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7" name="AutoShape 13"/>
          <p:cNvSpPr/>
          <p:nvPr/>
        </p:nvSpPr>
        <p:spPr>
          <a:xfrm>
            <a:off x="1000080" y="2657520"/>
            <a:ext cx="7500960" cy="89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dddd"/>
              </a:gs>
              <a:gs pos="50000">
                <a:srgbClr val="f2f2f2"/>
              </a:gs>
              <a:gs pos="100000">
                <a:srgbClr val="dddddd"/>
              </a:gs>
            </a:gsLst>
            <a:lin ang="27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8" name="AutoShape 14"/>
          <p:cNvSpPr/>
          <p:nvPr/>
        </p:nvSpPr>
        <p:spPr>
          <a:xfrm>
            <a:off x="1000080" y="1714680"/>
            <a:ext cx="7500960" cy="89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dddd"/>
              </a:gs>
              <a:gs pos="50000">
                <a:srgbClr val="f2f2f2"/>
              </a:gs>
              <a:gs pos="100000">
                <a:srgbClr val="dddddd"/>
              </a:gs>
            </a:gsLst>
            <a:lin ang="27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9" name="AutoShape 20"/>
          <p:cNvSpPr/>
          <p:nvPr/>
        </p:nvSpPr>
        <p:spPr>
          <a:xfrm rot="5400000">
            <a:off x="762120" y="1913040"/>
            <a:ext cx="488880" cy="488880"/>
          </a:xfrm>
          <a:prstGeom prst="diamond">
            <a:avLst/>
          </a:prstGeom>
          <a:solidFill>
            <a:srgbClr val="6e71f0"/>
          </a:solidFill>
          <a:ln w="19080">
            <a:solidFill>
              <a:srgbClr val="f8f8f8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0" name="AutoShape 21"/>
          <p:cNvSpPr/>
          <p:nvPr/>
        </p:nvSpPr>
        <p:spPr>
          <a:xfrm rot="5400000">
            <a:off x="762120" y="2855880"/>
            <a:ext cx="488880" cy="488880"/>
          </a:xfrm>
          <a:prstGeom prst="diamond">
            <a:avLst/>
          </a:prstGeom>
          <a:solidFill>
            <a:srgbClr val="969696"/>
          </a:solidFill>
          <a:ln w="19080">
            <a:solidFill>
              <a:srgbClr val="f8f8f8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1" name="AutoShape 22"/>
          <p:cNvSpPr/>
          <p:nvPr/>
        </p:nvSpPr>
        <p:spPr>
          <a:xfrm>
            <a:off x="1000080" y="4533840"/>
            <a:ext cx="7500960" cy="89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dddd"/>
              </a:gs>
              <a:gs pos="50000">
                <a:srgbClr val="f2f2f2"/>
              </a:gs>
              <a:gs pos="100000">
                <a:srgbClr val="dddddd"/>
              </a:gs>
            </a:gsLst>
            <a:lin ang="27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2" name="AutoShape 23"/>
          <p:cNvSpPr/>
          <p:nvPr/>
        </p:nvSpPr>
        <p:spPr>
          <a:xfrm>
            <a:off x="1000080" y="3591000"/>
            <a:ext cx="7500960" cy="89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dddd"/>
              </a:gs>
              <a:gs pos="50000">
                <a:srgbClr val="f2f2f2"/>
              </a:gs>
              <a:gs pos="100000">
                <a:srgbClr val="dddddd"/>
              </a:gs>
            </a:gsLst>
            <a:lin ang="27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3" name="AutoShape 24"/>
          <p:cNvSpPr/>
          <p:nvPr/>
        </p:nvSpPr>
        <p:spPr>
          <a:xfrm rot="5400000">
            <a:off x="762120" y="3789360"/>
            <a:ext cx="488880" cy="488880"/>
          </a:xfrm>
          <a:prstGeom prst="diamond">
            <a:avLst/>
          </a:prstGeom>
          <a:solidFill>
            <a:srgbClr val="25b1b1"/>
          </a:solidFill>
          <a:ln w="19080">
            <a:solidFill>
              <a:srgbClr val="f8f8f8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4" name="AutoShape 25"/>
          <p:cNvSpPr/>
          <p:nvPr/>
        </p:nvSpPr>
        <p:spPr>
          <a:xfrm rot="5400000">
            <a:off x="761760" y="4732200"/>
            <a:ext cx="489240" cy="488880"/>
          </a:xfrm>
          <a:prstGeom prst="diamond">
            <a:avLst/>
          </a:prstGeom>
          <a:solidFill>
            <a:srgbClr val="5bace9"/>
          </a:solidFill>
          <a:ln w="19080">
            <a:solidFill>
              <a:srgbClr val="f8f8f8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5" name="Text Box 26"/>
          <p:cNvSpPr/>
          <p:nvPr/>
        </p:nvSpPr>
        <p:spPr>
          <a:xfrm>
            <a:off x="1143000" y="1857240"/>
            <a:ext cx="728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7840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1400" spc="-1" strike="noStrike">
                <a:solidFill>
                  <a:srgbClr val="6e71f0"/>
                </a:solidFill>
                <a:latin typeface="Arial"/>
                <a:ea typeface="Arial"/>
              </a:rPr>
              <a:t>Персонификация медицинских услуг на основе электронного паспорта здоровья (ЭМК)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1285920" y="2857680"/>
            <a:ext cx="6981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1400" spc="-1" strike="noStrike">
                <a:solidFill>
                  <a:srgbClr val="6e71f0"/>
                </a:solidFill>
                <a:latin typeface="Arial"/>
                <a:ea typeface="Arial"/>
              </a:rPr>
              <a:t>Развитие ИКТ инфраструктуры системы здравоохранения, в т</a:t>
            </a:r>
            <a:r>
              <a:rPr b="1" lang="en-US" sz="1400" spc="-1" strike="noStrike">
                <a:solidFill>
                  <a:srgbClr val="6e71f0"/>
                </a:solidFill>
                <a:latin typeface="Arial"/>
                <a:ea typeface="Arial"/>
              </a:rPr>
              <a:t>.</a:t>
            </a:r>
            <a:r>
              <a:rPr b="1" lang="ru-RU" sz="1400" spc="-1" strike="noStrike">
                <a:solidFill>
                  <a:srgbClr val="6e71f0"/>
                </a:solidFill>
                <a:latin typeface="Arial"/>
                <a:ea typeface="Arial"/>
              </a:rPr>
              <a:t>ч</a:t>
            </a:r>
            <a:r>
              <a:rPr b="1" lang="en-US" sz="1400" spc="-1" strike="noStrike">
                <a:solidFill>
                  <a:srgbClr val="6e71f0"/>
                </a:solidFill>
                <a:latin typeface="Arial"/>
                <a:ea typeface="Arial"/>
              </a:rPr>
              <a:t>.</a:t>
            </a:r>
            <a:r>
              <a:rPr b="1" lang="ru-RU" sz="1400" spc="-1" strike="noStrike">
                <a:solidFill>
                  <a:srgbClr val="6e71f0"/>
                </a:solidFill>
                <a:latin typeface="Arial"/>
                <a:ea typeface="Arial"/>
              </a:rPr>
              <a:t> создание региональных центров обработки данных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7" name="Text Box 28"/>
          <p:cNvSpPr/>
          <p:nvPr/>
        </p:nvSpPr>
        <p:spPr>
          <a:xfrm>
            <a:off x="1357200" y="3857760"/>
            <a:ext cx="707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1" lang="ru-RU" sz="1400" spc="-1" strike="noStrike">
                <a:solidFill>
                  <a:srgbClr val="6e71f0"/>
                </a:solidFill>
                <a:latin typeface="Arial"/>
                <a:ea typeface="Arial"/>
              </a:rPr>
              <a:t>Организация электронного обмена медицинскими данными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1285920" y="4714920"/>
            <a:ext cx="705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1400" spc="-1" strike="noStrike">
                <a:solidFill>
                  <a:srgbClr val="6e71f0"/>
                </a:solidFill>
                <a:latin typeface="Arial"/>
                <a:ea typeface="Arial"/>
              </a:rPr>
              <a:t>Создание национальных реестров, справочников и классификаторов, национальной электронной медицинской библиотеки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9" name="AutoShape 13"/>
          <p:cNvSpPr/>
          <p:nvPr/>
        </p:nvSpPr>
        <p:spPr>
          <a:xfrm>
            <a:off x="1000080" y="5500800"/>
            <a:ext cx="7500960" cy="89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dddd"/>
              </a:gs>
              <a:gs pos="50000">
                <a:srgbClr val="f2f2f2"/>
              </a:gs>
              <a:gs pos="100000">
                <a:srgbClr val="dddddd"/>
              </a:gs>
            </a:gsLst>
            <a:lin ang="27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0" name="AutoShape 21"/>
          <p:cNvSpPr/>
          <p:nvPr/>
        </p:nvSpPr>
        <p:spPr>
          <a:xfrm rot="5400000">
            <a:off x="762120" y="5699160"/>
            <a:ext cx="488880" cy="488880"/>
          </a:xfrm>
          <a:prstGeom prst="diamond">
            <a:avLst/>
          </a:prstGeom>
          <a:solidFill>
            <a:srgbClr val="969696"/>
          </a:solidFill>
          <a:ln w="19080">
            <a:solidFill>
              <a:srgbClr val="f8f8f8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1357200" y="5643720"/>
            <a:ext cx="6981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1400" spc="-1" strike="noStrike">
                <a:solidFill>
                  <a:srgbClr val="6e71f0"/>
                </a:solidFill>
                <a:latin typeface="Arial"/>
                <a:ea typeface="Arial"/>
              </a:rPr>
              <a:t>Интеграция всех государственных информационных систем в сфере здравоохранения, социального развития и труда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2" name="Rectangle 36"/>
          <p:cNvSpPr/>
          <p:nvPr/>
        </p:nvSpPr>
        <p:spPr>
          <a:xfrm>
            <a:off x="0" y="1285920"/>
            <a:ext cx="77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Направления работ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  <a:ea typeface="Arial"/>
              </a:rPr>
              <a:t>по информатизации, основные задачи: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3" name="Rectangle 38"/>
          <p:cNvSpPr/>
          <p:nvPr/>
        </p:nvSpPr>
        <p:spPr>
          <a:xfrm>
            <a:off x="285840" y="653400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d528d"/>
                </a:solidFill>
                <a:latin typeface="Arial"/>
              </a:rPr>
              <a:t>МЗСР </a:t>
            </a:r>
            <a:r>
              <a:rPr b="0" lang="en-US" sz="1000" spc="-1" strike="noStrike">
                <a:solidFill>
                  <a:srgbClr val="1d528d"/>
                </a:solidFill>
                <a:latin typeface="Arial"/>
              </a:rPr>
              <a:t>©</a:t>
            </a:r>
            <a:r>
              <a:rPr b="0" lang="ru-RU" sz="1000" spc="-1" strike="noStrike">
                <a:solidFill>
                  <a:srgbClr val="1d528d"/>
                </a:solidFill>
                <a:latin typeface="Arial"/>
              </a:rPr>
              <a:t>, О.В.Симаков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indefinite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2" descr="shutterstock_1_9382699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56437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00080" y="57132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жидаемые результаты информатизации здравоохранения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 РФ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Footer Placeholder 3"/>
          <p:cNvSpPr/>
          <p:nvPr/>
        </p:nvSpPr>
        <p:spPr>
          <a:xfrm>
            <a:off x="6100920" y="6537240"/>
            <a:ext cx="30430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7" name="Freeform 2"/>
          <p:cNvSpPr/>
          <p:nvPr/>
        </p:nvSpPr>
        <p:spPr>
          <a:xfrm>
            <a:off x="3960720" y="1244520"/>
            <a:ext cx="631800" cy="2914560"/>
          </a:xfrm>
          <a:custGeom>
            <a:avLst/>
            <a:gdLst>
              <a:gd name="textAreaLeft" fmla="*/ 0 w 631800"/>
              <a:gd name="textAreaRight" fmla="*/ 632160 w 631800"/>
              <a:gd name="textAreaTop" fmla="*/ 0 h 2914560"/>
              <a:gd name="textAreaBottom" fmla="*/ 2914920 h 2914560"/>
            </a:gdLst>
            <a:ahLst/>
            <a:rect l="textAreaLeft" t="textAreaTop" r="textAreaRight" b="textAreaBottom"/>
            <a:pathLst>
              <a:path w="398" h="1836">
                <a:moveTo>
                  <a:pt x="398" y="1834"/>
                </a:moveTo>
                <a:lnTo>
                  <a:pt x="398" y="1613"/>
                </a:lnTo>
                <a:lnTo>
                  <a:pt x="0" y="0"/>
                </a:lnTo>
                <a:lnTo>
                  <a:pt x="0" y="1665"/>
                </a:lnTo>
                <a:lnTo>
                  <a:pt x="396" y="1836"/>
                </a:lnTo>
                <a:lnTo>
                  <a:pt x="398" y="1834"/>
                </a:lnTo>
                <a:close/>
              </a:path>
            </a:pathLst>
          </a:custGeom>
          <a:gradFill rotWithShape="0">
            <a:gsLst>
              <a:gs pos="0">
                <a:srgbClr val="6e71f0"/>
              </a:gs>
              <a:gs pos="100000">
                <a:srgbClr val="dfedfd"/>
              </a:gs>
            </a:gsLst>
            <a:lin ang="2700000"/>
          </a:gradFill>
          <a:ln w="9360">
            <a:solidFill>
              <a:srgbClr val="6e71f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8" name="Freeform 3"/>
          <p:cNvSpPr/>
          <p:nvPr/>
        </p:nvSpPr>
        <p:spPr>
          <a:xfrm>
            <a:off x="4599000" y="1216080"/>
            <a:ext cx="608040" cy="2946240"/>
          </a:xfrm>
          <a:custGeom>
            <a:avLst/>
            <a:gdLst>
              <a:gd name="textAreaLeft" fmla="*/ 0 w 608040"/>
              <a:gd name="textAreaRight" fmla="*/ 608400 w 608040"/>
              <a:gd name="textAreaTop" fmla="*/ 0 h 2946240"/>
              <a:gd name="textAreaBottom" fmla="*/ 2946600 h 2946240"/>
            </a:gdLst>
            <a:ahLst/>
            <a:rect l="textAreaLeft" t="textAreaTop" r="textAreaRight" b="textAreaBottom"/>
            <a:pathLst>
              <a:path w="383" h="1856">
                <a:moveTo>
                  <a:pt x="3" y="1629"/>
                </a:moveTo>
                <a:lnTo>
                  <a:pt x="383" y="0"/>
                </a:lnTo>
                <a:lnTo>
                  <a:pt x="383" y="1681"/>
                </a:lnTo>
                <a:lnTo>
                  <a:pt x="0" y="1856"/>
                </a:lnTo>
                <a:lnTo>
                  <a:pt x="3" y="1629"/>
                </a:lnTo>
                <a:close/>
              </a:path>
            </a:pathLst>
          </a:custGeom>
          <a:gradFill rotWithShape="0">
            <a:gsLst>
              <a:gs pos="0">
                <a:srgbClr val="dfedfd"/>
              </a:gs>
              <a:gs pos="100000">
                <a:srgbClr val="6e71f0"/>
              </a:gs>
            </a:gsLst>
            <a:lin ang="18900000"/>
          </a:gradFill>
          <a:ln w="9360">
            <a:solidFill>
              <a:srgbClr val="6e71f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9" name="Freeform 4"/>
          <p:cNvSpPr/>
          <p:nvPr/>
        </p:nvSpPr>
        <p:spPr>
          <a:xfrm flipV="1">
            <a:off x="3960720" y="4153680"/>
            <a:ext cx="631800" cy="2374920"/>
          </a:xfrm>
          <a:custGeom>
            <a:avLst/>
            <a:gdLst>
              <a:gd name="textAreaLeft" fmla="*/ 0 w 631800"/>
              <a:gd name="textAreaRight" fmla="*/ 632160 w 631800"/>
              <a:gd name="textAreaTop" fmla="*/ -360 h 2374920"/>
              <a:gd name="textAreaBottom" fmla="*/ 2374920 h 2374920"/>
            </a:gdLst>
            <a:ahLst/>
            <a:rect l="textAreaLeft" t="textAreaTop" r="textAreaRight" b="textAreaBottom"/>
            <a:pathLst>
              <a:path w="728" h="1604">
                <a:moveTo>
                  <a:pt x="728" y="1604"/>
                </a:moveTo>
                <a:lnTo>
                  <a:pt x="728" y="1372"/>
                </a:lnTo>
                <a:lnTo>
                  <a:pt x="0" y="0"/>
                </a:lnTo>
                <a:lnTo>
                  <a:pt x="0" y="1416"/>
                </a:lnTo>
                <a:lnTo>
                  <a:pt x="728" y="1604"/>
                </a:lnTo>
              </a:path>
            </a:pathLst>
          </a:custGeom>
          <a:gradFill rotWithShape="0">
            <a:gsLst>
              <a:gs pos="0">
                <a:srgbClr val="6e71f0"/>
              </a:gs>
              <a:gs pos="100000">
                <a:srgbClr val="dfedfd"/>
              </a:gs>
            </a:gsLst>
            <a:lin ang="2700000"/>
          </a:gradFill>
          <a:ln w="9360">
            <a:solidFill>
              <a:srgbClr val="6e71f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0" name="Freeform 5"/>
          <p:cNvSpPr/>
          <p:nvPr/>
        </p:nvSpPr>
        <p:spPr>
          <a:xfrm flipH="1" flipV="1">
            <a:off x="4603680" y="4153680"/>
            <a:ext cx="603360" cy="2374920"/>
          </a:xfrm>
          <a:custGeom>
            <a:avLst/>
            <a:gdLst>
              <a:gd name="textAreaLeft" fmla="*/ 0 w 603360"/>
              <a:gd name="textAreaRight" fmla="*/ 603360 w 603360"/>
              <a:gd name="textAreaTop" fmla="*/ -360 h 2374920"/>
              <a:gd name="textAreaBottom" fmla="*/ 2374920 h 2374920"/>
            </a:gdLst>
            <a:ahLst/>
            <a:rect l="textAreaLeft" t="textAreaTop" r="textAreaRight" b="textAreaBottom"/>
            <a:pathLst>
              <a:path w="728" h="1604">
                <a:moveTo>
                  <a:pt x="728" y="1604"/>
                </a:moveTo>
                <a:lnTo>
                  <a:pt x="728" y="1372"/>
                </a:lnTo>
                <a:lnTo>
                  <a:pt x="0" y="0"/>
                </a:lnTo>
                <a:lnTo>
                  <a:pt x="0" y="1416"/>
                </a:lnTo>
                <a:lnTo>
                  <a:pt x="728" y="1604"/>
                </a:lnTo>
              </a:path>
            </a:pathLst>
          </a:custGeom>
          <a:gradFill rotWithShape="0">
            <a:gsLst>
              <a:gs pos="0">
                <a:srgbClr val="6e71f0"/>
              </a:gs>
              <a:gs pos="100000">
                <a:srgbClr val="dfedfd"/>
              </a:gs>
            </a:gsLst>
            <a:lin ang="2700000"/>
          </a:gradFill>
          <a:ln w="9360">
            <a:solidFill>
              <a:srgbClr val="6e71f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285840" y="1230480"/>
            <a:ext cx="3687840" cy="2655720"/>
          </a:xfrm>
          <a:prstGeom prst="rect">
            <a:avLst/>
          </a:prstGeom>
          <a:solidFill>
            <a:srgbClr val="e0e4f0"/>
          </a:solidFill>
          <a:ln w="12600">
            <a:solidFill>
              <a:srgbClr val="6e71f0"/>
            </a:solidFill>
            <a:miter/>
          </a:ln>
          <a:effectLst>
            <a:outerShdw dist="17819" dir="2700000" blurRad="0" rotWithShape="0">
              <a:srgbClr val="6e71f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2" name="Rectangle 8"/>
          <p:cNvSpPr/>
          <p:nvPr/>
        </p:nvSpPr>
        <p:spPr>
          <a:xfrm>
            <a:off x="285840" y="1214280"/>
            <a:ext cx="3687840" cy="403560"/>
          </a:xfrm>
          <a:prstGeom prst="rect">
            <a:avLst/>
          </a:prstGeom>
          <a:gradFill rotWithShape="0">
            <a:gsLst>
              <a:gs pos="0">
                <a:srgbClr val="6e71f0"/>
              </a:gs>
              <a:gs pos="50000">
                <a:srgbClr val="585bc1"/>
              </a:gs>
              <a:gs pos="100000">
                <a:srgbClr val="6e71f0"/>
              </a:gs>
            </a:gsLst>
            <a:lin ang="5400000"/>
          </a:gradFill>
          <a:ln w="12600">
            <a:solidFill>
              <a:srgbClr val="6e71f0"/>
            </a:solidFill>
            <a:miter/>
          </a:ln>
          <a:effectLst>
            <a:outerShdw dist="17819" dir="2700000" blurRad="0" rotWithShape="0">
              <a:srgbClr val="6e71f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dddddd"/>
                </a:solidFill>
                <a:latin typeface="Arial"/>
              </a:rPr>
              <a:t>Повышение качества услуг за счет 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3" name="Rectangle 9"/>
          <p:cNvSpPr/>
          <p:nvPr/>
        </p:nvSpPr>
        <p:spPr>
          <a:xfrm>
            <a:off x="363600" y="1643040"/>
            <a:ext cx="3552840" cy="20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увеличение времени на прием одного пациента;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повышения доступности медицинской информации и образовательных ресурсов для граждан;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уменьшения ошибок медицинского персонала, связанных с назначением лекарственных препаратов и выбором курса лечения (до 15%);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снижения временной нетрудоспособности граждан за счет снижения количества ошибок при постановке диагноза (до 20%);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снижения смертности на 5% и соответствующее увеличение средней продолжительности жизни населения 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5200560" y="1230480"/>
            <a:ext cx="3687840" cy="2655720"/>
          </a:xfrm>
          <a:prstGeom prst="rect">
            <a:avLst/>
          </a:prstGeom>
          <a:solidFill>
            <a:srgbClr val="e0e4f0"/>
          </a:solidFill>
          <a:ln w="12600">
            <a:solidFill>
              <a:srgbClr val="6e71f0"/>
            </a:solidFill>
            <a:miter/>
          </a:ln>
          <a:effectLst>
            <a:outerShdw dist="17819" dir="2700000" blurRad="0" rotWithShape="0">
              <a:srgbClr val="6e71f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Rectangle 11"/>
          <p:cNvSpPr/>
          <p:nvPr/>
        </p:nvSpPr>
        <p:spPr>
          <a:xfrm>
            <a:off x="5200560" y="1214280"/>
            <a:ext cx="3687840" cy="403560"/>
          </a:xfrm>
          <a:prstGeom prst="rect">
            <a:avLst/>
          </a:prstGeom>
          <a:gradFill rotWithShape="0">
            <a:gsLst>
              <a:gs pos="0">
                <a:srgbClr val="6e71f0"/>
              </a:gs>
              <a:gs pos="50000">
                <a:srgbClr val="585bc1"/>
              </a:gs>
              <a:gs pos="100000">
                <a:srgbClr val="6e71f0"/>
              </a:gs>
            </a:gsLst>
            <a:lin ang="5400000"/>
          </a:gradFill>
          <a:ln w="12600">
            <a:solidFill>
              <a:srgbClr val="6e71f0"/>
            </a:solidFill>
            <a:miter/>
          </a:ln>
          <a:effectLst>
            <a:outerShdw dist="17819" dir="2700000" blurRad="0" rotWithShape="0">
              <a:srgbClr val="6e71f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dddddd"/>
                </a:solidFill>
                <a:latin typeface="Arial"/>
              </a:rPr>
              <a:t>Снижение финансовых издержек за счет 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5278320" y="1643040"/>
            <a:ext cx="3552840" cy="21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количества дополнительно проводимых консультаций, обследований и анализов, назначаемых различными специалистами в отсутствие информации о ранее проведенных процедурах (до 14%);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перерасхода медицинских расходных материалов и лекарственных препаратов (до 11%);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количества повторных госпитализаций после лечения (до 20%), 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количества посещений пациентами медицинских учреждений (до 5%);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количества некорректных финансовых операций в  системе медицинского страхования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Rectangle 13"/>
          <p:cNvSpPr/>
          <p:nvPr/>
        </p:nvSpPr>
        <p:spPr>
          <a:xfrm>
            <a:off x="285840" y="4443480"/>
            <a:ext cx="3687840" cy="2046240"/>
          </a:xfrm>
          <a:prstGeom prst="rect">
            <a:avLst/>
          </a:prstGeom>
          <a:solidFill>
            <a:srgbClr val="e0e4f0"/>
          </a:solidFill>
          <a:ln w="12600">
            <a:solidFill>
              <a:srgbClr val="6e71f0"/>
            </a:solidFill>
            <a:miter/>
          </a:ln>
          <a:effectLst>
            <a:outerShdw dist="17819" dir="2700000" blurRad="0" rotWithShape="0">
              <a:srgbClr val="6e71f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8" name="Rectangle 14"/>
          <p:cNvSpPr/>
          <p:nvPr/>
        </p:nvSpPr>
        <p:spPr>
          <a:xfrm>
            <a:off x="285840" y="4427640"/>
            <a:ext cx="3687840" cy="403200"/>
          </a:xfrm>
          <a:prstGeom prst="rect">
            <a:avLst/>
          </a:prstGeom>
          <a:gradFill rotWithShape="0">
            <a:gsLst>
              <a:gs pos="0">
                <a:srgbClr val="6e71f0"/>
              </a:gs>
              <a:gs pos="50000">
                <a:srgbClr val="585bc1"/>
              </a:gs>
              <a:gs pos="100000">
                <a:srgbClr val="6e71f0"/>
              </a:gs>
            </a:gsLst>
            <a:lin ang="5400000"/>
          </a:gradFill>
          <a:ln w="12600">
            <a:solidFill>
              <a:srgbClr val="6e71f0"/>
            </a:solidFill>
            <a:miter/>
          </a:ln>
          <a:effectLst>
            <a:outerShdw dist="17819" dir="2700000" blurRad="0" rotWithShape="0">
              <a:srgbClr val="6e71f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dddddd"/>
                </a:solidFill>
                <a:latin typeface="Arial"/>
              </a:rPr>
              <a:t>Сокращение временных издержек за счет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9" name="Rectangle 15"/>
          <p:cNvSpPr/>
          <p:nvPr/>
        </p:nvSpPr>
        <p:spPr>
          <a:xfrm>
            <a:off x="363600" y="4856040"/>
            <a:ext cx="3552840" cy="15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автоматизации поиска необходимой информации (до 60%);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автоматизации ведения текущей документации </a:t>
            </a:r>
            <a:br>
              <a:rPr sz="1100"/>
            </a:b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(до 20%);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повышения оперативности проведения консультаций, собрания анамнеза и постановки диагноза (до 25%), 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0" name="Rectangle 16"/>
          <p:cNvSpPr/>
          <p:nvPr/>
        </p:nvSpPr>
        <p:spPr>
          <a:xfrm>
            <a:off x="5200560" y="4443480"/>
            <a:ext cx="3687840" cy="2046240"/>
          </a:xfrm>
          <a:prstGeom prst="rect">
            <a:avLst/>
          </a:prstGeom>
          <a:solidFill>
            <a:srgbClr val="e0e4f0"/>
          </a:solidFill>
          <a:ln w="12600">
            <a:solidFill>
              <a:srgbClr val="6e71f0"/>
            </a:solidFill>
            <a:miter/>
          </a:ln>
          <a:effectLst>
            <a:outerShdw dist="17819" dir="2700000" blurRad="0" rotWithShape="0">
              <a:srgbClr val="6e71f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1" name="Rectangle 17"/>
          <p:cNvSpPr/>
          <p:nvPr/>
        </p:nvSpPr>
        <p:spPr>
          <a:xfrm>
            <a:off x="5200560" y="4427640"/>
            <a:ext cx="3687840" cy="403200"/>
          </a:xfrm>
          <a:prstGeom prst="rect">
            <a:avLst/>
          </a:prstGeom>
          <a:gradFill rotWithShape="0">
            <a:gsLst>
              <a:gs pos="0">
                <a:srgbClr val="6e71f0"/>
              </a:gs>
              <a:gs pos="50000">
                <a:srgbClr val="585bc1"/>
              </a:gs>
              <a:gs pos="100000">
                <a:srgbClr val="6e71f0"/>
              </a:gs>
            </a:gsLst>
            <a:lin ang="5400000"/>
          </a:gradFill>
          <a:ln w="12600">
            <a:solidFill>
              <a:srgbClr val="6e71f0"/>
            </a:solidFill>
            <a:miter/>
          </a:ln>
          <a:effectLst>
            <a:outerShdw dist="17819" dir="2700000" blurRad="0" rotWithShape="0">
              <a:srgbClr val="6e71f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dddddd"/>
                </a:solidFill>
                <a:latin typeface="Arial"/>
              </a:rPr>
              <a:t>Сокращение трудозатрат медицинского персонала за счет автоматизации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2" name="Rectangle 18"/>
          <p:cNvSpPr/>
          <p:nvPr/>
        </p:nvSpPr>
        <p:spPr>
          <a:xfrm>
            <a:off x="5278320" y="4856040"/>
            <a:ext cx="3552840" cy="15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поиска и обработки справочной и документальной информации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доступа  к персональной медицинской информации о пациенте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подготовке документов (отчетов, заключений, рецептов и т.д.)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  <a:p>
            <a:pPr lvl="1" marL="114480" indent="-113040">
              <a:buClr>
                <a:srgbClr val="1d528d"/>
              </a:buClr>
              <a:buSzPct val="120000"/>
              <a:buFont typeface="Arial"/>
              <a:buChar char="•"/>
              <a:tabLst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0" lang="ru-RU" sz="1100" spc="-1" strike="noStrike">
                <a:solidFill>
                  <a:srgbClr val="1d528d"/>
                </a:solidFill>
                <a:latin typeface="Arial"/>
                <a:ea typeface="Arial"/>
              </a:rPr>
              <a:t>доступа врачей к информации по новейшим методам лечения и новинкам в области лекарственных препаратов</a:t>
            </a:r>
            <a:endParaRPr b="0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73" name="Picture 13" descr="C:\DATA\Мои документы\Мои рисунки\293551133787556.jpg"/>
          <p:cNvPicPr/>
          <p:nvPr/>
        </p:nvPicPr>
        <p:blipFill>
          <a:blip r:embed="rId2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24"/>
          <p:cNvSpPr/>
          <p:nvPr/>
        </p:nvSpPr>
        <p:spPr>
          <a:xfrm>
            <a:off x="285840" y="653400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d528d"/>
                </a:solidFill>
                <a:latin typeface="Arial"/>
              </a:rPr>
              <a:t>МЗСР </a:t>
            </a:r>
            <a:r>
              <a:rPr b="0" lang="en-US" sz="1000" spc="-1" strike="noStrike">
                <a:solidFill>
                  <a:srgbClr val="1d528d"/>
                </a:solidFill>
                <a:latin typeface="Arial"/>
              </a:rPr>
              <a:t>©</a:t>
            </a:r>
            <a:r>
              <a:rPr b="0" lang="ru-RU" sz="1000" spc="-1" strike="noStrike">
                <a:solidFill>
                  <a:srgbClr val="1d528d"/>
                </a:solidFill>
                <a:latin typeface="Arial"/>
              </a:rPr>
              <a:t>, О.В.Симаков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indefinit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92" descr="shutterstock_1_9382699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56437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71360" y="571320"/>
            <a:ext cx="8072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Инфраструктура предлагаемых решений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на 2009–2011 гг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1598760" y="1203480"/>
            <a:ext cx="7278480" cy="5373360"/>
          </a:xfrm>
          <a:prstGeom prst="rect">
            <a:avLst/>
          </a:prstGeom>
          <a:gradFill rotWithShape="0">
            <a:gsLst>
              <a:gs pos="0">
                <a:srgbClr val="fbdbc1"/>
              </a:gs>
              <a:gs pos="100000">
                <a:srgbClr val="feefe2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5bace9"/>
            </a:solidFill>
            <a:miter/>
          </a:ln>
          <a:effectLst>
            <a:outerShdw dist="17819" dir="2700000" blurRad="0" rotWithShape="0">
              <a:srgbClr val="5bace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8" name="Rectangle 142"/>
          <p:cNvSpPr/>
          <p:nvPr/>
        </p:nvSpPr>
        <p:spPr>
          <a:xfrm>
            <a:off x="3492360" y="1835280"/>
            <a:ext cx="2522520" cy="520560"/>
          </a:xfrm>
          <a:prstGeom prst="rect">
            <a:avLst/>
          </a:prstGeom>
          <a:gradFill rotWithShape="0">
            <a:gsLst>
              <a:gs pos="0">
                <a:srgbClr val="feefe2"/>
              </a:gs>
              <a:gs pos="50000">
                <a:srgbClr val="5bace9"/>
              </a:gs>
              <a:gs pos="100000">
                <a:srgbClr val="feef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9" name="Rectangle 141"/>
          <p:cNvSpPr/>
          <p:nvPr/>
        </p:nvSpPr>
        <p:spPr>
          <a:xfrm>
            <a:off x="2230560" y="3727440"/>
            <a:ext cx="4599000" cy="520560"/>
          </a:xfrm>
          <a:prstGeom prst="rect">
            <a:avLst/>
          </a:prstGeom>
          <a:gradFill rotWithShape="0">
            <a:gsLst>
              <a:gs pos="0">
                <a:srgbClr val="feefe2"/>
              </a:gs>
              <a:gs pos="50000">
                <a:srgbClr val="5bace9"/>
              </a:gs>
              <a:gs pos="100000">
                <a:srgbClr val="feef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0" name="Rectangle 140"/>
          <p:cNvSpPr/>
          <p:nvPr/>
        </p:nvSpPr>
        <p:spPr>
          <a:xfrm>
            <a:off x="2230560" y="5668920"/>
            <a:ext cx="4856040" cy="520920"/>
          </a:xfrm>
          <a:prstGeom prst="rect">
            <a:avLst/>
          </a:prstGeom>
          <a:gradFill rotWithShape="0">
            <a:gsLst>
              <a:gs pos="0">
                <a:srgbClr val="feefe2"/>
              </a:gs>
              <a:gs pos="50000">
                <a:srgbClr val="5bace9"/>
              </a:gs>
              <a:gs pos="100000">
                <a:srgbClr val="feef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1" name="AutoShape 114"/>
          <p:cNvSpPr/>
          <p:nvPr/>
        </p:nvSpPr>
        <p:spPr>
          <a:xfrm>
            <a:off x="3895560" y="1677960"/>
            <a:ext cx="1981440" cy="776160"/>
          </a:xfrm>
          <a:prstGeom prst="roundRect">
            <a:avLst>
              <a:gd name="adj" fmla="val 6310"/>
            </a:avLst>
          </a:prstGeom>
          <a:gradFill rotWithShape="0">
            <a:gsLst>
              <a:gs pos="0">
                <a:srgbClr val="eff1f7"/>
              </a:gs>
              <a:gs pos="100000">
                <a:srgbClr val="e0e4f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6e71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2" name="Rectangle 115"/>
          <p:cNvSpPr/>
          <p:nvPr/>
        </p:nvSpPr>
        <p:spPr>
          <a:xfrm>
            <a:off x="5286240" y="1679400"/>
            <a:ext cx="541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Резервный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1714680" y="1285920"/>
            <a:ext cx="56131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Государственная информационная система персонифицированного учета оказания медицинской помощи гражданам РФ (Система)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84" name="Group 90"/>
          <p:cNvGrpSpPr/>
          <p:nvPr/>
        </p:nvGrpSpPr>
        <p:grpSpPr>
          <a:xfrm>
            <a:off x="3976560" y="4600440"/>
            <a:ext cx="1133280" cy="476280"/>
            <a:chOff x="3976560" y="4600440"/>
            <a:chExt cx="1133280" cy="476280"/>
          </a:xfrm>
        </p:grpSpPr>
        <p:sp>
          <p:nvSpPr>
            <p:cNvPr id="185" name="Cloud"/>
            <p:cNvSpPr/>
            <p:nvPr/>
          </p:nvSpPr>
          <p:spPr>
            <a:xfrm>
              <a:off x="3976560" y="4600440"/>
              <a:ext cx="1133280" cy="476280"/>
            </a:xfrm>
            <a:custGeom>
              <a:avLst/>
              <a:gdLst>
                <a:gd name="textAreaLeft" fmla="*/ 155520 w 1133280"/>
                <a:gd name="textAreaRight" fmla="*/ 896760 w 1133280"/>
                <a:gd name="textAreaTop" fmla="*/ 71640 h 476280"/>
                <a:gd name="textAreaBottom" fmla="*/ 382680 h 47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solidFill>
              <a:srgbClr val="ecf5fe"/>
            </a:solidFill>
            <a:ln w="19080">
              <a:solidFill>
                <a:srgbClr val="86bb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6" name="Rectangle 25"/>
            <p:cNvSpPr/>
            <p:nvPr/>
          </p:nvSpPr>
          <p:spPr>
            <a:xfrm>
              <a:off x="4235040" y="4771440"/>
              <a:ext cx="617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ru-RU" sz="800" spc="-1" strike="noStrike">
                  <a:solidFill>
                    <a:srgbClr val="1d528d"/>
                  </a:solidFill>
                  <a:latin typeface="Arial"/>
                  <a:ea typeface="Arial"/>
                </a:rPr>
                <a:t>Интернет 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87" name="Rectangle 29"/>
          <p:cNvSpPr/>
          <p:nvPr/>
        </p:nvSpPr>
        <p:spPr>
          <a:xfrm>
            <a:off x="7873920" y="1320840"/>
            <a:ext cx="922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Защищенные каналы связи (интранет)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8" name="Line 30"/>
          <p:cNvSpPr/>
          <p:nvPr/>
        </p:nvSpPr>
        <p:spPr>
          <a:xfrm>
            <a:off x="7539120" y="1397160"/>
            <a:ext cx="231840" cy="0"/>
          </a:xfrm>
          <a:prstGeom prst="line">
            <a:avLst/>
          </a:prstGeom>
          <a:ln w="12600">
            <a:solidFill>
              <a:srgbClr val="6e71f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9" name="Rectangle 31"/>
          <p:cNvSpPr/>
          <p:nvPr/>
        </p:nvSpPr>
        <p:spPr>
          <a:xfrm>
            <a:off x="7873920" y="1876320"/>
            <a:ext cx="922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Крипто- маршрутизаторы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0" name="Rectangle 36"/>
          <p:cNvSpPr/>
          <p:nvPr/>
        </p:nvSpPr>
        <p:spPr>
          <a:xfrm>
            <a:off x="7873920" y="2200320"/>
            <a:ext cx="82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Сертификация ФСБ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1" name="AutoShape 37"/>
          <p:cNvSpPr/>
          <p:nvPr/>
        </p:nvSpPr>
        <p:spPr>
          <a:xfrm>
            <a:off x="2120760" y="3649680"/>
            <a:ext cx="1981440" cy="650880"/>
          </a:xfrm>
          <a:prstGeom prst="roundRect">
            <a:avLst>
              <a:gd name="adj" fmla="val 6310"/>
            </a:avLst>
          </a:prstGeom>
          <a:gradFill rotWithShape="0">
            <a:gsLst>
              <a:gs pos="0">
                <a:srgbClr val="eff1f7"/>
              </a:gs>
              <a:gs pos="100000">
                <a:srgbClr val="e0e4f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6e71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2" name="Rectangle 38"/>
          <p:cNvSpPr/>
          <p:nvPr/>
        </p:nvSpPr>
        <p:spPr>
          <a:xfrm>
            <a:off x="2181240" y="3708360"/>
            <a:ext cx="11192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ьный центр обработки </a:t>
            </a:r>
            <a:br>
              <a:rPr sz="800"/>
            </a:br>
            <a:r>
              <a:rPr b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и анализа данных (РЦОД)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93" name="Picture 19" descr="database"/>
          <p:cNvPicPr/>
          <p:nvPr/>
        </p:nvPicPr>
        <p:blipFill>
          <a:blip r:embed="rId2"/>
          <a:stretch/>
        </p:blipFill>
        <p:spPr>
          <a:xfrm>
            <a:off x="3281400" y="3805200"/>
            <a:ext cx="509400" cy="474840"/>
          </a:xfrm>
          <a:prstGeom prst="rect">
            <a:avLst/>
          </a:prstGeom>
          <a:ln w="0">
            <a:noFill/>
          </a:ln>
        </p:spPr>
      </p:pic>
      <p:grpSp>
        <p:nvGrpSpPr>
          <p:cNvPr id="194" name="Group 83"/>
          <p:cNvGrpSpPr/>
          <p:nvPr/>
        </p:nvGrpSpPr>
        <p:grpSpPr>
          <a:xfrm>
            <a:off x="1768320" y="5407200"/>
            <a:ext cx="1214280" cy="1109520"/>
            <a:chOff x="1768320" y="5407200"/>
            <a:chExt cx="1214280" cy="1109520"/>
          </a:xfrm>
        </p:grpSpPr>
        <p:sp>
          <p:nvSpPr>
            <p:cNvPr id="195" name="AutoShape 41"/>
            <p:cNvSpPr/>
            <p:nvPr/>
          </p:nvSpPr>
          <p:spPr>
            <a:xfrm>
              <a:off x="1768320" y="5407200"/>
              <a:ext cx="1214280" cy="1109520"/>
            </a:xfrm>
            <a:prstGeom prst="roundRect">
              <a:avLst>
                <a:gd name="adj" fmla="val 6310"/>
              </a:avLst>
            </a:prstGeom>
            <a:gradFill rotWithShape="0">
              <a:gsLst>
                <a:gs pos="0">
                  <a:srgbClr val="eff1f7"/>
                </a:gs>
                <a:gs pos="100000">
                  <a:srgbClr val="e0e4f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6e71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6" name="Rectangle 8"/>
            <p:cNvSpPr/>
            <p:nvPr/>
          </p:nvSpPr>
          <p:spPr>
            <a:xfrm>
              <a:off x="1823760" y="5438880"/>
              <a:ext cx="111780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иповой ПТК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иповая форма учета оказания мед. помощи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197" name="Picture 11" descr="note_book"/>
            <p:cNvPicPr/>
            <p:nvPr/>
          </p:nvPicPr>
          <p:blipFill>
            <a:blip r:embed="rId3"/>
            <a:stretch/>
          </p:blipFill>
          <p:spPr>
            <a:xfrm>
              <a:off x="2390400" y="5970600"/>
              <a:ext cx="498600" cy="4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12" descr="template"/>
            <p:cNvPicPr/>
            <p:nvPr/>
          </p:nvPicPr>
          <p:blipFill>
            <a:blip r:embed="rId4"/>
            <a:stretch/>
          </p:blipFill>
          <p:spPr>
            <a:xfrm>
              <a:off x="1944360" y="5991480"/>
              <a:ext cx="399960" cy="488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9" name="AutoShape 60"/>
          <p:cNvSpPr/>
          <p:nvPr/>
        </p:nvSpPr>
        <p:spPr>
          <a:xfrm>
            <a:off x="5079960" y="3649680"/>
            <a:ext cx="1981080" cy="650880"/>
          </a:xfrm>
          <a:prstGeom prst="roundRect">
            <a:avLst>
              <a:gd name="adj" fmla="val 6310"/>
            </a:avLst>
          </a:prstGeom>
          <a:gradFill rotWithShape="0">
            <a:gsLst>
              <a:gs pos="0">
                <a:srgbClr val="eff1f7"/>
              </a:gs>
              <a:gs pos="100000">
                <a:srgbClr val="e0e4f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6e71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0" name="Rectangle 61"/>
          <p:cNvSpPr/>
          <p:nvPr/>
        </p:nvSpPr>
        <p:spPr>
          <a:xfrm flipH="1">
            <a:off x="5458680" y="3708360"/>
            <a:ext cx="10126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ьный центр обработки и анализа данных (РЦОД)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01" name="Picture 62" descr="database"/>
          <p:cNvPicPr/>
          <p:nvPr/>
        </p:nvPicPr>
        <p:blipFill>
          <a:blip r:embed="rId5"/>
          <a:stretch/>
        </p:blipFill>
        <p:spPr>
          <a:xfrm>
            <a:off x="6532560" y="3805200"/>
            <a:ext cx="509760" cy="474840"/>
          </a:xfrm>
          <a:prstGeom prst="rect">
            <a:avLst/>
          </a:prstGeom>
          <a:ln w="0">
            <a:noFill/>
          </a:ln>
        </p:spPr>
      </p:pic>
      <p:grpSp>
        <p:nvGrpSpPr>
          <p:cNvPr id="202" name="Group 84"/>
          <p:cNvGrpSpPr/>
          <p:nvPr/>
        </p:nvGrpSpPr>
        <p:grpSpPr>
          <a:xfrm>
            <a:off x="3149640" y="5407200"/>
            <a:ext cx="1214280" cy="1109520"/>
            <a:chOff x="3149640" y="5407200"/>
            <a:chExt cx="1214280" cy="1109520"/>
          </a:xfrm>
        </p:grpSpPr>
        <p:sp>
          <p:nvSpPr>
            <p:cNvPr id="203" name="AutoShape 65"/>
            <p:cNvSpPr/>
            <p:nvPr/>
          </p:nvSpPr>
          <p:spPr>
            <a:xfrm>
              <a:off x="3149640" y="5407200"/>
              <a:ext cx="1214280" cy="1109520"/>
            </a:xfrm>
            <a:prstGeom prst="roundRect">
              <a:avLst>
                <a:gd name="adj" fmla="val 6310"/>
              </a:avLst>
            </a:prstGeom>
            <a:gradFill rotWithShape="0">
              <a:gsLst>
                <a:gs pos="0">
                  <a:srgbClr val="eff1f7"/>
                </a:gs>
                <a:gs pos="100000">
                  <a:srgbClr val="e0e4f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6e71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4" name="Rectangle 66"/>
            <p:cNvSpPr/>
            <p:nvPr/>
          </p:nvSpPr>
          <p:spPr>
            <a:xfrm>
              <a:off x="3205080" y="5438880"/>
              <a:ext cx="111780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иповой ПТК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иповая форма учета оказания мед. помощи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205" name="Picture 67" descr="note_book"/>
            <p:cNvPicPr/>
            <p:nvPr/>
          </p:nvPicPr>
          <p:blipFill>
            <a:blip r:embed="rId6"/>
            <a:stretch/>
          </p:blipFill>
          <p:spPr>
            <a:xfrm>
              <a:off x="3772080" y="5970600"/>
              <a:ext cx="498240" cy="4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68" descr="template"/>
            <p:cNvPicPr/>
            <p:nvPr/>
          </p:nvPicPr>
          <p:blipFill>
            <a:blip r:embed="rId7"/>
            <a:stretch/>
          </p:blipFill>
          <p:spPr>
            <a:xfrm>
              <a:off x="3326040" y="5991480"/>
              <a:ext cx="399960" cy="488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7" name="Group 85"/>
          <p:cNvGrpSpPr/>
          <p:nvPr/>
        </p:nvGrpSpPr>
        <p:grpSpPr>
          <a:xfrm>
            <a:off x="4651200" y="5407200"/>
            <a:ext cx="1214280" cy="1109520"/>
            <a:chOff x="4651200" y="5407200"/>
            <a:chExt cx="1214280" cy="1109520"/>
          </a:xfrm>
        </p:grpSpPr>
        <p:sp>
          <p:nvSpPr>
            <p:cNvPr id="208" name="AutoShape 70"/>
            <p:cNvSpPr/>
            <p:nvPr/>
          </p:nvSpPr>
          <p:spPr>
            <a:xfrm>
              <a:off x="4651200" y="5407200"/>
              <a:ext cx="1214280" cy="1109520"/>
            </a:xfrm>
            <a:prstGeom prst="roundRect">
              <a:avLst>
                <a:gd name="adj" fmla="val 6310"/>
              </a:avLst>
            </a:prstGeom>
            <a:gradFill rotWithShape="0">
              <a:gsLst>
                <a:gs pos="0">
                  <a:srgbClr val="eff1f7"/>
                </a:gs>
                <a:gs pos="100000">
                  <a:srgbClr val="e0e4f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6e71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9" name="Rectangle 71"/>
            <p:cNvSpPr/>
            <p:nvPr/>
          </p:nvSpPr>
          <p:spPr>
            <a:xfrm>
              <a:off x="4706640" y="5438880"/>
              <a:ext cx="111780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иповой ПТК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иповая форма учета оказания мед. помощи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210" name="Picture 72" descr="note_book"/>
            <p:cNvPicPr/>
            <p:nvPr/>
          </p:nvPicPr>
          <p:blipFill>
            <a:blip r:embed="rId8"/>
            <a:stretch/>
          </p:blipFill>
          <p:spPr>
            <a:xfrm>
              <a:off x="5273280" y="5970600"/>
              <a:ext cx="498600" cy="4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73" descr="template"/>
            <p:cNvPicPr/>
            <p:nvPr/>
          </p:nvPicPr>
          <p:blipFill>
            <a:blip r:embed="rId9"/>
            <a:stretch/>
          </p:blipFill>
          <p:spPr>
            <a:xfrm>
              <a:off x="4827240" y="5991480"/>
              <a:ext cx="400320" cy="488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2" name="Group 86"/>
          <p:cNvGrpSpPr/>
          <p:nvPr/>
        </p:nvGrpSpPr>
        <p:grpSpPr>
          <a:xfrm>
            <a:off x="6033960" y="5407200"/>
            <a:ext cx="1214280" cy="1109520"/>
            <a:chOff x="6033960" y="5407200"/>
            <a:chExt cx="1214280" cy="1109520"/>
          </a:xfrm>
        </p:grpSpPr>
        <p:sp>
          <p:nvSpPr>
            <p:cNvPr id="213" name="AutoShape 75"/>
            <p:cNvSpPr/>
            <p:nvPr/>
          </p:nvSpPr>
          <p:spPr>
            <a:xfrm>
              <a:off x="6033960" y="5407200"/>
              <a:ext cx="1214280" cy="1109520"/>
            </a:xfrm>
            <a:prstGeom prst="roundRect">
              <a:avLst>
                <a:gd name="adj" fmla="val 6310"/>
              </a:avLst>
            </a:prstGeom>
            <a:gradFill rotWithShape="0">
              <a:gsLst>
                <a:gs pos="0">
                  <a:srgbClr val="eff1f7"/>
                </a:gs>
                <a:gs pos="100000">
                  <a:srgbClr val="e0e4f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6e71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76"/>
            <p:cNvSpPr/>
            <p:nvPr/>
          </p:nvSpPr>
          <p:spPr>
            <a:xfrm>
              <a:off x="6089400" y="5438880"/>
              <a:ext cx="11174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иповой ПТК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иповая форма учета оказания мед. помощи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215" name="Picture 77" descr="note_book"/>
            <p:cNvPicPr/>
            <p:nvPr/>
          </p:nvPicPr>
          <p:blipFill>
            <a:blip r:embed="rId10"/>
            <a:stretch/>
          </p:blipFill>
          <p:spPr>
            <a:xfrm>
              <a:off x="6656040" y="5970600"/>
              <a:ext cx="498600" cy="4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Picture 78" descr="template"/>
            <p:cNvPicPr/>
            <p:nvPr/>
          </p:nvPicPr>
          <p:blipFill>
            <a:blip r:embed="rId11"/>
            <a:stretch/>
          </p:blipFill>
          <p:spPr>
            <a:xfrm>
              <a:off x="6210000" y="5991480"/>
              <a:ext cx="399960" cy="488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7" name="Group 89"/>
          <p:cNvGrpSpPr/>
          <p:nvPr/>
        </p:nvGrpSpPr>
        <p:grpSpPr>
          <a:xfrm>
            <a:off x="3976560" y="2830680"/>
            <a:ext cx="1133280" cy="475920"/>
            <a:chOff x="3976560" y="2830680"/>
            <a:chExt cx="1133280" cy="475920"/>
          </a:xfrm>
        </p:grpSpPr>
        <p:sp>
          <p:nvSpPr>
            <p:cNvPr id="218" name="Cloud"/>
            <p:cNvSpPr/>
            <p:nvPr/>
          </p:nvSpPr>
          <p:spPr>
            <a:xfrm>
              <a:off x="3976560" y="2830680"/>
              <a:ext cx="1133280" cy="475920"/>
            </a:xfrm>
            <a:custGeom>
              <a:avLst/>
              <a:gdLst>
                <a:gd name="textAreaLeft" fmla="*/ 155520 w 1133280"/>
                <a:gd name="textAreaRight" fmla="*/ 896760 w 1133280"/>
                <a:gd name="textAreaTop" fmla="*/ 71640 h 475920"/>
                <a:gd name="textAreaBottom" fmla="*/ 382320 h 475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solidFill>
              <a:srgbClr val="ecf5fe"/>
            </a:solidFill>
            <a:ln w="19080">
              <a:solidFill>
                <a:srgbClr val="86bb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Rectangle 88"/>
            <p:cNvSpPr/>
            <p:nvPr/>
          </p:nvSpPr>
          <p:spPr>
            <a:xfrm>
              <a:off x="4235040" y="3001680"/>
              <a:ext cx="617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ru-RU" sz="800" spc="-1" strike="noStrike">
                  <a:solidFill>
                    <a:srgbClr val="1d528d"/>
                  </a:solidFill>
                  <a:latin typeface="Arial"/>
                  <a:ea typeface="Arial"/>
                </a:rPr>
                <a:t>Интернет 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cxnSp>
        <p:nvCxnSpPr>
          <p:cNvPr id="220" name="AutoShape 92"/>
          <p:cNvCxnSpPr/>
          <p:nvPr/>
        </p:nvCxnSpPr>
        <p:spPr>
          <a:xfrm flipH="1">
            <a:off x="4542840" y="2668680"/>
            <a:ext cx="1080" cy="180000"/>
          </a:xfrm>
          <a:prstGeom prst="straightConnector1">
            <a:avLst/>
          </a:prstGeom>
          <a:ln w="12600">
            <a:solidFill>
              <a:srgbClr val="6e71f0"/>
            </a:solidFill>
            <a:miter/>
            <a:headEnd len="med" type="triangle" w="sm"/>
            <a:tailEnd len="med" type="triangle" w="sm"/>
          </a:ln>
        </p:spPr>
      </p:cxnSp>
      <p:cxnSp>
        <p:nvCxnSpPr>
          <p:cNvPr id="221" name="AutoShape 93"/>
          <p:cNvCxnSpPr/>
          <p:nvPr/>
        </p:nvCxnSpPr>
        <p:spPr>
          <a:xfrm flipH="1" flipV="1" rot="5400000">
            <a:off x="4072680" y="3089520"/>
            <a:ext cx="244800" cy="697680"/>
          </a:xfrm>
          <a:prstGeom prst="bentConnector3">
            <a:avLst>
              <a:gd name="adj1" fmla="val 51988"/>
            </a:avLst>
          </a:prstGeom>
          <a:ln w="12600">
            <a:solidFill>
              <a:srgbClr val="6e71f0"/>
            </a:solidFill>
            <a:miter/>
            <a:headEnd len="med" type="triangle" w="sm"/>
            <a:tailEnd len="med" type="triangle" w="sm"/>
          </a:ln>
        </p:spPr>
      </p:cxnSp>
      <p:pic>
        <p:nvPicPr>
          <p:cNvPr id="222" name="Picture 94" descr="firewall"/>
          <p:cNvPicPr/>
          <p:nvPr/>
        </p:nvPicPr>
        <p:blipFill>
          <a:blip r:embed="rId12"/>
          <a:stretch/>
        </p:blipFill>
        <p:spPr>
          <a:xfrm>
            <a:off x="3728880" y="3560760"/>
            <a:ext cx="235080" cy="2570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97" descr="firewall"/>
          <p:cNvPicPr/>
          <p:nvPr/>
        </p:nvPicPr>
        <p:blipFill>
          <a:blip r:embed="rId13"/>
          <a:stretch/>
        </p:blipFill>
        <p:spPr>
          <a:xfrm>
            <a:off x="5210280" y="3560760"/>
            <a:ext cx="234720" cy="257040"/>
          </a:xfrm>
          <a:prstGeom prst="rect">
            <a:avLst/>
          </a:prstGeom>
          <a:ln w="0">
            <a:noFill/>
          </a:ln>
        </p:spPr>
      </p:pic>
      <p:cxnSp>
        <p:nvCxnSpPr>
          <p:cNvPr id="224" name="AutoShape 98"/>
          <p:cNvCxnSpPr/>
          <p:nvPr/>
        </p:nvCxnSpPr>
        <p:spPr>
          <a:xfrm flipH="1" rot="16200000">
            <a:off x="4813560" y="3045600"/>
            <a:ext cx="244800" cy="784800"/>
          </a:xfrm>
          <a:prstGeom prst="bentConnector3">
            <a:avLst>
              <a:gd name="adj1" fmla="val 48011"/>
            </a:avLst>
          </a:prstGeom>
          <a:ln w="12600">
            <a:solidFill>
              <a:srgbClr val="6e71f0"/>
            </a:solidFill>
            <a:miter/>
            <a:headEnd len="med" type="triangle" w="sm"/>
            <a:tailEnd len="med" type="triangle" w="sm"/>
          </a:ln>
        </p:spPr>
      </p:cxnSp>
      <p:pic>
        <p:nvPicPr>
          <p:cNvPr id="225" name="Picture 99" descr="firewall"/>
          <p:cNvPicPr/>
          <p:nvPr/>
        </p:nvPicPr>
        <p:blipFill>
          <a:blip r:embed="rId14"/>
          <a:stretch/>
        </p:blipFill>
        <p:spPr>
          <a:xfrm>
            <a:off x="2676600" y="5295960"/>
            <a:ext cx="234720" cy="2570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0" descr="firewall"/>
          <p:cNvPicPr/>
          <p:nvPr/>
        </p:nvPicPr>
        <p:blipFill>
          <a:blip r:embed="rId15"/>
          <a:stretch/>
        </p:blipFill>
        <p:spPr>
          <a:xfrm>
            <a:off x="4064040" y="5295960"/>
            <a:ext cx="235080" cy="2570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01" descr="firewall"/>
          <p:cNvPicPr/>
          <p:nvPr/>
        </p:nvPicPr>
        <p:blipFill>
          <a:blip r:embed="rId16"/>
          <a:stretch/>
        </p:blipFill>
        <p:spPr>
          <a:xfrm>
            <a:off x="5575320" y="5295960"/>
            <a:ext cx="235080" cy="2570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02" descr="firewall"/>
          <p:cNvPicPr/>
          <p:nvPr/>
        </p:nvPicPr>
        <p:blipFill>
          <a:blip r:embed="rId17"/>
          <a:stretch/>
        </p:blipFill>
        <p:spPr>
          <a:xfrm>
            <a:off x="6946920" y="5295960"/>
            <a:ext cx="235080" cy="257040"/>
          </a:xfrm>
          <a:prstGeom prst="rect">
            <a:avLst/>
          </a:prstGeom>
          <a:ln w="0">
            <a:noFill/>
          </a:ln>
        </p:spPr>
      </p:pic>
      <p:cxnSp>
        <p:nvCxnSpPr>
          <p:cNvPr id="229" name="AutoShape 104"/>
          <p:cNvCxnSpPr/>
          <p:nvPr/>
        </p:nvCxnSpPr>
        <p:spPr>
          <a:xfrm flipH="1" rot="16200000">
            <a:off x="4083840" y="4158000"/>
            <a:ext cx="222840" cy="697680"/>
          </a:xfrm>
          <a:prstGeom prst="bentConnector3">
            <a:avLst>
              <a:gd name="adj1" fmla="val 45631"/>
            </a:avLst>
          </a:prstGeom>
          <a:ln w="12600">
            <a:solidFill>
              <a:srgbClr val="6e71f0"/>
            </a:solidFill>
            <a:miter/>
            <a:headEnd len="med" type="triangle" w="sm"/>
            <a:tailEnd len="med" type="triangle" w="sm"/>
          </a:ln>
        </p:spPr>
      </p:cxnSp>
      <p:pic>
        <p:nvPicPr>
          <p:cNvPr id="230" name="Picture 105" descr="firewall"/>
          <p:cNvPicPr/>
          <p:nvPr/>
        </p:nvPicPr>
        <p:blipFill>
          <a:blip r:embed="rId18"/>
          <a:stretch/>
        </p:blipFill>
        <p:spPr>
          <a:xfrm>
            <a:off x="3728880" y="4138560"/>
            <a:ext cx="235080" cy="2574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06" descr="firewall"/>
          <p:cNvPicPr/>
          <p:nvPr/>
        </p:nvPicPr>
        <p:blipFill>
          <a:blip r:embed="rId19"/>
          <a:stretch/>
        </p:blipFill>
        <p:spPr>
          <a:xfrm>
            <a:off x="5210280" y="4138560"/>
            <a:ext cx="234720" cy="257400"/>
          </a:xfrm>
          <a:prstGeom prst="rect">
            <a:avLst/>
          </a:prstGeom>
          <a:ln w="0">
            <a:noFill/>
          </a:ln>
        </p:spPr>
      </p:pic>
      <p:cxnSp>
        <p:nvCxnSpPr>
          <p:cNvPr id="232" name="AutoShape 107"/>
          <p:cNvCxnSpPr/>
          <p:nvPr/>
        </p:nvCxnSpPr>
        <p:spPr>
          <a:xfrm flipH="1" flipV="1" rot="5400000">
            <a:off x="4824360" y="4114440"/>
            <a:ext cx="222840" cy="784800"/>
          </a:xfrm>
          <a:prstGeom prst="bentConnector3">
            <a:avLst>
              <a:gd name="adj1" fmla="val 53559"/>
            </a:avLst>
          </a:prstGeom>
          <a:ln w="12600">
            <a:solidFill>
              <a:srgbClr val="6e71f0"/>
            </a:solidFill>
            <a:miter/>
            <a:headEnd len="med" type="triangle" w="sm"/>
            <a:tailEnd len="med" type="triangle" w="sm"/>
          </a:ln>
        </p:spPr>
      </p:cxnSp>
      <p:cxnSp>
        <p:nvCxnSpPr>
          <p:cNvPr id="233" name="AutoShape 108"/>
          <p:cNvCxnSpPr/>
          <p:nvPr/>
        </p:nvCxnSpPr>
        <p:spPr>
          <a:xfrm flipH="1" flipV="1" rot="5400000">
            <a:off x="3563640" y="4316040"/>
            <a:ext cx="210240" cy="1750320"/>
          </a:xfrm>
          <a:prstGeom prst="bentConnector3">
            <a:avLst>
              <a:gd name="adj1" fmla="val 52144"/>
            </a:avLst>
          </a:prstGeom>
          <a:ln w="12600">
            <a:solidFill>
              <a:srgbClr val="6e71f0"/>
            </a:solidFill>
            <a:miter/>
            <a:headEnd len="med" type="triangle" w="sm"/>
            <a:tailEnd len="med" type="triangle" w="sm"/>
          </a:ln>
        </p:spPr>
      </p:cxnSp>
      <p:cxnSp>
        <p:nvCxnSpPr>
          <p:cNvPr id="234" name="AutoShape 109"/>
          <p:cNvCxnSpPr/>
          <p:nvPr/>
        </p:nvCxnSpPr>
        <p:spPr>
          <a:xfrm flipH="1" rot="16200000">
            <a:off x="5699160" y="3930480"/>
            <a:ext cx="210240" cy="2521440"/>
          </a:xfrm>
          <a:prstGeom prst="bentConnector3">
            <a:avLst>
              <a:gd name="adj1" fmla="val 47684"/>
            </a:avLst>
          </a:prstGeom>
          <a:ln w="12600">
            <a:solidFill>
              <a:srgbClr val="6e71f0"/>
            </a:solidFill>
            <a:miter/>
            <a:headEnd len="med" type="triangle" w="sm"/>
            <a:tailEnd len="med" type="triangle" w="sm"/>
          </a:ln>
        </p:spPr>
      </p:cxnSp>
      <p:cxnSp>
        <p:nvCxnSpPr>
          <p:cNvPr id="235" name="AutoShape 110"/>
          <p:cNvCxnSpPr/>
          <p:nvPr/>
        </p:nvCxnSpPr>
        <p:spPr>
          <a:xfrm flipH="1" rot="16200000">
            <a:off x="5013360" y="4616280"/>
            <a:ext cx="210240" cy="1149840"/>
          </a:xfrm>
          <a:prstGeom prst="bentConnector3">
            <a:avLst>
              <a:gd name="adj1" fmla="val 47684"/>
            </a:avLst>
          </a:prstGeom>
          <a:ln w="12600">
            <a:solidFill>
              <a:srgbClr val="6e71f0"/>
            </a:solidFill>
            <a:miter/>
            <a:headEnd len="med" type="triangle" w="sm"/>
            <a:tailEnd len="med" type="triangle" w="sm"/>
          </a:ln>
        </p:spPr>
      </p:cxnSp>
      <p:cxnSp>
        <p:nvCxnSpPr>
          <p:cNvPr id="236" name="AutoShape 111"/>
          <p:cNvCxnSpPr/>
          <p:nvPr/>
        </p:nvCxnSpPr>
        <p:spPr>
          <a:xfrm rot="5400000">
            <a:off x="4257360" y="5010120"/>
            <a:ext cx="210240" cy="362520"/>
          </a:xfrm>
          <a:prstGeom prst="bentConnector3">
            <a:avLst>
              <a:gd name="adj1" fmla="val 47684"/>
            </a:avLst>
          </a:prstGeom>
          <a:ln w="12600">
            <a:solidFill>
              <a:srgbClr val="6e71f0"/>
            </a:solidFill>
            <a:miter/>
            <a:headEnd len="med" type="triangle" w="sm"/>
            <a:tailEnd len="med" type="triangle" w="sm"/>
          </a:ln>
        </p:spPr>
      </p:cxnSp>
      <p:grpSp>
        <p:nvGrpSpPr>
          <p:cNvPr id="237" name="Group 117"/>
          <p:cNvGrpSpPr/>
          <p:nvPr/>
        </p:nvGrpSpPr>
        <p:grpSpPr>
          <a:xfrm>
            <a:off x="3632040" y="1811160"/>
            <a:ext cx="1981080" cy="857160"/>
            <a:chOff x="3632040" y="1811160"/>
            <a:chExt cx="1981080" cy="857160"/>
          </a:xfrm>
        </p:grpSpPr>
        <p:sp>
          <p:nvSpPr>
            <p:cNvPr id="238" name="AutoShape 5"/>
            <p:cNvSpPr/>
            <p:nvPr/>
          </p:nvSpPr>
          <p:spPr>
            <a:xfrm>
              <a:off x="3632040" y="1811160"/>
              <a:ext cx="1981080" cy="776160"/>
            </a:xfrm>
            <a:prstGeom prst="roundRect">
              <a:avLst>
                <a:gd name="adj" fmla="val 6310"/>
              </a:avLst>
            </a:prstGeom>
            <a:gradFill rotWithShape="0">
              <a:gsLst>
                <a:gs pos="0">
                  <a:srgbClr val="eff1f7"/>
                </a:gs>
                <a:gs pos="100000">
                  <a:srgbClr val="e0e4f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6e71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9" name="Rectangle 6"/>
            <p:cNvSpPr/>
            <p:nvPr/>
          </p:nvSpPr>
          <p:spPr>
            <a:xfrm>
              <a:off x="3692160" y="1908000"/>
              <a:ext cx="11192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Федеральный центр обработки и анализа данных (ФЦОД)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240" name="Picture 10" descr="databases"/>
            <p:cNvPicPr/>
            <p:nvPr/>
          </p:nvPicPr>
          <p:blipFill>
            <a:blip r:embed="rId20"/>
            <a:stretch/>
          </p:blipFill>
          <p:spPr>
            <a:xfrm>
              <a:off x="4902120" y="1987200"/>
              <a:ext cx="674640" cy="5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91" descr="firewall"/>
            <p:cNvPicPr/>
            <p:nvPr/>
          </p:nvPicPr>
          <p:blipFill>
            <a:blip r:embed="rId21"/>
            <a:stretch/>
          </p:blipFill>
          <p:spPr>
            <a:xfrm>
              <a:off x="4425840" y="2411280"/>
              <a:ext cx="234720" cy="25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Rectangle 113"/>
            <p:cNvSpPr/>
            <p:nvPr/>
          </p:nvSpPr>
          <p:spPr>
            <a:xfrm>
              <a:off x="5038560" y="1839600"/>
              <a:ext cx="541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i="1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сновной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pic>
        <p:nvPicPr>
          <p:cNvPr id="243" name="Picture 118" descr="firewall"/>
          <p:cNvPicPr/>
          <p:nvPr/>
        </p:nvPicPr>
        <p:blipFill>
          <a:blip r:embed="rId22"/>
          <a:stretch/>
        </p:blipFill>
        <p:spPr>
          <a:xfrm>
            <a:off x="7550280" y="1884240"/>
            <a:ext cx="209520" cy="22860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35"/>
          <p:cNvSpPr/>
          <p:nvPr/>
        </p:nvSpPr>
        <p:spPr>
          <a:xfrm>
            <a:off x="324000" y="1454040"/>
            <a:ext cx="1150920" cy="1697040"/>
          </a:xfrm>
          <a:prstGeom prst="rect">
            <a:avLst/>
          </a:prstGeom>
          <a:gradFill rotWithShape="0">
            <a:gsLst>
              <a:gs pos="0">
                <a:srgbClr val="25b1b1"/>
              </a:gs>
              <a:gs pos="100000">
                <a:srgbClr val="ecf5f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6e71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5" name="Rectangle 33"/>
          <p:cNvSpPr/>
          <p:nvPr/>
        </p:nvSpPr>
        <p:spPr>
          <a:xfrm>
            <a:off x="372960" y="1495440"/>
            <a:ext cx="104292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Единая интегрирован-ная система персонифици-рованного учета оказанной застрахован-ным гражданам медицинской помощи </a:t>
            </a:r>
            <a:br>
              <a:rPr sz="800"/>
            </a:br>
            <a:r>
              <a:rPr b="1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ФОМС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6" name="Rectangle 123"/>
          <p:cNvSpPr/>
          <p:nvPr/>
        </p:nvSpPr>
        <p:spPr>
          <a:xfrm>
            <a:off x="324000" y="5149800"/>
            <a:ext cx="1150920" cy="1244520"/>
          </a:xfrm>
          <a:prstGeom prst="rect">
            <a:avLst/>
          </a:prstGeom>
          <a:gradFill rotWithShape="0">
            <a:gsLst>
              <a:gs pos="0">
                <a:srgbClr val="25b1b1"/>
              </a:gs>
              <a:gs pos="100000">
                <a:srgbClr val="ecf5f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6e71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7" name="Rectangle 120"/>
          <p:cNvSpPr/>
          <p:nvPr/>
        </p:nvSpPr>
        <p:spPr>
          <a:xfrm>
            <a:off x="380880" y="5483160"/>
            <a:ext cx="103500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Единая информацион-ная система пенсионного фонда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8" name="Rectangle 122"/>
          <p:cNvSpPr/>
          <p:nvPr/>
        </p:nvSpPr>
        <p:spPr>
          <a:xfrm>
            <a:off x="324000" y="3449520"/>
            <a:ext cx="1150920" cy="1435320"/>
          </a:xfrm>
          <a:prstGeom prst="rect">
            <a:avLst/>
          </a:prstGeom>
          <a:gradFill rotWithShape="0">
            <a:gsLst>
              <a:gs pos="0">
                <a:srgbClr val="25b1b1"/>
              </a:gs>
              <a:gs pos="100000">
                <a:srgbClr val="ecf5f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6e71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9" name="Rectangle 121"/>
          <p:cNvSpPr/>
          <p:nvPr/>
        </p:nvSpPr>
        <p:spPr>
          <a:xfrm>
            <a:off x="415800" y="3805200"/>
            <a:ext cx="96516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Единая инте-грированная информацион-ная система ФСС России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0" name="AutoShape 127"/>
          <p:cNvSpPr/>
          <p:nvPr/>
        </p:nvSpPr>
        <p:spPr>
          <a:xfrm rot="5400000">
            <a:off x="1412280" y="2706480"/>
            <a:ext cx="177840" cy="507960"/>
          </a:xfrm>
          <a:prstGeom prst="upDownArrow">
            <a:avLst>
              <a:gd name="adj1" fmla="val 58935"/>
              <a:gd name="adj2" fmla="val 50487"/>
            </a:avLst>
          </a:prstGeom>
          <a:blipFill rotWithShape="0">
            <a:blip r:embed="rId23"/>
            <a:srcRect/>
            <a:stretch/>
          </a:blip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1" name="AutoShape 128"/>
          <p:cNvSpPr/>
          <p:nvPr/>
        </p:nvSpPr>
        <p:spPr>
          <a:xfrm rot="5400000">
            <a:off x="1412280" y="4324320"/>
            <a:ext cx="177840" cy="507960"/>
          </a:xfrm>
          <a:prstGeom prst="upDownArrow">
            <a:avLst>
              <a:gd name="adj1" fmla="val 58935"/>
              <a:gd name="adj2" fmla="val 50487"/>
            </a:avLst>
          </a:prstGeom>
          <a:blipFill rotWithShape="0">
            <a:blip r:embed="rId24"/>
            <a:srcRect/>
            <a:stretch/>
          </a:blip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2" name="AutoShape 129"/>
          <p:cNvSpPr/>
          <p:nvPr/>
        </p:nvSpPr>
        <p:spPr>
          <a:xfrm rot="5400000">
            <a:off x="1412640" y="5873760"/>
            <a:ext cx="177480" cy="507960"/>
          </a:xfrm>
          <a:prstGeom prst="upDownArrow">
            <a:avLst>
              <a:gd name="adj1" fmla="val 58935"/>
              <a:gd name="adj2" fmla="val 50590"/>
            </a:avLst>
          </a:prstGeom>
          <a:blipFill rotWithShape="0">
            <a:blip r:embed="rId25"/>
            <a:srcRect/>
            <a:stretch/>
          </a:blip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3" name="Rectangle 131"/>
          <p:cNvSpPr/>
          <p:nvPr/>
        </p:nvSpPr>
        <p:spPr>
          <a:xfrm>
            <a:off x="4475160" y="3798720"/>
            <a:ext cx="309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…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4" name="Rectangle 132"/>
          <p:cNvSpPr/>
          <p:nvPr/>
        </p:nvSpPr>
        <p:spPr>
          <a:xfrm>
            <a:off x="4356000" y="5724360"/>
            <a:ext cx="309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…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5" name="AutoShape 133"/>
          <p:cNvSpPr/>
          <p:nvPr/>
        </p:nvSpPr>
        <p:spPr>
          <a:xfrm>
            <a:off x="7383600" y="3727440"/>
            <a:ext cx="1133280" cy="512640"/>
          </a:xfrm>
          <a:prstGeom prst="roundRect">
            <a:avLst>
              <a:gd name="adj" fmla="val 16667"/>
            </a:avLst>
          </a:prstGeom>
          <a:solidFill>
            <a:srgbClr val="fff8f3"/>
          </a:solidFill>
          <a:ln w="9360">
            <a:solidFill>
              <a:srgbClr val="5bac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Всего 86 РЦОДов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6" name="AutoShape 138"/>
          <p:cNvSpPr/>
          <p:nvPr/>
        </p:nvSpPr>
        <p:spPr>
          <a:xfrm>
            <a:off x="7575480" y="5759280"/>
            <a:ext cx="1133640" cy="513000"/>
          </a:xfrm>
          <a:prstGeom prst="roundRect">
            <a:avLst>
              <a:gd name="adj" fmla="val 16667"/>
            </a:avLst>
          </a:prstGeom>
          <a:solidFill>
            <a:srgbClr val="fff8f3"/>
          </a:solidFill>
          <a:ln w="9360">
            <a:solidFill>
              <a:srgbClr val="5bac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Всего </a:t>
            </a:r>
            <a:r>
              <a:rPr b="1" lang="en-US" sz="800" spc="-1" strike="noStrike">
                <a:solidFill>
                  <a:srgbClr val="1d528d"/>
                </a:solidFill>
                <a:latin typeface="Arial"/>
                <a:ea typeface="Arial"/>
              </a:rPr>
              <a:t>≈ 1</a:t>
            </a:r>
            <a:r>
              <a:rPr b="1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3,</a:t>
            </a:r>
            <a:r>
              <a:rPr b="1" lang="en-US" sz="800" spc="-1" strike="noStrike">
                <a:solidFill>
                  <a:srgbClr val="1d528d"/>
                </a:solidFill>
                <a:latin typeface="Arial"/>
                <a:ea typeface="Arial"/>
              </a:rPr>
              <a:t>2 </a:t>
            </a:r>
            <a:r>
              <a:rPr b="1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тысяч ЛПУ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7" name="Rectangle 139"/>
          <p:cNvSpPr/>
          <p:nvPr/>
        </p:nvSpPr>
        <p:spPr>
          <a:xfrm>
            <a:off x="7472520" y="4302000"/>
            <a:ext cx="128556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83 субъекта РФ + Байконур + по 1 дополнительному в Москве и Московской области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8" name="Rectangle 143"/>
          <p:cNvSpPr/>
          <p:nvPr/>
        </p:nvSpPr>
        <p:spPr>
          <a:xfrm>
            <a:off x="7554960" y="2219400"/>
            <a:ext cx="199800" cy="168120"/>
          </a:xfrm>
          <a:prstGeom prst="rect">
            <a:avLst/>
          </a:prstGeom>
          <a:gradFill rotWithShape="0">
            <a:gsLst>
              <a:gs pos="0">
                <a:srgbClr val="feefe2"/>
              </a:gs>
              <a:gs pos="50000">
                <a:srgbClr val="5bace9"/>
              </a:gs>
              <a:gs pos="100000">
                <a:srgbClr val="feefe2"/>
              </a:gs>
            </a:gsLst>
            <a:lin ang="5400000"/>
          </a:gradFill>
          <a:ln w="9360">
            <a:solidFill>
              <a:srgbClr val="5bac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9" name="AutoShape 2"/>
          <p:cNvSpPr/>
          <p:nvPr/>
        </p:nvSpPr>
        <p:spPr>
          <a:xfrm rot="5400000">
            <a:off x="7572960" y="2450160"/>
            <a:ext cx="161640" cy="319320"/>
          </a:xfrm>
          <a:prstGeom prst="upDownArrow">
            <a:avLst>
              <a:gd name="adj1" fmla="val 58824"/>
              <a:gd name="adj2" fmla="val 49141"/>
            </a:avLst>
          </a:prstGeom>
          <a:blipFill rotWithShape="0">
            <a:blip r:embed="rId26"/>
            <a:srcRect/>
            <a:stretch/>
          </a:blip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7873920" y="2540160"/>
            <a:ext cx="9604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ru-RU" sz="800" spc="-1" strike="noStrike">
                <a:solidFill>
                  <a:srgbClr val="1d528d"/>
                </a:solidFill>
                <a:latin typeface="Arial"/>
                <a:ea typeface="Arial"/>
              </a:rPr>
              <a:t>Интеграция с действующими (разрабатывае-мыми) системами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61" name="Picture 13" descr="C:\DATA\Мои документы\Мои рисунки\293551133787556.jpg"/>
          <p:cNvPicPr/>
          <p:nvPr/>
        </p:nvPicPr>
        <p:blipFill>
          <a:blip r:embed="rId27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262" name="Footer Placeholder 3"/>
          <p:cNvSpPr/>
          <p:nvPr/>
        </p:nvSpPr>
        <p:spPr>
          <a:xfrm>
            <a:off x="5791320" y="6537240"/>
            <a:ext cx="3352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3" name="Rectangle 94"/>
          <p:cNvSpPr/>
          <p:nvPr/>
        </p:nvSpPr>
        <p:spPr>
          <a:xfrm>
            <a:off x="285840" y="653400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d528d"/>
                </a:solidFill>
                <a:latin typeface="Arial"/>
              </a:rPr>
              <a:t>МЗСР </a:t>
            </a:r>
            <a:r>
              <a:rPr b="0" lang="en-US" sz="1000" spc="-1" strike="noStrike">
                <a:solidFill>
                  <a:srgbClr val="1d528d"/>
                </a:solidFill>
                <a:latin typeface="Arial"/>
              </a:rPr>
              <a:t>©</a:t>
            </a:r>
            <a:r>
              <a:rPr b="0" lang="ru-RU" sz="1000" spc="-1" strike="noStrike">
                <a:solidFill>
                  <a:srgbClr val="1d528d"/>
                </a:solidFill>
                <a:latin typeface="Arial"/>
              </a:rPr>
              <a:t>, О.В.Симаков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indefinite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Нижний колонтитул 3"/>
          <p:cNvSpPr/>
          <p:nvPr/>
        </p:nvSpPr>
        <p:spPr>
          <a:xfrm>
            <a:off x="579132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65" name="Picture 13" descr="C:\DATA\Мои документы\Мои рисунки\293551133787556.jpg"/>
          <p:cNvPicPr/>
          <p:nvPr/>
        </p:nvPicPr>
        <p:blipFill>
          <a:blip r:embed="rId1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14240" y="579240"/>
            <a:ext cx="842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роблемы информатизации здравоохране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7" name="Picture 2" descr="C:\Documents and Settings\Papa\Рабочий стол\3D_Business_Graphics_rep\stockxpertcom_id833299_size4.jpg"/>
          <p:cNvPicPr/>
          <p:nvPr/>
        </p:nvPicPr>
        <p:blipFill>
          <a:blip r:embed="rId2"/>
          <a:stretch/>
        </p:blipFill>
        <p:spPr>
          <a:xfrm>
            <a:off x="928800" y="1214280"/>
            <a:ext cx="7524720" cy="5643720"/>
          </a:xfrm>
          <a:prstGeom prst="rect">
            <a:avLst/>
          </a:prstGeom>
          <a:ln w="0">
            <a:noFill/>
          </a:ln>
        </p:spPr>
      </p:pic>
      <p:sp>
        <p:nvSpPr>
          <p:cNvPr id="268" name="Прямоугольник 7"/>
          <p:cNvSpPr/>
          <p:nvPr/>
        </p:nvSpPr>
        <p:spPr>
          <a:xfrm>
            <a:off x="285840" y="1285920"/>
            <a:ext cx="85010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27612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тсутствие</a:t>
            </a: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 национальной концепции построения информационных медицинских систем на основе персоно-центрированного подхода (с использованием общепринятых стандартов)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тсутствие</a:t>
            </a: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 единой системы идентификации пациентов  с рождения на протяжении всей жизни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ложности</a:t>
            </a: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 согласования принципов информационного обмена в интегрируемых системах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изние темпы </a:t>
            </a: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развития телекоммуникационной инфраструктуры  системы учреждений здравоохранения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61800" indent="-27612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ехватка</a:t>
            </a: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 правового и программно-технического обеспечения конфиденциальности персональных медицинских данных 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9" name="Номер слайда 4"/>
          <p:cNvSpPr/>
          <p:nvPr/>
        </p:nvSpPr>
        <p:spPr>
          <a:xfrm>
            <a:off x="3824280" y="668988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56363-9DB5-4964-907A-2A072BC80296}" type="slidenum">
              <a:rPr b="1" lang="en-US" sz="1000" spc="-1" strike="noStrike">
                <a:solidFill>
                  <a:srgbClr val="1d528d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0" name="Footer Placeholder 3"/>
          <p:cNvSpPr/>
          <p:nvPr/>
        </p:nvSpPr>
        <p:spPr>
          <a:xfrm>
            <a:off x="5791320" y="6537240"/>
            <a:ext cx="3352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Sokos «Olimpic Garden», 26 </a:t>
            </a:r>
            <a:r>
              <a:rPr b="0" lang="ru-RU" sz="1000" spc="-1" strike="noStrike">
                <a:solidFill>
                  <a:srgbClr val="1d528d"/>
                </a:solidFill>
                <a:latin typeface="Verdana"/>
              </a:rPr>
              <a:t>марта 2009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indefinite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Нижний колонтитул 3"/>
          <p:cNvSpPr/>
          <p:nvPr/>
        </p:nvSpPr>
        <p:spPr>
          <a:xfrm>
            <a:off x="579132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1d528d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2" name="Picture 2" descr="C:\Documents and Settings\Papa\Рабочий стол\3D_Business_Graphics_rep\stockxpertcom_id1995431_size4.jpg"/>
          <p:cNvPicPr/>
          <p:nvPr/>
        </p:nvPicPr>
        <p:blipFill>
          <a:blip r:embed="rId1"/>
          <a:stretch/>
        </p:blipFill>
        <p:spPr>
          <a:xfrm>
            <a:off x="0" y="1643040"/>
            <a:ext cx="9144000" cy="45720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3" descr="C:\DATA\Мои документы\Мои рисунки\293551133787556.jpg"/>
          <p:cNvPicPr/>
          <p:nvPr/>
        </p:nvPicPr>
        <p:blipFill>
          <a:blip r:embed="rId2"/>
          <a:stretch/>
        </p:blipFill>
        <p:spPr>
          <a:xfrm>
            <a:off x="0" y="0"/>
            <a:ext cx="785880" cy="80820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14240" y="579240"/>
            <a:ext cx="8429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рганизация  автоматизированной обработки  персональных  данных  в  медицинских учреждениях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Прямоугольник 9"/>
          <p:cNvSpPr/>
          <p:nvPr/>
        </p:nvSpPr>
        <p:spPr>
          <a:xfrm>
            <a:off x="428760" y="1357200"/>
            <a:ext cx="8429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Персоно-центрированная парадигма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– ведение БД МИС с общероссийским идентификаторами гражданина</a:t>
            </a: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–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основа для интеграции медицинских сведений в рамках единого информационного медицинского пространства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6" name="Footer Placeholder 3"/>
          <p:cNvSpPr/>
          <p:nvPr/>
        </p:nvSpPr>
        <p:spPr>
          <a:xfrm>
            <a:off x="5791320" y="6537240"/>
            <a:ext cx="3352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d528d"/>
                </a:solidFill>
                <a:latin typeface="Verdana"/>
              </a:rPr>
              <a:t>Sokos «Olimpic Garden», 26 </a:t>
            </a:r>
            <a:r>
              <a:rPr b="0" lang="ru-RU" sz="1000" spc="-1" strike="noStrike">
                <a:solidFill>
                  <a:srgbClr val="1d528d"/>
                </a:solidFill>
                <a:latin typeface="Verdana"/>
              </a:rPr>
              <a:t>марта 2009 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6T11:43:54Z</dcterms:created>
  <dc:creator>ADexter</dc:creator>
  <dc:description/>
  <dc:language>en-US</dc:language>
  <cp:lastModifiedBy>LEGION</cp:lastModifiedBy>
  <dcterms:modified xsi:type="dcterms:W3CDTF">2015-11-27T12:49:21Z</dcterms:modified>
  <cp:revision>168</cp:revision>
  <dc:subject/>
  <dc:title>СПб МИАЦ,26.03.09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24b000000000001023600</vt:lpwstr>
  </property>
</Properties>
</file>